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4.wmf" ContentType="image/x-wmf"/>
  <Override PartName="/ppt/media/image3.wmf" ContentType="image/x-wmf"/>
  <Override PartName="/ppt/media/image10.jpeg" ContentType="image/jpeg"/>
  <Override PartName="/ppt/media/image9.jpeg" ContentType="image/jpeg"/>
  <Override PartName="/ppt/media/image1.png" ContentType="image/png"/>
  <Override PartName="/ppt/media/gunshot.wav" ContentType="audio/x-wav"/>
  <Override PartName="/ppt/media/chimes.wav" ContentType="audio/x-wav"/>
  <Override PartName="/ppt/media/image7.wmf" ContentType="image/x-wmf"/>
  <Override PartName="/ppt/media/camera.wav" ContentType="audio/x-wav"/>
  <Override PartName="/ppt/media/image5.wmf" ContentType="image/x-wmf"/>
  <Override PartName="/ppt/media/DRUMROLL.WAV" ContentType="audio/x-wav"/>
  <Override PartName="/ppt/media/image11.png" ContentType="image/png"/>
  <Override PartName="/ppt/media/image6.wmf" ContentType="image/x-wmf"/>
  <Override PartName="/ppt/media/type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3613-7D63-47DE-B126-E6F3DC8A88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D6C7-98EC-47DB-AF00-265DA65390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4D5-48EF-4E68-8F75-5CD43DC63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13FF-6E67-42C2-A1E3-56E558A4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227F-A091-4567-BD77-0092FC0E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4A9-26FC-45C9-8CF4-A141C8450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A070-D10D-4B23-9003-2ECB6DBDF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4841-9310-430D-91AA-0ADDA64E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F694-A2FD-4505-9D72-7E9DF000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1A79-13F9-4A19-B498-1EC1F4C2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D686-9785-47CA-BE1C-E47303B2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4E41-7FC2-495C-9225-F05E87450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F9D15-8924-4C25-AC57-D2E86135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A827-E7C4-42C5-B77A-A138B174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7A85-6A51-4CF8-8854-F6DA8933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B5D72-4B39-420A-BFC3-3E69ED6C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6E879-673A-4854-B329-544A5321A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1FB5-7F16-4BB2-B219-3A2C5F20C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3FEE6-8449-4AC3-9271-CD9B69049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A721-0F9A-4404-9689-39786A92D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22C0-77EC-4056-A7D0-F96C3F02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710-8F5D-4478-A28A-ED746D2A4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853C-78BF-4212-8572-781CFCD1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7C3-2659-41D3-B2C3-2E4FB88F0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A23B-6357-414F-A4B6-CDF7A0F9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AC86-C079-44D7-B085-0693FDB6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5A3C-19EA-40F8-A93D-E3C2D2298A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D01E-2293-4396-A25A-E93907BED7A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Mens sana in corpore sano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Une</a:t>
            </a:r>
            <a:r>
              <a:rPr b="1" i="1" lang="be-BY" sz="4400" spc="-1" strike="noStrike">
                <a:solidFill>
                  <a:srgbClr val="ffffff"/>
                </a:solidFill>
                <a:latin typeface="Times New Roman"/>
              </a:rPr>
              <a:t> â</a:t>
            </a: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me saine dans un corps sai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39640" y="4450680"/>
            <a:ext cx="810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ff"/>
                </a:solidFill>
                <a:latin typeface="Times New Roman"/>
              </a:rPr>
              <a:t>Здаровы дух у здаровым цел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 u="sng">
                <a:solidFill>
                  <a:srgbClr val="ffff66"/>
                </a:solidFill>
                <a:uFillTx/>
                <a:latin typeface="Arial"/>
              </a:rPr>
              <a:t>Тытунь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– аднагадовая расліна, высушаныя лісты якой пасля спецыяльнай апрацоўкі драбняць і выкарыстоўваюць для курэ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3214800" y="3786120"/>
            <a:ext cx="2895480" cy="278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 u="sng">
                <a:solidFill>
                  <a:srgbClr val="ffff66"/>
                </a:solidFill>
                <a:uFillTx/>
                <a:latin typeface="Arial"/>
              </a:rPr>
              <a:t>Нікац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ктыўнае рэчыва, ужыванне якога хутка прыводзіць да залежнасц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66"/>
                </a:solidFill>
                <a:latin typeface="Arial"/>
              </a:rPr>
              <a:t>Арфаграфічная хвілінка</a:t>
            </a:r>
            <a:r>
              <a:rPr b="0" lang="be-BY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Times New Roman"/>
              </a:rPr>
              <a:t>Ніколі, штодзённа, па-мойму, спачатку, насцеж, назаўсёды, перш-наперш, больш, менш, абы-як, з ранку да вечара, час ад часу, старанна, сумленна, нягледзячы 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Каб быць здаровым, шчаслівым і радавацца жыццю,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эб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ль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Правільныя адказ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42600" y="2642760"/>
            <a:ext cx="7929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ffffff"/>
                </a:solidFill>
                <a:latin typeface="Arial"/>
              </a:rPr>
              <a:t>1-5, 2-7, 3-4, 4-1, 5-6, 6-2, 7-8, 8-3, 9 а)ад холаду, б)тройчы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Не ўсё ж напышліва разважаць, якім павінен быць Чалавек, пара станавіцца ім”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r>
              <a:rPr b="0" i="1" lang="be-BY" sz="54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i="1" lang="be-BY" sz="4400" spc="-1" strike="noStrike">
                <a:solidFill>
                  <a:srgbClr val="ccecff"/>
                </a:solidFill>
                <a:latin typeface="Arial"/>
              </a:rPr>
              <a:t>арк Аўрэлій</a:t>
            </a:r>
            <a:br>
              <a:rPr sz="5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3" descr=""/>
          <p:cNvPicPr/>
          <p:nvPr/>
        </p:nvPicPr>
        <p:blipFill>
          <a:blip r:embed="rId1"/>
          <a:stretch/>
        </p:blipFill>
        <p:spPr>
          <a:xfrm>
            <a:off x="2000160" y="428760"/>
            <a:ext cx="5168880" cy="4135320"/>
          </a:xfrm>
          <a:prstGeom prst="rect">
            <a:avLst/>
          </a:prstGeom>
          <a:ln w="0">
            <a:noFill/>
          </a:ln>
        </p:spPr>
      </p:pic>
      <p:pic>
        <p:nvPicPr>
          <p:cNvPr id="286" name="Заголовок 1" descr=""/>
          <p:cNvPicPr/>
          <p:nvPr/>
        </p:nvPicPr>
        <p:blipFill>
          <a:blip r:embed="rId2"/>
          <a:stretch/>
        </p:blipFill>
        <p:spPr>
          <a:xfrm>
            <a:off x="1206360" y="4853160"/>
            <a:ext cx="652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27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Дадзеныя навукі сведчаць, што на наша здароўе ўплываюць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лад жыцця (5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тан навакольнага асяроддзя (20 – 2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падчыннасць (20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істэма аховы здароўя ў краіне (10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300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000" spc="-1" strike="noStrike">
                <a:solidFill>
                  <a:srgbClr val="ccecff"/>
                </a:solidFill>
                <a:latin typeface="Arial"/>
              </a:rPr>
              <a:t>Тэма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8600" y="2000160"/>
            <a:ext cx="86104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7200" spc="-1" strike="noStrike">
                <a:solidFill>
                  <a:srgbClr val="ffffff"/>
                </a:solidFill>
                <a:latin typeface="Arial"/>
              </a:rPr>
              <a:t>Акалічнасць, яе роля ў сказе, граматычнае значэнн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00"/>
                </a:solidFill>
                <a:latin typeface="Arial"/>
              </a:rPr>
              <a:t>Мэты ўрок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8400" y="1571400"/>
            <a:ext cx="83581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пашыраць веды пра акалічнасць, выпрацоўваць уменні вызначаць у сказе акалічнасці і іх від, ставіць сінтаксічнае (лагічнае) пытан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спрыяць развіццю культуры маўлення, пашырэнню слоўнікавага запасу вучняў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фарміраваць навыкі ЗЛЖ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8000" spc="-1" strike="noStrike">
                <a:solidFill>
                  <a:srgbClr val="ccecff"/>
                </a:solidFill>
                <a:latin typeface="Arial Black"/>
              </a:rPr>
              <a:t>Акалічнасць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304920" y="1905120"/>
            <a:ext cx="4495680" cy="3476520"/>
            <a:chOff x="304920" y="1905120"/>
            <a:chExt cx="4495680" cy="3476520"/>
          </a:xfrm>
        </p:grpSpPr>
        <p:sp>
          <p:nvSpPr>
            <p:cNvPr id="229" name="Text Box 3"/>
            <p:cNvSpPr/>
            <p:nvPr/>
          </p:nvSpPr>
          <p:spPr>
            <a:xfrm>
              <a:off x="3049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Галоў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 flipH="1">
              <a:off x="3200040" y="1905120"/>
              <a:ext cx="60948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4648320" y="1905120"/>
            <a:ext cx="4495680" cy="3476520"/>
            <a:chOff x="4648320" y="1905120"/>
            <a:chExt cx="4495680" cy="3476520"/>
          </a:xfrm>
        </p:grpSpPr>
        <p:sp>
          <p:nvSpPr>
            <p:cNvPr id="232" name="Line 5"/>
            <p:cNvSpPr/>
            <p:nvPr/>
          </p:nvSpPr>
          <p:spPr>
            <a:xfrm>
              <a:off x="5180760" y="1905120"/>
              <a:ext cx="68580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46483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Дада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be-BY" sz="4800" spc="-1" strike="noStrike">
                <a:solidFill>
                  <a:srgbClr val="ffff00"/>
                </a:solidFill>
                <a:latin typeface="Arial"/>
              </a:rPr>
              <a:t>Акалічнасць-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705816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даданы член сказа,</a:t>
            </a:r>
            <a:br>
              <a:rPr sz="4000"/>
            </a:b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базначае характар дзеяння ці абставіны, адказвае на пытанні: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дзе? куды? адкуль? чаму? як? колькі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дносіцца да выказні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ccecff"/>
                </a:solidFill>
                <a:latin typeface="Arial Black"/>
              </a:rPr>
              <a:t>Тыпы акалічнасці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0948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50532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40080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64832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43828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8580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36232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57200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678168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095880" y="990720"/>
            <a:ext cx="5040" cy="268128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638680" y="3657600"/>
            <a:ext cx="23623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63868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8001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971800" y="990720"/>
            <a:ext cx="0" cy="2666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H="1">
            <a:off x="1371240" y="3657600"/>
            <a:ext cx="20574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3429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3716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21" descr="c:\Program Files\Common Files\Microsoft Shared\Clipart\cagcat50\HH01669_.wmf"/>
          <p:cNvPicPr/>
          <p:nvPr/>
        </p:nvPicPr>
        <p:blipFill>
          <a:blip r:embed="rId1"/>
          <a:stretch/>
        </p:blipFill>
        <p:spPr>
          <a:xfrm>
            <a:off x="685800" y="2362320"/>
            <a:ext cx="1828800" cy="10490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2"/>
          <p:cNvSpPr/>
          <p:nvPr/>
        </p:nvSpPr>
        <p:spPr>
          <a:xfrm>
            <a:off x="1067760" y="18288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с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4115880" y="18288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Ча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4" descr="c:\Program Files\Common Files\Microsoft Shared\Clipart\cagcat50\PE01931_.wmf"/>
          <p:cNvPicPr/>
          <p:nvPr/>
        </p:nvPicPr>
        <p:blipFill>
          <a:blip r:embed="rId2"/>
          <a:stretch/>
        </p:blipFill>
        <p:spPr>
          <a:xfrm>
            <a:off x="3733920" y="2362320"/>
            <a:ext cx="1533240" cy="990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5"/>
          <p:cNvSpPr/>
          <p:nvPr/>
        </p:nvSpPr>
        <p:spPr>
          <a:xfrm>
            <a:off x="6631560" y="1828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Прычы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952880" y="4343400"/>
            <a:ext cx="142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ры  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тупен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7" descr="c:\Program Files\Common Files\Microsoft Shared\Clipart\cagcat50\BD04972_.WMF"/>
          <p:cNvPicPr/>
          <p:nvPr/>
        </p:nvPicPr>
        <p:blipFill>
          <a:blip r:embed="rId3"/>
          <a:stretch/>
        </p:blipFill>
        <p:spPr>
          <a:xfrm>
            <a:off x="47242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8"/>
          <p:cNvSpPr/>
          <p:nvPr/>
        </p:nvSpPr>
        <p:spPr>
          <a:xfrm>
            <a:off x="839880" y="44197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э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2743200" y="4343400"/>
            <a:ext cx="156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посаб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дзеян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7162920" y="4343400"/>
            <a:ext cx="140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Умовы  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ўступк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31" descr="c:\Program Files\Common Files\Microsoft Shared\Clipart\cagcat50\BD05297_.WMF"/>
          <p:cNvPicPr/>
          <p:nvPr/>
        </p:nvPicPr>
        <p:blipFill>
          <a:blip r:embed="rId4"/>
          <a:stretch/>
        </p:blipFill>
        <p:spPr>
          <a:xfrm>
            <a:off x="228600" y="50292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c:\Program Files\Common Files\Microsoft Shared\Clipart\cagcat50\BD04912_.WMF"/>
          <p:cNvPicPr/>
          <p:nvPr/>
        </p:nvPicPr>
        <p:blipFill>
          <a:blip r:embed="rId5"/>
          <a:stretch/>
        </p:blipFill>
        <p:spPr>
          <a:xfrm>
            <a:off x="2514600" y="52578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3" descr="c:\Program Files\Common Files\Microsoft Shared\Clipart\cagcat50\BD00028_.WMF"/>
          <p:cNvPicPr/>
          <p:nvPr/>
        </p:nvPicPr>
        <p:blipFill>
          <a:blip r:embed="rId6"/>
          <a:stretch/>
        </p:blipFill>
        <p:spPr>
          <a:xfrm>
            <a:off x="6705720" y="2362320"/>
            <a:ext cx="131904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c:\Program Files\Common Files\Microsoft Shared\Clipart\cagcat50\BD05584_.WMF"/>
          <p:cNvPicPr/>
          <p:nvPr/>
        </p:nvPicPr>
        <p:blipFill>
          <a:blip r:embed="rId7"/>
          <a:stretch/>
        </p:blipFill>
        <p:spPr>
          <a:xfrm>
            <a:off x="7010280" y="5334120"/>
            <a:ext cx="182736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4800" spc="-1" strike="noStrike">
                <a:solidFill>
                  <a:srgbClr val="ffff66"/>
                </a:solidFill>
                <a:latin typeface="Arial"/>
              </a:rPr>
              <a:t>Шкода спіртных напояў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5280" y="1557360"/>
          <a:ext cx="8353440" cy="477828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Хутк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Доўг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звычайна сябе паводзі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доўга губляе каардынацы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выразна размаўля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ясцерпна баліць гала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утка губляе свядомас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жа наступіць смер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ступова губляе апеты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-пораз губляе памя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астаткова вітаміна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рушэнні ў працы печані, моз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66"/>
                </a:solidFill>
                <a:latin typeface="Arial"/>
              </a:rPr>
              <a:t>Аргументы супраць курэння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энне значна зніжае ўвагу і памяц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Ад курцоў воляй-няволяй дрэнна пах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цы часцей за іншых пакутуюць ад анкалагічных і сардэчна-сасудзістых захворвання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У курцоў дачасна старэе ск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8:04:25Z</dcterms:created>
  <dc:creator>Наташа</dc:creator>
  <dc:description/>
  <dc:language>en-US</dc:language>
  <cp:lastModifiedBy>Admin</cp:lastModifiedBy>
  <dcterms:modified xsi:type="dcterms:W3CDTF">2012-11-29T08:10:44Z</dcterms:modified>
  <cp:revision>39</cp:revision>
  <dc:subject/>
  <dc:title>Акалічнасць</dc:title>
</cp:coreProperties>
</file>