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4.wmf" ContentType="image/x-wmf"/>
  <Override PartName="/ppt/media/image3.wmf" ContentType="image/x-wmf"/>
  <Override PartName="/ppt/media/image10.jpeg" ContentType="image/jpeg"/>
  <Override PartName="/ppt/media/image9.jpeg" ContentType="image/jpeg"/>
  <Override PartName="/ppt/media/image1.png" ContentType="image/png"/>
  <Override PartName="/ppt/media/gunshot.wav" ContentType="audio/x-wav"/>
  <Override PartName="/ppt/media/chimes.wav" ContentType="audio/x-wav"/>
  <Override PartName="/ppt/media/image7.wmf" ContentType="image/x-wmf"/>
  <Override PartName="/ppt/media/camera.wav" ContentType="audio/x-wav"/>
  <Override PartName="/ppt/media/image5.wmf" ContentType="image/x-wmf"/>
  <Override PartName="/ppt/media/DRUMROLL.WAV" ContentType="audio/x-wav"/>
  <Override PartName="/ppt/media/image11.png" ContentType="image/png"/>
  <Override PartName="/ppt/media/image6.wmf" ContentType="image/x-wmf"/>
  <Override PartName="/ppt/media/type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5538-8494-451B-9427-38CDC53665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C072-BF35-4D76-88B4-FF883FC592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09A-BB98-4470-9B10-D0F441BB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A03-9C4D-4675-AEE9-5D8D33EF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DA0-BEB5-4D13-9580-C28829E5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997-55C7-472B-AE94-B5F7DB1D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9B98-8C0C-46A0-9CF7-79EB2607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5E53-9E12-434B-9DBA-D7997389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ACA7-74DD-4606-B78A-76B62321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AFB2-4F7B-47B6-BDCA-29B68786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3C4E-9F6C-4885-9924-26D3EA96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DB67-8D10-493F-B4C2-241A6771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AFD9-1D75-4A8F-B2C4-911A3400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66D-6111-425C-A14A-5E1600B0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B743-63C7-4841-9E57-101584F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E71C-4545-429B-B2D4-278DEB42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6C9A-1399-48CD-89F2-95C915F5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CA81-D40E-4213-87E6-242A95DB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6004-150E-477F-8F41-C4D202BE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3AC-15BD-44D9-BE4A-0CD09F4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BBF-96FF-4C7E-9075-D61DB641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7F0-65C3-4EB7-882A-12DF717E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E8C-0C5C-4B02-AB01-0959AB30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EE7-04A1-4D9B-AFCD-6D7E2DA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045-ACBA-4663-8C0E-87114945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A38-E667-4A10-BA63-E5D254D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012A-2B30-45B8-8C06-D78454B0E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784D-C215-407F-BEF1-7A21D1B235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Mens sana in corpore sano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Une</a:t>
            </a:r>
            <a:r>
              <a:rPr b="1" i="1" lang="be-BY" sz="4400" spc="-1" strike="noStrike">
                <a:solidFill>
                  <a:srgbClr val="ffffff"/>
                </a:solidFill>
                <a:latin typeface="Times New Roman"/>
              </a:rPr>
              <a:t> â</a:t>
            </a: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me saine dans un corps sai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39640" y="4450680"/>
            <a:ext cx="810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ff"/>
                </a:solidFill>
                <a:latin typeface="Times New Roman"/>
              </a:rPr>
              <a:t>Здаровы дух у здаровым цел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 u="sng">
                <a:solidFill>
                  <a:srgbClr val="ffff66"/>
                </a:solidFill>
                <a:uFillTx/>
                <a:latin typeface="Arial"/>
              </a:rPr>
              <a:t>Тытунь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– аднагадовая расліна, высушаныя лісты якой пасля спецыяльнай апрацоўкі драбняць і выкарыстоўваюць для курэ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3214800" y="3786120"/>
            <a:ext cx="2895480" cy="278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 u="sng">
                <a:solidFill>
                  <a:srgbClr val="ffff66"/>
                </a:solidFill>
                <a:uFillTx/>
                <a:latin typeface="Arial"/>
              </a:rPr>
              <a:t>Нікац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ктыўнае рэчыва, ужыванне якога хутка прыводзіць да залежнасц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66"/>
                </a:solidFill>
                <a:latin typeface="Arial"/>
              </a:rPr>
              <a:t>Арфаграфічная хвілінка</a:t>
            </a:r>
            <a:r>
              <a:rPr b="0" lang="be-BY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Times New Roman"/>
              </a:rPr>
              <a:t>Ніколі, штодзённа, па-мойму, спачатку, насцеж, назаўсёды, перш-наперш, больш, менш, абы-як, з ранку да вечара, час ад часу, старанна, сумленна, нягледзячы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Каб быць здаровым, шчаслівым і радавацца жыццю,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эб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ль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Правільныя адказ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2600" y="2642760"/>
            <a:ext cx="7929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ffff"/>
                </a:solidFill>
                <a:latin typeface="Arial"/>
              </a:rPr>
              <a:t>1-5, 2-7, 3-4, 4-1, 5-6, 6-2, 7-8, 8-3, 9 а)ад холаду, б)тройчы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Не ўсё ж напышліва разважаць, якім павінен быць Чалавек, пара станавіцца ім”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i="1" lang="be-BY" sz="54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i="1" lang="be-BY" sz="4400" spc="-1" strike="noStrike">
                <a:solidFill>
                  <a:srgbClr val="ccecff"/>
                </a:solidFill>
                <a:latin typeface="Arial"/>
              </a:rPr>
              <a:t>арк Аўрэлій</a:t>
            </a:r>
            <a:br>
              <a:rPr sz="5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3" descr=""/>
          <p:cNvPicPr/>
          <p:nvPr/>
        </p:nvPicPr>
        <p:blipFill>
          <a:blip r:embed="rId1"/>
          <a:stretch/>
        </p:blipFill>
        <p:spPr>
          <a:xfrm>
            <a:off x="2000160" y="428760"/>
            <a:ext cx="5168880" cy="4135320"/>
          </a:xfrm>
          <a:prstGeom prst="rect">
            <a:avLst/>
          </a:prstGeom>
          <a:ln w="0">
            <a:noFill/>
          </a:ln>
        </p:spPr>
      </p:pic>
      <p:pic>
        <p:nvPicPr>
          <p:cNvPr id="286" name="Заголовок 1" descr=""/>
          <p:cNvPicPr/>
          <p:nvPr/>
        </p:nvPicPr>
        <p:blipFill>
          <a:blip r:embed="rId2"/>
          <a:stretch/>
        </p:blipFill>
        <p:spPr>
          <a:xfrm>
            <a:off x="1206360" y="4853160"/>
            <a:ext cx="652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27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Дадзеныя навукі сведчаць, што на наша здароўе ўплываюць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лад жыцця (5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тан навакольнага асяроддзя (20 – 2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падчыннасць (20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істэма аховы здароўя ў краіне (10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000" spc="-1" strike="noStrike">
                <a:solidFill>
                  <a:srgbClr val="ccecff"/>
                </a:solidFill>
                <a:latin typeface="Arial"/>
              </a:rPr>
              <a:t>Тэма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600" y="2000160"/>
            <a:ext cx="8610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7200" spc="-1" strike="noStrike">
                <a:solidFill>
                  <a:srgbClr val="ffffff"/>
                </a:solidFill>
                <a:latin typeface="Arial"/>
              </a:rPr>
              <a:t>Акалічнасць, яе роля ў сказе, граматычнае значэнн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00"/>
                </a:solidFill>
                <a:latin typeface="Arial"/>
              </a:rPr>
              <a:t>Мэты ў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400" y="1571400"/>
            <a:ext cx="8358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пашыраць веды пра акалічнасць, выпрацоўваць уменні вызначаць у сказе акалічнасці і іх від, ставіць сінтаксічнае (лагічнае) пытан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спрыяць развіццю культуры маўлення, пашырэнню слоўнікавага запасу вучня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фарміраваць навыкі ЗЛЖ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0" spc="-1" strike="noStrike">
                <a:solidFill>
                  <a:srgbClr val="ccecff"/>
                </a:solidFill>
                <a:latin typeface="Arial Black"/>
              </a:rPr>
              <a:t>Акалічнасц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304920" y="1905120"/>
            <a:ext cx="4495680" cy="3476520"/>
            <a:chOff x="304920" y="1905120"/>
            <a:chExt cx="4495680" cy="3476520"/>
          </a:xfrm>
        </p:grpSpPr>
        <p:sp>
          <p:nvSpPr>
            <p:cNvPr id="229" name="Text Box 3"/>
            <p:cNvSpPr/>
            <p:nvPr/>
          </p:nvSpPr>
          <p:spPr>
            <a:xfrm>
              <a:off x="3049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Галоў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 flipH="1">
              <a:off x="3200040" y="1905120"/>
              <a:ext cx="60948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4648320" y="1905120"/>
            <a:ext cx="4495680" cy="3476520"/>
            <a:chOff x="4648320" y="1905120"/>
            <a:chExt cx="4495680" cy="3476520"/>
          </a:xfrm>
        </p:grpSpPr>
        <p:sp>
          <p:nvSpPr>
            <p:cNvPr id="232" name="Line 5"/>
            <p:cNvSpPr/>
            <p:nvPr/>
          </p:nvSpPr>
          <p:spPr>
            <a:xfrm>
              <a:off x="5180760" y="1905120"/>
              <a:ext cx="68580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46483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Дада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be-BY" sz="4800" spc="-1" strike="noStrike">
                <a:solidFill>
                  <a:srgbClr val="ffff00"/>
                </a:solidFill>
                <a:latin typeface="Arial"/>
              </a:rPr>
              <a:t>Акалічнасць-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70581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даданы член сказа,</a:t>
            </a:r>
            <a:br>
              <a:rPr sz="4000"/>
            </a:b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базначае характар дзеяння ці абставіны, адказвае на пытанні: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дзе? куды? адкуль? чаму? як? колькі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дносіцца да выказні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ccecff"/>
                </a:solidFill>
                <a:latin typeface="Arial Black"/>
              </a:rPr>
              <a:t>Тыпы акалічнасці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50532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40080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64832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43828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8580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36232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57200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678168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095880" y="990720"/>
            <a:ext cx="5040" cy="268128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638680" y="3657600"/>
            <a:ext cx="23623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63868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8001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971800" y="990720"/>
            <a:ext cx="0" cy="2666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1371240" y="3657600"/>
            <a:ext cx="20574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3429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3716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21" descr="c:\Program Files\Common Files\Microsoft Shared\Clipart\cagcat50\HH01669_.wmf"/>
          <p:cNvPicPr/>
          <p:nvPr/>
        </p:nvPicPr>
        <p:blipFill>
          <a:blip r:embed="rId1"/>
          <a:stretch/>
        </p:blipFill>
        <p:spPr>
          <a:xfrm>
            <a:off x="685800" y="2362320"/>
            <a:ext cx="1828800" cy="10490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2"/>
          <p:cNvSpPr/>
          <p:nvPr/>
        </p:nvSpPr>
        <p:spPr>
          <a:xfrm>
            <a:off x="1067760" y="18288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с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4115880" y="1828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Ча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4" descr="c:\Program Files\Common Files\Microsoft Shared\Clipart\cagcat50\PE01931_.wmf"/>
          <p:cNvPicPr/>
          <p:nvPr/>
        </p:nvPicPr>
        <p:blipFill>
          <a:blip r:embed="rId2"/>
          <a:stretch/>
        </p:blipFill>
        <p:spPr>
          <a:xfrm>
            <a:off x="3733920" y="2362320"/>
            <a:ext cx="1533240" cy="99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5"/>
          <p:cNvSpPr/>
          <p:nvPr/>
        </p:nvSpPr>
        <p:spPr>
          <a:xfrm>
            <a:off x="6631560" y="1828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Прычы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952880" y="4343400"/>
            <a:ext cx="142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ры  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тупен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7" descr="c:\Program Files\Common Files\Microsoft Shared\Clipart\cagcat50\BD04972_.WMF"/>
          <p:cNvPicPr/>
          <p:nvPr/>
        </p:nvPicPr>
        <p:blipFill>
          <a:blip r:embed="rId3"/>
          <a:stretch/>
        </p:blipFill>
        <p:spPr>
          <a:xfrm>
            <a:off x="47242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8"/>
          <p:cNvSpPr/>
          <p:nvPr/>
        </p:nvSpPr>
        <p:spPr>
          <a:xfrm>
            <a:off x="839880" y="44197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э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743200" y="4343400"/>
            <a:ext cx="156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посаб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дзея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2920" y="4343400"/>
            <a:ext cx="140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Умовы  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ўступк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31" descr="c:\Program Files\Common Files\Microsoft Shared\Clipart\cagcat50\BD05297_.WMF"/>
          <p:cNvPicPr/>
          <p:nvPr/>
        </p:nvPicPr>
        <p:blipFill>
          <a:blip r:embed="rId4"/>
          <a:stretch/>
        </p:blipFill>
        <p:spPr>
          <a:xfrm>
            <a:off x="228600" y="50292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c:\Program Files\Common Files\Microsoft Shared\Clipart\cagcat50\BD04912_.WMF"/>
          <p:cNvPicPr/>
          <p:nvPr/>
        </p:nvPicPr>
        <p:blipFill>
          <a:blip r:embed="rId5"/>
          <a:stretch/>
        </p:blipFill>
        <p:spPr>
          <a:xfrm>
            <a:off x="2514600" y="52578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6705720" y="2362320"/>
            <a:ext cx="131904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c:\Program Files\Common Files\Microsoft Shared\Clipart\cagcat50\BD05584_.WMF"/>
          <p:cNvPicPr/>
          <p:nvPr/>
        </p:nvPicPr>
        <p:blipFill>
          <a:blip r:embed="rId7"/>
          <a:stretch/>
        </p:blipFill>
        <p:spPr>
          <a:xfrm>
            <a:off x="7010280" y="5334120"/>
            <a:ext cx="1827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800" spc="-1" strike="noStrike">
                <a:solidFill>
                  <a:srgbClr val="ffff66"/>
                </a:solidFill>
                <a:latin typeface="Arial"/>
              </a:rPr>
              <a:t>Шкода спіртных напояў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1557360"/>
          <a:ext cx="8353440" cy="477828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Хутк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Доўг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звычайна сябе паводзі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доўга губляе каардынацы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выразна размаўля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ясцерпна баліць гал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утка губляе свядомас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жа наступіць смер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ступова губляе апеты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-пораз губляе памя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астаткова вітаміна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рушэнні ў працы печані, моз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66"/>
                </a:solidFill>
                <a:latin typeface="Arial"/>
              </a:rPr>
              <a:t>Аргументы супраць курэнн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энне значна зніжае ўвагу і памяц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Ад курцоў воляй-няволяй дрэнна пах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цы часцей за іншых пакутуюць ад анкалагічных і сардэчна-сасудзістых захвор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У курцоў дачасна старэе ск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8:04:25Z</dcterms:created>
  <dc:creator>Наташа</dc:creator>
  <dc:description/>
  <dc:language>en-US</dc:language>
  <cp:lastModifiedBy>Admin</cp:lastModifiedBy>
  <dcterms:modified xsi:type="dcterms:W3CDTF">2012-11-29T08:10:44Z</dcterms:modified>
  <cp:revision>39</cp:revision>
  <dc:subject/>
  <dc:title>Акалічнасць</dc:title>
</cp:coreProperties>
</file>