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4.wmf" ContentType="image/x-wmf"/>
  <Override PartName="/ppt/media/image3.wmf" ContentType="image/x-wmf"/>
  <Override PartName="/ppt/media/image10.jpeg" ContentType="image/jpeg"/>
  <Override PartName="/ppt/media/image9.jpeg" ContentType="image/jpeg"/>
  <Override PartName="/ppt/media/image1.png" ContentType="image/png"/>
  <Override PartName="/ppt/media/gunshot.wav" ContentType="audio/x-wav"/>
  <Override PartName="/ppt/media/chimes.wav" ContentType="audio/x-wav"/>
  <Override PartName="/ppt/media/image7.wmf" ContentType="image/x-wmf"/>
  <Override PartName="/ppt/media/camera.wav" ContentType="audio/x-wav"/>
  <Override PartName="/ppt/media/image5.wmf" ContentType="image/x-wmf"/>
  <Override PartName="/ppt/media/DRUMROLL.WAV" ContentType="audio/x-wav"/>
  <Override PartName="/ppt/media/image11.png" ContentType="image/png"/>
  <Override PartName="/ppt/media/image6.wmf" ContentType="image/x-wmf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9DCE-9F64-4CFE-B3A1-2559A13114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5FC5-E034-404D-845F-87D694AD6FB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B18-29F6-4210-B98D-464EA4EDA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0B5F-73B8-4EED-AB41-ABE66F9A3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E75-8B7A-47DE-B28D-778DBE3B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FC8F-B906-4991-BA22-B0526529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A4BFE-4C47-4AAA-9423-3065585E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4C7A-2183-471F-8B4C-9EA0862DD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F6C0-C317-4A0E-BDB4-67C4B6AD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45DB-2BB6-4963-9EFA-166A8497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FC5C-785B-495B-A9E1-C26071E7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ED12-0A86-45CC-BA58-DD7FBCEBE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F6F9-B461-4306-B726-22A487F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30F-9541-42E9-BDDD-A88B8C90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ECEB-AE29-4F1D-8FEE-A768E359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7BC0F-439F-4F08-BD0C-B85C4B4B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88FE-DB48-49FE-8598-7A68E124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4A46-E90C-41FC-B455-A77C3F8AA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3F39-64F3-4679-BDA0-FA2E16D5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4937-548A-4050-9358-A942C4D0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0045-88CE-40B4-A8E4-971E2248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4BD-77FF-40FF-A025-65424DF9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E776-02D2-497B-80E9-C3F3FDF0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2F5-98BE-4C3A-A5DE-B30E8551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D280-E0D9-423A-85EA-88E27050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439-E9C1-4EAA-9A3D-B323D2FB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5C88-07ED-4BA1-BD3C-7F6D9B9FE8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69B3-DC62-4DC3-8710-13032DD4B25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Mens sana in corpore sano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Une</a:t>
            </a:r>
            <a:r>
              <a:rPr b="1" i="1" lang="be-BY" sz="4400" spc="-1" strike="noStrike">
                <a:solidFill>
                  <a:srgbClr val="ffffff"/>
                </a:solidFill>
                <a:latin typeface="Times New Roman"/>
              </a:rPr>
              <a:t> â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me saine dans un corps sai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9640" y="4450680"/>
            <a:ext cx="81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Times New Roman"/>
              </a:rPr>
              <a:t>Здаровы дух у здаровым це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 u="sng">
                <a:solidFill>
                  <a:srgbClr val="ffff66"/>
                </a:solidFill>
                <a:uFillTx/>
                <a:latin typeface="Arial"/>
              </a:rPr>
              <a:t>Тытунь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– аднагадовая расліна, высушаныя лісты якой пасля спецыяльнай апрацоўкі драбняць і выкарыстоўваюць для курэ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3214800" y="3786120"/>
            <a:ext cx="2895480" cy="278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 u="sng">
                <a:solidFill>
                  <a:srgbClr val="ffff66"/>
                </a:solidFill>
                <a:uFillTx/>
                <a:latin typeface="Arial"/>
              </a:rPr>
              <a:t>Нікац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ктыўнае рэчыва, ужыванне якога хутка прыводзіць да залежнасц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66"/>
                </a:solidFill>
                <a:latin typeface="Arial"/>
              </a:rPr>
              <a:t>Арфаграфічная хвілінка</a:t>
            </a:r>
            <a:r>
              <a:rPr b="0" lang="be-BY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Times New Roman"/>
              </a:rPr>
              <a:t>Ніколі, штодзённа, па-мойму, спачатку, насцеж, назаўсёды, перш-наперш, больш, менш, абы-як, з ранку да вечара, час ад часу, старанна, сумленна, нягледзячы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Каб быць здаровым, шчаслівым і радавацца жыццю,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эб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ль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Правільныя адказ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2600" y="2642760"/>
            <a:ext cx="7929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ffff"/>
                </a:solidFill>
                <a:latin typeface="Arial"/>
              </a:rPr>
              <a:t>1-5, 2-7, 3-4, 4-1, 5-6, 6-2, 7-8, 8-3, 9 а)ад холаду, б)тройчы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Не ўсё ж напышліва разважаць, якім павінен быць Чалавек, пара станавіцца ім”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i="1" lang="be-BY" sz="54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i="1" lang="be-BY" sz="4400" spc="-1" strike="noStrike">
                <a:solidFill>
                  <a:srgbClr val="ccecff"/>
                </a:solidFill>
                <a:latin typeface="Arial"/>
              </a:rPr>
              <a:t>арк Аўрэлій</a:t>
            </a:r>
            <a:br>
              <a:rPr sz="5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168880" cy="4135320"/>
          </a:xfrm>
          <a:prstGeom prst="rect">
            <a:avLst/>
          </a:prstGeom>
          <a:ln w="0">
            <a:noFill/>
          </a:ln>
        </p:spPr>
      </p:pic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206360" y="4853160"/>
            <a:ext cx="652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7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Дадзеныя навукі сведчаць, што на наша здароўе ўплываюц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лад жыцця (5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тан навакольнага асяроддзя (20 – 2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падчыннасць (20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істэма аховы здароўя ў краіне (10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000" spc="-1" strike="noStrike">
                <a:solidFill>
                  <a:srgbClr val="ccecff"/>
                </a:solidFill>
                <a:latin typeface="Arial"/>
              </a:rPr>
              <a:t>Тэма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2000160"/>
            <a:ext cx="8610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200" spc="-1" strike="noStrike">
                <a:solidFill>
                  <a:srgbClr val="ffffff"/>
                </a:solidFill>
                <a:latin typeface="Arial"/>
              </a:rPr>
              <a:t>Акалічнасць, яе роля ў сказе, граматычнае значэнн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00"/>
                </a:solidFill>
                <a:latin typeface="Arial"/>
              </a:rPr>
              <a:t>Мэты ў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358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пашыраць веды пра акалічнасць, выпрацоўваць уменні вызначаць у сказе акалічнасці і іх від, ставіць сінтаксічнае (лагічнае) пыт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спрыяць развіццю культуры маўлення, пашырэнню слоўнікавага запасу вучня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фарміраваць навыкі ЗЛЖ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ccecff"/>
                </a:solidFill>
                <a:latin typeface="Arial Black"/>
              </a:rPr>
              <a:t>Акалічнасц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304920" y="1905120"/>
            <a:ext cx="4495680" cy="3476520"/>
            <a:chOff x="304920" y="1905120"/>
            <a:chExt cx="4495680" cy="3476520"/>
          </a:xfrm>
        </p:grpSpPr>
        <p:sp>
          <p:nvSpPr>
            <p:cNvPr id="229" name="Text Box 3"/>
            <p:cNvSpPr/>
            <p:nvPr/>
          </p:nvSpPr>
          <p:spPr>
            <a:xfrm>
              <a:off x="3049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Галоў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H="1">
              <a:off x="3200040" y="1905120"/>
              <a:ext cx="60948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4648320" y="1905120"/>
            <a:ext cx="4495680" cy="3476520"/>
            <a:chOff x="4648320" y="1905120"/>
            <a:chExt cx="4495680" cy="3476520"/>
          </a:xfrm>
        </p:grpSpPr>
        <p:sp>
          <p:nvSpPr>
            <p:cNvPr id="232" name="Line 5"/>
            <p:cNvSpPr/>
            <p:nvPr/>
          </p:nvSpPr>
          <p:spPr>
            <a:xfrm>
              <a:off x="5180760" y="1905120"/>
              <a:ext cx="68580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46483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Дада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be-BY" sz="4800" spc="-1" strike="noStrike">
                <a:solidFill>
                  <a:srgbClr val="ffff00"/>
                </a:solidFill>
                <a:latin typeface="Arial"/>
              </a:rPr>
              <a:t>Акалічнасць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70581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даданы член сказа,</a:t>
            </a:r>
            <a:br>
              <a:rPr sz="4000"/>
            </a:b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базначае характар дзеяння ці абставіны, адказвае на пытанні: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дзе? куды? адкуль? чаму? як? колькі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дносіцца да выказні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ccecff"/>
                </a:solidFill>
                <a:latin typeface="Arial Black"/>
              </a:rPr>
              <a:t>Тыпы акалічнасці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0532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40080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64832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43828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8580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36232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78168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095880" y="990720"/>
            <a:ext cx="5040" cy="268128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638680" y="3657600"/>
            <a:ext cx="23623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63868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001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971800" y="990720"/>
            <a:ext cx="0" cy="2666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1371240" y="3657600"/>
            <a:ext cx="2057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3429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3716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21" descr="c:\Program Files\Common Files\Microsoft Shared\Clipart\cagcat50\HH01669_.wmf"/>
          <p:cNvPicPr/>
          <p:nvPr/>
        </p:nvPicPr>
        <p:blipFill>
          <a:blip r:embed="rId1"/>
          <a:stretch/>
        </p:blipFill>
        <p:spPr>
          <a:xfrm>
            <a:off x="685800" y="2362320"/>
            <a:ext cx="1828800" cy="10490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2"/>
          <p:cNvSpPr/>
          <p:nvPr/>
        </p:nvSpPr>
        <p:spPr>
          <a:xfrm>
            <a:off x="1067760" y="18288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с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4115880" y="1828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Ча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4" descr="c:\Program Files\Common Files\Microsoft Shared\Clipart\cagcat50\PE01931_.wmf"/>
          <p:cNvPicPr/>
          <p:nvPr/>
        </p:nvPicPr>
        <p:blipFill>
          <a:blip r:embed="rId2"/>
          <a:stretch/>
        </p:blipFill>
        <p:spPr>
          <a:xfrm>
            <a:off x="3733920" y="2362320"/>
            <a:ext cx="1533240" cy="99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5"/>
          <p:cNvSpPr/>
          <p:nvPr/>
        </p:nvSpPr>
        <p:spPr>
          <a:xfrm>
            <a:off x="6631560" y="1828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Прычы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952880" y="4343400"/>
            <a:ext cx="142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ры  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тупен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7" descr="c:\Program Files\Common Files\Microsoft Shared\Clipart\cagcat50\BD04972_.WMF"/>
          <p:cNvPicPr/>
          <p:nvPr/>
        </p:nvPicPr>
        <p:blipFill>
          <a:blip r:embed="rId3"/>
          <a:stretch/>
        </p:blipFill>
        <p:spPr>
          <a:xfrm>
            <a:off x="47242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8"/>
          <p:cNvSpPr/>
          <p:nvPr/>
        </p:nvSpPr>
        <p:spPr>
          <a:xfrm>
            <a:off x="839880" y="44197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э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743200" y="4343400"/>
            <a:ext cx="156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посаб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дзея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2920" y="4343400"/>
            <a:ext cx="140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Умовы  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ўступк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1" descr="c:\Program Files\Common Files\Microsoft Shared\Clipart\cagcat50\BD05297_.WMF"/>
          <p:cNvPicPr/>
          <p:nvPr/>
        </p:nvPicPr>
        <p:blipFill>
          <a:blip r:embed="rId4"/>
          <a:stretch/>
        </p:blipFill>
        <p:spPr>
          <a:xfrm>
            <a:off x="228600" y="50292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c:\Program Files\Common Files\Microsoft Shared\Clipart\cagcat50\BD04912_.WMF"/>
          <p:cNvPicPr/>
          <p:nvPr/>
        </p:nvPicPr>
        <p:blipFill>
          <a:blip r:embed="rId5"/>
          <a:stretch/>
        </p:blipFill>
        <p:spPr>
          <a:xfrm>
            <a:off x="2514600" y="52578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6705720" y="2362320"/>
            <a:ext cx="131904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Program Files\Common Files\Microsoft Shared\Clipart\cagcat50\BD05584_.WMF"/>
          <p:cNvPicPr/>
          <p:nvPr/>
        </p:nvPicPr>
        <p:blipFill>
          <a:blip r:embed="rId7"/>
          <a:stretch/>
        </p:blipFill>
        <p:spPr>
          <a:xfrm>
            <a:off x="7010280" y="5334120"/>
            <a:ext cx="1827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ffff66"/>
                </a:solidFill>
                <a:latin typeface="Arial"/>
              </a:rPr>
              <a:t>Шкода спіртных напояў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557360"/>
          <a:ext cx="8353440" cy="477828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Хутк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Доўг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звычайна сябе паводзі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доўга губляе каардынацы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выразна размаўля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ясцерпна баліць гал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утка губляе свядомас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жа наступіць смер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ступова губляе апеты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-пораз губляе памя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астаткова вітаміна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рушэнні ў працы печані, моз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66"/>
                </a:solidFill>
                <a:latin typeface="Arial"/>
              </a:rPr>
              <a:t>Аргументы супраць курэнн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энне значна зніжае ўвагу і памяц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Ад курцоў воляй-няволяй дрэнна пах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цы часцей за іншых пакутуюць ад анкалагічных і сардэчна-сасудзістых захвор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У курцоў дачасна старэе ск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04:25Z</dcterms:created>
  <dc:creator>Наташа</dc:creator>
  <dc:description/>
  <dc:language>en-US</dc:language>
  <cp:lastModifiedBy>Admin</cp:lastModifiedBy>
  <dcterms:modified xsi:type="dcterms:W3CDTF">2012-11-29T08:10:44Z</dcterms:modified>
  <cp:revision>39</cp:revision>
  <dc:subject/>
  <dc:title>Акалічнасць</dc:title>
</cp:coreProperties>
</file>