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9757D-8329-4C41-A2E7-120CB200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BFB57-C21E-4D72-9988-FD9B927A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EB95C-99AC-4099-97D9-1227DF65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C0AC2-576F-4C42-84C7-197F5A59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8CF1-F92B-4491-B3F8-458F2720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E9DF-BD21-499E-9B96-A72B9263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72DC-4A36-4756-A4D0-2BD5D82F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ADAE-7ADC-4C1C-8E95-9341545D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20A7-69A7-4FA6-9CFA-E5579D59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C333-21DB-4B17-B89C-6CEE071C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79FD-CAD8-4802-A5E6-BFBEE3AF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660B-100E-4C55-ADF3-0A57575C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8F8B-6700-4198-8FD2-63ADA82A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283F-1DAD-4F60-9E4A-85D51876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B94F-065C-4D96-A4E7-B29A1F5D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C43A-7B8C-462F-90E8-125A3B02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432D-3612-4D9B-BE57-C659C1DF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FA68D-45DE-4225-AD30-0CCCACD1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584D3-14A7-4E7C-9757-A86F8B02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B8B05-E91E-4205-B45E-47103854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45D5C-F451-4FA0-B8E6-9E417CC4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5F2B-3F75-484D-9A1A-113701CF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C3A17-983B-4EBA-BF9A-73E360D7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4F5C1-D4C6-4C5F-8DE6-271C2B74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85D8-D735-4DD3-84F4-408300A171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208B-B80F-45C3-B4C3-EC085FEB7D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920960" y="0"/>
            <a:ext cx="569916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1523880" y="-514440"/>
            <a:ext cx="6096240" cy="788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866920" y="5805000"/>
            <a:ext cx="294804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Помнік Еўфрасінн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ў Полац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8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62120" y="1276200"/>
            <a:ext cx="76197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95280" y="4046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небопарный орел, попаривши от Запада и до Восто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яко луча солнечная, просветивши всю землю Полоцкую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762120" y="905040"/>
            <a:ext cx="761976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Промень сонечны, які прасвятліў зямлю Полацкую…”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3240" y="189000"/>
            <a:ext cx="317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Тэма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dfdef6"/>
                </a:solidFill>
                <a:latin typeface="Arial"/>
              </a:rPr>
              <a:t>Мэты нашага ўрока: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багульніць нашы веды пра беларускую асветніцу і святую Еўфрасінню Полацку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мастацкім увасабленнем Еўфрасінні ў паэтычным і празаічным твор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сэнсаваць веліч постаці асветніцы, яе ролю ў айчыннай гісторыі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 рэпрадукцыямі карцін беларускіх мастакоў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высветліць, як ушаноўваецца імя асветніцы ў наш ча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714680" y="-52560"/>
            <a:ext cx="5715000" cy="69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267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523880" y="1352520"/>
            <a:ext cx="60962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5508720" y="5373720"/>
            <a:ext cx="33890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омнік Еўфрасінні ў Мін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042920" y="5589360"/>
            <a:ext cx="72741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нік Еўфрасінні Полацкай у Мінс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распекце Ф.Скары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668988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07:45:21Z</dcterms:created>
  <dc:creator>наташа</dc:creator>
  <dc:description/>
  <dc:language>en-US</dc:language>
  <cp:lastModifiedBy>hbu</cp:lastModifiedBy>
  <dcterms:modified xsi:type="dcterms:W3CDTF">2007-12-06T14:02:46Z</dcterms:modified>
  <cp:revision>17</cp:revision>
  <dc:subject/>
  <dc:title>Слайд 1</dc:title>
</cp:coreProperties>
</file>