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028F-D805-4E11-8869-4ED5D856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2B53-C9A9-40A9-8651-7D70DBF6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2BF8-3F2D-4D6A-87FF-221CA258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9279-CA6F-4330-AF02-2A175664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FB78-B553-4888-BE40-9EFF8C3B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38D3-478B-423D-B47D-F6C9BA7D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554B-F94C-4BF5-93D7-F5D7D423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D248-174C-4BE8-8830-A3138198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3AD4-6F23-46CB-9386-51C3673A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FD0F-EED8-4D70-9DEF-D8F5CD18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82FC-BB20-434E-90A6-9E86A5DE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74EB2-BFF6-4797-8431-C848E4C4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0B3D-9C7B-4975-83D9-1AF017C0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B958-196F-43C8-8CBF-5C0674F3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C6C7-54CD-473A-92B0-70AFA119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001A-B065-4950-9E03-3EC5E129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676A-3198-4847-80A4-146BDA17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84CA-D0E6-4B65-98DE-19101982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796C-6F6E-40F1-A517-C935E06B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5AC5-ECB8-47FA-BDE7-3BD93A85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552A5-B2F0-4358-8D53-B6291FA7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41D6-309F-4B6B-9336-1CDF3C8D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EC87D-E97E-4E31-9779-DA3BADEE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62470-A1F1-4C59-91A5-BD0396E9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C690-9903-41C2-BC4D-7DB4F2D727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798A-8D30-442D-873B-C496CCF812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69916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-514440"/>
            <a:ext cx="6096240" cy="78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866920" y="5805000"/>
            <a:ext cx="29480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Помнік Еўфрасінн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ў Полац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62120" y="1276200"/>
            <a:ext cx="76197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404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небопарный орел, попаривши от Запада и до Вост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яко луча солнечная, просветивши всю землю Полоцкую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Промень сонечны, які прасвятліў зямлю Полацкую…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240" y="189000"/>
            <a:ext cx="31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Тэ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dfdef6"/>
                </a:solidFill>
                <a:latin typeface="Arial"/>
              </a:rPr>
              <a:t>Мэты нашага ўрока: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багульніць нашы веды пра беларускую асветніцу і святую Еўфрасінню Полац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мастацкім увасабленнем Еўфрасінні ў паэтычным і празаічным тво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сэнсаваць веліч постаці асветніцы, яе ролю ў айчыннай гісторы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 рэпрадукцыямі карцін беларускіх мастакоў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высветліць, як ушаноўваецца імя асветніцы ў наш ч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14680" y="-52560"/>
            <a:ext cx="571500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267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1352520"/>
            <a:ext cx="6096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508720" y="5373720"/>
            <a:ext cx="33890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омнік Еўфрасінні ў Мін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42920" y="5589360"/>
            <a:ext cx="7274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ік Еўфрасінні Полацкай у Мінс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аспекце Ф.Скары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45:21Z</dcterms:created>
  <dc:creator>наташа</dc:creator>
  <dc:description/>
  <dc:language>en-US</dc:language>
  <cp:lastModifiedBy>hbu</cp:lastModifiedBy>
  <dcterms:modified xsi:type="dcterms:W3CDTF">2007-12-06T14:02:46Z</dcterms:modified>
  <cp:revision>17</cp:revision>
  <dc:subject/>
  <dc:title>Слайд 1</dc:title>
</cp:coreProperties>
</file>