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F462A-6B6F-4408-85F2-4209A872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00278-4B16-44DD-99ED-3FF7AFC0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731D8-1E9E-4207-93FB-B84F1C37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38EBB-3676-4526-8255-BADBBAB4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8C85-BF41-4AF8-B069-277ECF7E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B9EB-085E-45C5-B26E-9CA7740C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EF46-5101-4E05-8FC5-A7C612EE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9CF1-C6EF-47EC-BDD0-ADA095E6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BDB3-2D3D-4FDC-84B0-9AA4FF61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0591-96F7-4872-B84B-B4B63958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2137-0088-452B-B179-E7FB32F1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24AF8-29D4-498D-B090-ECA3DDCF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F516-5FFC-435A-96EB-C5F503E9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1A5C-DAF8-4F9F-91F5-8F0BB1EF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8DE3-EC76-4EE0-95AE-85A66D2C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4003-3960-41F7-8882-79C42F9E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2A34-CAF7-4FEE-978E-CA05C5E8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281D-1100-4768-891D-FE39A331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C494-9973-41BF-A3E1-81F872BC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DC89C-788F-452E-B0E3-575ABE3D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C15F2-2B66-479D-8590-EA68E1E3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F7393-B00E-4B3C-873B-1B6C2CB6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31B86-E03D-4CA8-B861-29A27918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24F25-5EB8-4994-820B-CB806927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1B46-A685-4DFE-B520-0518CF6325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EACE-786E-4D4C-9658-5EF72F7210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920960" y="0"/>
            <a:ext cx="569916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1523880" y="-514440"/>
            <a:ext cx="6096240" cy="788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866920" y="5805000"/>
            <a:ext cx="294804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Помнік Еўфрасінн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ў Полац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8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62120" y="1276200"/>
            <a:ext cx="76197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95280" y="4046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небопарный орел, попаривши от Запада и до Восто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яко луча солнечная, просветивши всю землю Полоцкую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762120" y="905040"/>
            <a:ext cx="761976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Промень сонечны, які прасвятліў зямлю Полацкую…”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3240" y="189000"/>
            <a:ext cx="317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Тэма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dfdef6"/>
                </a:solidFill>
                <a:latin typeface="Arial"/>
              </a:rPr>
              <a:t>Мэты нашага ўрока: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багульніць нашы веды пра беларускую асветніцу і святую Еўфрасінню Полацку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мастацкім увасабленнем Еўфрасінні ў паэтычным і празаічным твор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сэнсаваць веліч постаці асветніцы, яе ролю ў айчыннай гісторыі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 рэпрадукцыямі карцін беларускіх мастакоў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высветліць, як ушаноўваецца імя асветніцы ў наш ча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714680" y="-52560"/>
            <a:ext cx="5715000" cy="69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267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523880" y="1352520"/>
            <a:ext cx="60962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5508720" y="5373720"/>
            <a:ext cx="33890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омнік Еўфрасінні ў Мін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042920" y="5589360"/>
            <a:ext cx="72741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нік Еўфрасінні Полацкай у Мінс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распекце Ф.Скары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668988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07:45:21Z</dcterms:created>
  <dc:creator>наташа</dc:creator>
  <dc:description/>
  <dc:language>en-US</dc:language>
  <cp:lastModifiedBy>hbu</cp:lastModifiedBy>
  <dcterms:modified xsi:type="dcterms:W3CDTF">2007-12-06T14:02:46Z</dcterms:modified>
  <cp:revision>17</cp:revision>
  <dc:subject/>
  <dc:title>Слайд 1</dc:title>
</cp:coreProperties>
</file>