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87834-6AB1-4672-BD67-BACC6E869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B3932-AE23-4756-99A2-2BEBF06C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7A5C3-00CA-4868-ADCF-80F52D30D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7E915-1E1F-4596-9CAA-122CE823E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C91C-016A-4B35-A252-74CED63AE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2B1A-8DF1-4140-AF05-C791FC60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4C26-08D8-4E70-9E44-FB623D6F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6429-0DC0-4A51-9B4B-6FEE6ED7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5781-1DFF-4AA9-BFC2-3C4979F2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C6E0-325C-4441-BE75-E97DAC51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D700-788A-4A90-B272-AF18CF86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273CB-5BCD-4D67-916E-ADCCF7E5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6359-2568-48FD-91A5-A6ED0E93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5727-D136-4BDE-AA7F-F4AC9924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B9BA-CF6B-49A0-A15A-18860D80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E931-3C3B-4EEC-B448-2110222A3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DFA9-5294-4256-A559-0694951E1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E32F5-4C8A-432D-884F-61D3BE00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EBBBE-44FB-4D0B-8349-AEB30C4E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8AC94-D17C-408A-8CD6-397238A8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A7CE4-A738-45D6-A3C9-13D5070D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C980A-E990-4D9F-96AF-0C4D1635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72146-D4CB-43DE-BF30-3D6F4663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60E9F-B44B-4FC6-94FA-5A23FAD4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EA1C-CEE8-4AED-A57A-02440B8C6F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EF07-1213-45C0-A2E9-663C127949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1920960" y="0"/>
            <a:ext cx="569916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1523880" y="-514440"/>
            <a:ext cx="6096240" cy="788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5866920" y="5805000"/>
            <a:ext cx="294804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ffff"/>
                </a:solidFill>
                <a:latin typeface="Arial"/>
              </a:rPr>
              <a:t>Помнік Еўфрасінні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ffff"/>
                </a:solidFill>
                <a:latin typeface="Arial"/>
              </a:rPr>
              <a:t>ў Полац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8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762120" y="1276200"/>
            <a:ext cx="761976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95280" y="40464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небопарный орел, попаривши от Запада и до Восток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яко луча солнечная, просветивши всю землю Полоцкую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762120" y="905040"/>
            <a:ext cx="7619760" cy="50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Промень сонечны, які прасвятліў зямлю Полацкую…”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43240" y="189000"/>
            <a:ext cx="317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Тэма урок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400" spc="-1" strike="noStrike">
                <a:solidFill>
                  <a:srgbClr val="dfdef6"/>
                </a:solidFill>
                <a:latin typeface="Arial"/>
              </a:rPr>
              <a:t>Мэты нашага ўрока: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абагульніць нашы веды пра беларускую асветніцу і святую Еўфрасінню Полацку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азнаёміцца з мастацкім увасабленнем Еўфрасінні ў паэтычным і празаічным твор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асэнсаваць веліч постаці асветніцы, яе ролю ў айчыннай гісторыі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азнаёміцца з  рэпрадукцыямі карцін беларускіх мастакоў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высветліць, як ушаноўваецца імя асветніцы ў наш ча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714680" y="-52560"/>
            <a:ext cx="5715000" cy="696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2674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1523880" y="1352520"/>
            <a:ext cx="60962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5508720" y="5373720"/>
            <a:ext cx="33890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омнік Еўфрасінні ў Мінс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456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042920" y="5589360"/>
            <a:ext cx="727416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мнік Еўфрасінні Полацкай у Мінск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праспекце Ф.Скарын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6689880" cy="50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07:45:21Z</dcterms:created>
  <dc:creator>наташа</dc:creator>
  <dc:description/>
  <dc:language>en-US</dc:language>
  <cp:lastModifiedBy>hbu</cp:lastModifiedBy>
  <dcterms:modified xsi:type="dcterms:W3CDTF">2007-12-06T14:02:46Z</dcterms:modified>
  <cp:revision>17</cp:revision>
  <dc:subject/>
  <dc:title>Слайд 1</dc:title>
</cp:coreProperties>
</file>