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3B474-649C-4BEA-A19A-EEA14884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2DB0-8BBD-418D-9863-8607079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EC24-6284-45CD-AE53-F320C075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07A93-7FE8-4983-8F59-047A7E89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13B7-95DD-4155-A967-0A1E25B7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5BD6-F134-4D72-97D1-614A5DF2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522B-7642-4C6B-89A2-5A2ECFF0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A8765-4DA0-41A9-A8FA-593F4BC1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0702-9556-4B52-9360-915ED779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2C27C-0F3A-4014-B711-63AFAA2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17555-80C8-42CD-BCCF-632076BA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1BB3B-AA78-4595-82CE-33739FA1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D4BE-EDCF-4C95-BE2A-CCA0C3FA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07AA-7006-4CAF-974F-7E32D3F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E042-FBD8-45EB-9B4E-A476B0337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278D7-0FCD-4977-A845-8D9BCB6A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77D1-7270-48FF-A793-AC4570AF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AB577-6C0D-4C6E-8AFF-B07BD222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6F4F-6B39-453D-99EC-A89A48AF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75ACC-9E86-4DD9-B6D8-8BE8DB0B0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5170-ACDD-4B91-8B81-B6F53D79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084FC-F08C-4D47-A559-89382C24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3B1F2-9FDD-402D-ADC8-5B1343D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28221-6013-417F-9E54-C48648B9A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3437-368C-4BF9-A1D2-22876A4255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006FE-7FF1-4CA2-8815-2905ED1165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1920960" y="0"/>
            <a:ext cx="569916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1523880" y="-514440"/>
            <a:ext cx="6096240" cy="788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5866920" y="5805000"/>
            <a:ext cx="294804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Помнік Еўфрасінн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ffffff"/>
                </a:solidFill>
                <a:latin typeface="Arial"/>
              </a:rPr>
              <a:t>ў Полац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8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762120" y="1276200"/>
            <a:ext cx="76197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95280" y="40464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небопарный орел, попаривши от Запада и до Восток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400" spc="-1" strike="noStrike">
                <a:solidFill>
                  <a:srgbClr val="000000"/>
                </a:solidFill>
                <a:latin typeface="Arial"/>
              </a:rPr>
              <a:t>яко луча солнечная, просветивши всю землю Полоцкую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762120" y="905040"/>
            <a:ext cx="7619760" cy="50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8642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Промень сонечны, які прасвятліў зямлю Полацкую…”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43240" y="189000"/>
            <a:ext cx="317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000000"/>
                </a:solidFill>
                <a:latin typeface="Arial"/>
              </a:rPr>
              <a:t>Тэма урока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400" spc="-1" strike="noStrike">
                <a:solidFill>
                  <a:srgbClr val="dfdef6"/>
                </a:solidFill>
                <a:latin typeface="Arial"/>
              </a:rPr>
              <a:t>Мэты нашага ўрока:</a:t>
            </a: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багульніць нашы веды пра беларускую асветніцу і святую Еўфрасінню Полацк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мастацкім увасабленнем Еўфрасінні ў паэтычным і празаічным твор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асэнсаваць веліч постаці асветніцы, яе ролю ў айчыннай гісторыі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азнаёміцца з  рэпрадукцыямі карцін беларускіх мастакоў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высветліць, як ушаноўваецца імя асветніцы ў наш ча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" descr=""/>
          <p:cNvPicPr/>
          <p:nvPr/>
        </p:nvPicPr>
        <p:blipFill>
          <a:blip r:embed="rId1"/>
          <a:stretch/>
        </p:blipFill>
        <p:spPr>
          <a:xfrm>
            <a:off x="1714680" y="-52560"/>
            <a:ext cx="5715000" cy="696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2674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1523880" y="1352520"/>
            <a:ext cx="60962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5508720" y="5373720"/>
            <a:ext cx="338904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2800" spc="-1" strike="noStrike">
                <a:solidFill>
                  <a:srgbClr val="ffffff"/>
                </a:solidFill>
                <a:latin typeface="Arial"/>
              </a:rPr>
              <a:t>Помнік Еўфрасінні ў Мінс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456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/>
          </p:nvPr>
        </p:nvSpPr>
        <p:spPr>
          <a:xfrm>
            <a:off x="1042920" y="5589360"/>
            <a:ext cx="727416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мнік Еўфрасінні Полацкай у Мінск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распекце Ф.Скарын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042920" y="404640"/>
            <a:ext cx="6689880" cy="50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1T07:45:21Z</dcterms:created>
  <dc:creator>наташа</dc:creator>
  <dc:description/>
  <dc:language>en-US</dc:language>
  <cp:lastModifiedBy>hbu</cp:lastModifiedBy>
  <dcterms:modified xsi:type="dcterms:W3CDTF">2007-12-06T14:02:46Z</dcterms:modified>
  <cp:revision>17</cp:revision>
  <dc:subject/>
  <dc:title>Слайд 1</dc:title>
</cp:coreProperties>
</file>