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18E7-7D33-481C-AD97-42F7234E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E87A2-137C-4E8F-9FAE-318A4910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AE7B-71EB-4685-9EA1-CDC5AE20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B1F0-67E7-4956-99FD-060DCA6B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F790-1932-4D4A-B9A0-E3E5580A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913F-287C-4B6C-A751-420203C5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09CD-1164-4788-8B9D-265F33D6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0030-F514-4171-9943-7B7DD2B1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9575-CC38-46F7-8E12-0408C0E4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4477-4AD9-4C73-9447-68B10CAF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30FC-B706-4E72-8013-A1FE079A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0CED-C8BA-4895-B30F-01736ECB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D9AA-3DF8-4009-944A-421415CC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5D5A-89FD-4012-857E-ABAAB1B8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BFF3-FECC-4F97-BF75-EB1914C6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57FB-53D0-4BDF-B941-C29532B9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A0DE-FD0F-41EC-89C0-9D9C2367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2838-EBE1-4008-BBAF-8C38A30D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57C7-440B-4D47-B72F-080A0336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D7442-A4F7-49D5-AB4D-69C7C284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5DDA-FC0A-42F9-B217-0295593C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D72E-A95C-499A-AA4A-F17AB00E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722A-4FA3-456B-A655-53C6D538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3B93-C63F-47E3-9778-C8AAE667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EA04-FBDC-4789-AC07-FAB98FD9B8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9A6F-B815-4F02-AB68-6A7F4BDF41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69916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-514440"/>
            <a:ext cx="6096240" cy="78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866920" y="5805000"/>
            <a:ext cx="29480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Помнік Еўфрасінн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ў Полац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62120" y="1276200"/>
            <a:ext cx="76197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404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небопарный орел, попаривши от Запада и до Вост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яко луча солнечная, просветивши всю землю Полоцкую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Промень сонечны, які прасвятліў зямлю Полацкую…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240" y="189000"/>
            <a:ext cx="31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Тэ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dfdef6"/>
                </a:solidFill>
                <a:latin typeface="Arial"/>
              </a:rPr>
              <a:t>Мэты нашага ўрока: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багульніць нашы веды пра беларускую асветніцу і святую Еўфрасінню Полац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мастацкім увасабленнем Еўфрасінні ў паэтычным і празаічным тво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сэнсаваць веліч постаці асветніцы, яе ролю ў айчыннай гісторы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 рэпрадукцыямі карцін беларускіх мастакоў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высветліць, як ушаноўваецца імя асветніцы ў наш ч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14680" y="-52560"/>
            <a:ext cx="571500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267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1352520"/>
            <a:ext cx="6096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508720" y="5373720"/>
            <a:ext cx="33890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омнік Еўфрасінні ў Мін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42920" y="5589360"/>
            <a:ext cx="7274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ік Еўфрасінні Полацкай у Мінс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аспекце Ф.Скары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45:21Z</dcterms:created>
  <dc:creator>наташа</dc:creator>
  <dc:description/>
  <dc:language>en-US</dc:language>
  <cp:lastModifiedBy>hbu</cp:lastModifiedBy>
  <dcterms:modified xsi:type="dcterms:W3CDTF">2007-12-06T14:02:46Z</dcterms:modified>
  <cp:revision>17</cp:revision>
  <dc:subject/>
  <dc:title>Слайд 1</dc:title>
</cp:coreProperties>
</file>