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99529-60C1-4AEA-91E4-F569CF2F8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956A9-081E-49BF-B099-8EF8FC3FA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EA50E-76DC-497F-A6E1-89D6E25FB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5DBF0-CB8C-48B5-9455-DC200B1F4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2396E-28EE-4D19-82F4-674444CBF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65897-01FA-475C-9052-4C961871A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852EE-E84B-43C3-884C-1E79DF833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1D122-ADF9-4C3D-A529-71DB8DA74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1940C-5C1B-4F87-9CA1-67E964BBB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08212-10FA-475E-8D88-1C1DE9A60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1DE30-6BA1-42D9-B90A-68F65A84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BC66E-E9E1-4ED5-94D5-91278C8A8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FEE11-F254-479C-A6C8-EB14F78AB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A40C4-925B-4509-9D5A-446881B2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470AF-4318-49B1-9C5D-9AECD55D4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6D693-C944-48C7-84CB-C3EF6BF9C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95780-A93A-454D-BAD1-C7DD5F334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6AF91-A69E-4BB5-926F-D40D486A2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2D1D5-46A8-4098-A6B5-8552BEAF2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8EF80-5D35-47BE-BD3C-01ACC815B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DED26-8679-4DA5-B4F4-5F05B1FFE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5134C-F18A-46FD-9EBA-EC608668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F4293-4880-4F8A-B7FB-8A4078A8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C2B52-E6B6-43BA-8A4F-C39F2CDC3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9604A-4005-4EC8-80B9-43A330EB2D7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A1424-4C46-4016-BEA1-7C9DA3CD99F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1920960" y="0"/>
            <a:ext cx="5699160" cy="685800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2"/>
          <a:stretch/>
        </p:blipFill>
        <p:spPr>
          <a:xfrm>
            <a:off x="1523880" y="-514440"/>
            <a:ext cx="6096240" cy="788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5866920" y="5805000"/>
            <a:ext cx="294804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ffffff"/>
                </a:solidFill>
                <a:latin typeface="Arial"/>
              </a:rPr>
              <a:t>Помнік Еўфрасінні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ffffff"/>
                </a:solidFill>
                <a:latin typeface="Arial"/>
              </a:rPr>
              <a:t>ў Полацк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86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762120" y="1276200"/>
            <a:ext cx="7619760" cy="43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395280" y="404640"/>
            <a:ext cx="85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000000"/>
                </a:solidFill>
                <a:latin typeface="Arial"/>
              </a:rPr>
              <a:t>“…</a:t>
            </a:r>
            <a:r>
              <a:rPr b="0" lang="be-BY" sz="2400" spc="-1" strike="noStrike">
                <a:solidFill>
                  <a:srgbClr val="000000"/>
                </a:solidFill>
                <a:latin typeface="Arial"/>
              </a:rPr>
              <a:t>небопарный орел, попаривши от Запада и до Восток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000000"/>
                </a:solidFill>
                <a:latin typeface="Arial"/>
              </a:rPr>
              <a:t>яко луча солнечная, просветивши всю землю Полоцкую”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762120" y="905040"/>
            <a:ext cx="7619760" cy="50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be-BY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be-BY" sz="4000" spc="-1" strike="noStrike">
                <a:solidFill>
                  <a:srgbClr val="000000"/>
                </a:solidFill>
                <a:latin typeface="Arial"/>
              </a:rPr>
              <a:t>Промень сонечны, які прасвятліў зямлю Полацкую…”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43240" y="189000"/>
            <a:ext cx="317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000" spc="-1" strike="noStrike">
                <a:solidFill>
                  <a:srgbClr val="000000"/>
                </a:solidFill>
                <a:latin typeface="Arial"/>
              </a:rPr>
              <a:t>Тэма урока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400" spc="-1" strike="noStrike">
                <a:solidFill>
                  <a:srgbClr val="dfdef6"/>
                </a:solidFill>
                <a:latin typeface="Arial"/>
              </a:rPr>
              <a:t>Мэты нашага ўрока:</a:t>
            </a: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абагульніць нашы веды пра беларускую асветніцу і святую Еўфрасінню Полацкую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пазнаёміцца з мастацкім увасабленнем Еўфрасінні ў паэтычным і празаічным твора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асэнсаваць веліч постаці асветніцы, яе ролю ў айчыннай гісторыі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пазнаёміцца з  рэпрадукцыямі карцін беларускіх мастакоў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высветліць, як ушаноўваецца імя асветніцы ў наш час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98" fill="hold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1714680" y="-52560"/>
            <a:ext cx="5715000" cy="696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2438280" y="380880"/>
            <a:ext cx="426744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1523880" y="1352520"/>
            <a:ext cx="609624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5508720" y="5373720"/>
            <a:ext cx="338904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Помнік Еўфрасінні ў Мінс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4568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1042920" y="5589360"/>
            <a:ext cx="727416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мнік Еўфрасінні Полацкай у Мінск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праспекце Ф.Скарын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1042920" y="404640"/>
            <a:ext cx="6689880" cy="50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1T07:45:21Z</dcterms:created>
  <dc:creator>наташа</dc:creator>
  <dc:description/>
  <dc:language>en-US</dc:language>
  <cp:lastModifiedBy>hbu</cp:lastModifiedBy>
  <dcterms:modified xsi:type="dcterms:W3CDTF">2007-12-06T14:02:46Z</dcterms:modified>
  <cp:revision>17</cp:revision>
  <dc:subject/>
  <dc:title>Слайд 1</dc:title>
</cp:coreProperties>
</file>