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5BBD-D6E9-4BCC-9940-90DA2F77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325F4-D8C1-45BF-B864-4BBAB210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257D-142C-4A9F-8787-5682ED0F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3F4B-4F19-4564-B4A5-558486E1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B19C-E4AF-44BE-BFCD-3C7DE706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76F1-3C99-4C48-8CFE-22FEA36F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9AAD-7E65-4EFF-9158-38341307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80E1-E54D-40DB-89F2-4B32C043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EA34-BC91-493E-A621-D615DD81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20DC-B744-40DA-ADC5-D646EE09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FE3A-64C5-4272-B887-A27B94D1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241D-7CF8-4CB5-963B-B654EDF7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981F-B2AC-40F2-B5B3-0E9E888C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75D7-A7A5-4ACD-8ECE-E7D33AC0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FF57-C81E-421C-AD59-9FEDE53B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69D7-8D94-4D51-983E-B1EF7612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3174-EB14-4F14-8346-0ECBBD3D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40AAB-99C7-4E55-8798-FE320BDE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CBBBF-F063-4B8E-87D9-A0CC49E1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D6B99-A3AA-4DD1-83FC-97073782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639A-AC14-4475-9EC4-4FE33865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9A8C-2A04-4018-B341-88265CC3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2CCD-4323-4E9F-B358-2B5A4771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1A72-522F-46D0-A5BA-1E0B8756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640F-C098-4DB9-A619-0EAEEC66E2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69D9-C5B6-45FB-97C5-7EEA0E5020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69916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-514440"/>
            <a:ext cx="609624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866920" y="5805000"/>
            <a:ext cx="2948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мнік Еўфрасінн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ў Полац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404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небопарный орел, попаривши от Запада и до Вост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о луча солнечная, просветивши всю землю Полоцкую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Промень сонечны, які прасвятліў зямлю Полацкую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" y="189000"/>
            <a:ext cx="31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Тэ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dfdef6"/>
                </a:solidFill>
                <a:latin typeface="Arial"/>
              </a:rPr>
              <a:t>Мэты нашага ўрока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багульніць нашы веды пра беларускую асветніцу і святую Еўфрасінню Полац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мастацкім увасабленнем Еўфрасінні ў паэтычным і празаічным тв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сэнсаваць веліч постаці асветніцы, яе ролю ў айчыннай гісторы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 рэпрадукцыямі карцін беларускіх мастакоў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высветліць, як ушаноўваецца імя асветніцы ў наш ч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14680" y="-52560"/>
            <a:ext cx="571500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267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6096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508720" y="5373720"/>
            <a:ext cx="33890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омнік Еўфрасінні ў Мін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42920" y="5589360"/>
            <a:ext cx="7274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ік Еўфрасінні Полацкай у Мін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аспекце Ф.Скары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45:21Z</dcterms:created>
  <dc:creator>наташа</dc:creator>
  <dc:description/>
  <dc:language>en-US</dc:language>
  <cp:lastModifiedBy>hbu</cp:lastModifiedBy>
  <dcterms:modified xsi:type="dcterms:W3CDTF">2007-12-06T14:02:46Z</dcterms:modified>
  <cp:revision>17</cp:revision>
  <dc:subject/>
  <dc:title>Слайд 1</dc:title>
</cp:coreProperties>
</file>