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8DB-8038-4155-9C40-F12EE7C6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0C8-7EA2-4F49-825F-C44FD16C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B8FC-E9D7-4419-889F-244DB5AB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BBC-D6FB-4CF2-A78A-07F98F01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16F-DEAA-41A3-BB48-F5E2C87C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480-9374-4501-8374-D095C239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A109-2BED-4796-B16E-790261CB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6F1-BDA8-4A92-BC67-9233D35D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842-A3D9-4168-B727-7ECC84F9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0EB6-272F-4EF9-8504-D89113DF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7D9-E8C9-461E-9337-C4290402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37F-7293-450F-A730-348F3B33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3F97-42E2-42FA-B3C0-92EBCCFF36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rtualtravel.ru/user/3778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irtualtravel.ru/user/3778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Arial"/>
              </a:rPr>
              <a:t>Чернобыль. Трагедия ХХ 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п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2948"/>
          <p:cNvPicPr/>
          <p:nvPr/>
        </p:nvPicPr>
        <p:blipFill>
          <a:blip r:embed="rId1"/>
          <a:stretch/>
        </p:blipFill>
        <p:spPr>
          <a:xfrm>
            <a:off x="1371600" y="1600200"/>
            <a:ext cx="60580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 на город и Чернобыльскую АЭС с крыш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Вид на город и Чернобыльскую АЭС с крыши."/>
          <p:cNvPicPr/>
          <p:nvPr/>
        </p:nvPicPr>
        <p:blipFill>
          <a:blip r:embed="rId1"/>
          <a:stretch/>
        </p:blipFill>
        <p:spPr>
          <a:xfrm>
            <a:off x="1371600" y="1676520"/>
            <a:ext cx="607680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пять после трагед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3027"/>
          <p:cNvPicPr/>
          <p:nvPr/>
        </p:nvPicPr>
        <p:blipFill>
          <a:blip r:embed="rId1"/>
          <a:stretch/>
        </p:blipFill>
        <p:spPr>
          <a:xfrm>
            <a:off x="1371600" y="1523880"/>
            <a:ext cx="636264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ногоэтажка в Припя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2981"/>
          <p:cNvPicPr/>
          <p:nvPr/>
        </p:nvPicPr>
        <p:blipFill>
          <a:blip r:embed="rId1"/>
          <a:stretch/>
        </p:blipFill>
        <p:spPr>
          <a:xfrm>
            <a:off x="1143000" y="1600200"/>
            <a:ext cx="697248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кинутые дома в прилегающих селения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Покинутые дома в прилегающих селениях"/>
          <p:cNvPicPr/>
          <p:nvPr/>
        </p:nvPicPr>
        <p:blipFill>
          <a:blip r:embed="rId1"/>
          <a:stretch/>
        </p:blipFill>
        <p:spPr>
          <a:xfrm>
            <a:off x="1447920" y="1600200"/>
            <a:ext cx="641988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дбище в Рассох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4868"/>
          <p:cNvPicPr/>
          <p:nvPr/>
        </p:nvPicPr>
        <p:blipFill>
          <a:blip r:embed="rId1"/>
          <a:stretch/>
        </p:blipFill>
        <p:spPr>
          <a:xfrm>
            <a:off x="1219320" y="1600200"/>
            <a:ext cx="666756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дбище зараженных машин в Рассох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988"/>
          <p:cNvPicPr/>
          <p:nvPr/>
        </p:nvPicPr>
        <p:blipFill>
          <a:blip r:embed="rId1"/>
          <a:stretch/>
        </p:blipFill>
        <p:spPr>
          <a:xfrm>
            <a:off x="1219320" y="1600200"/>
            <a:ext cx="605772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Кладбище техники. Чернобыль"/>
          <p:cNvPicPr/>
          <p:nvPr/>
        </p:nvPicPr>
        <p:blipFill>
          <a:blip r:embed="rId1"/>
          <a:stretch/>
        </p:blipFill>
        <p:spPr>
          <a:xfrm>
            <a:off x="1295280" y="1600200"/>
            <a:ext cx="674388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селе Буракив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Кладбище техники. Чернобыль"/>
          <p:cNvPicPr/>
          <p:nvPr/>
        </p:nvPicPr>
        <p:blipFill>
          <a:blip r:embed="rId1"/>
          <a:stretch/>
        </p:blipFill>
        <p:spPr>
          <a:xfrm>
            <a:off x="1066680" y="1600200"/>
            <a:ext cx="674388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рковь в Чернобы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вято-Ильин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м). Осталась од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двадца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овавших ран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территории зон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чуж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Возвращение в 1986 (79 фото)"/>
          <p:cNvPicPr/>
          <p:nvPr/>
        </p:nvPicPr>
        <p:blipFill>
          <a:blip r:embed="rId1"/>
          <a:stretch/>
        </p:blipFill>
        <p:spPr>
          <a:xfrm>
            <a:off x="0" y="0"/>
            <a:ext cx="49719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969696"/>
                </a:solidFill>
                <a:latin typeface="Arial"/>
              </a:rPr>
              <a:t>26 апреля 1986 г. весь мир "вздрогнул" от взрыва энергоблока, прозвучавшего на Чернобыльской АЭС.  Радиационная пыль протянулась "хвостом" через территорию Украины, Белоруссии, 14 областей России и накрыла часть территории Западной Европ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Возвращение в 1986 (79 фото)"/>
          <p:cNvPicPr/>
          <p:nvPr/>
        </p:nvPicPr>
        <p:blipFill>
          <a:blip r:embed="rId1"/>
          <a:stretch/>
        </p:blipFill>
        <p:spPr>
          <a:xfrm>
            <a:off x="304920" y="1600200"/>
            <a:ext cx="6352920" cy="4761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окол скорби. Установлен в память о жертвах чернобыльской трагедии. Рядом с чернобыльской церковью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ый знак,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ный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адцатилетию аварии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ЭС. Парк в Чернобыл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Возвращение в 1986 (79 фото)"/>
          <p:cNvPicPr/>
          <p:nvPr/>
        </p:nvPicPr>
        <p:blipFill>
          <a:blip r:embed="rId1"/>
          <a:stretch/>
        </p:blipFill>
        <p:spPr>
          <a:xfrm>
            <a:off x="152280" y="457200"/>
            <a:ext cx="46292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76312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из многочисленных уроков Чернобыля состоит в том, чтобы не предполагать, а твердо знать, каким образом надо действовать в подобных экстремальных ситуациях. Надо уметь говорить с людьми не только в праздники, но и в часы испытаний. Боязнь и малодушие перед реальностью неизбежно оборачиваются потерями. А они были. И во многом как раз потому, что люди не знали, как себя ве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ой факт о Чернобыльской трагедии произвел на вас самое большое впечатл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чему необходимо знать о трагедии в Чернобыл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ужны ли атомные станции? Можно ли обойтись без них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чему Землю можно назвать «хрупкой» планетой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вы считаете, достаточно ли только знаний для безопасной эксплуатации атомной станци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числите качества, которыми должен обладать человек, «укрощающий» ядерную энерги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полагаемые причины ава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тор был неправильно спроектирован и опасе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сонал не был проинформирован об опасностя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сонал допустил ряд ошибок и неумышленно нарушил существующие инструкции, частично из-за отсутствия информации об опасностях реакто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лючение защит либо не повлияло на развитие аварии либо не противоречило нормативным докумен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равка о Чернобыльской АЭ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logo"/>
          <p:cNvPicPr/>
          <p:nvPr/>
        </p:nvPicPr>
        <p:blipFill>
          <a:blip r:embed="rId1"/>
          <a:stretch/>
        </p:blipFill>
        <p:spPr>
          <a:xfrm>
            <a:off x="990720" y="1600200"/>
            <a:ext cx="712476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6 апреля 1986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30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600200"/>
            <a:ext cx="624852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рушенный реактор ЧАЭ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30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1447920"/>
            <a:ext cx="49150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69696"/>
                </a:solidFill>
                <a:latin typeface="Arial"/>
              </a:rPr>
              <a:t>Что рассказывают очевидцы ава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285120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шение пожара на 4-м энергоблоке ЧАЭС 26 апреля 1986 год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3020"/>
          <p:cNvPicPr/>
          <p:nvPr/>
        </p:nvPicPr>
        <p:blipFill>
          <a:blip r:embed="rId1"/>
          <a:stretch/>
        </p:blipFill>
        <p:spPr>
          <a:xfrm>
            <a:off x="1447920" y="1600200"/>
            <a:ext cx="62006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та радиоактивного загрязн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Карта радиоактивного загрязнения изотопом цезия-137:    закрытые зоны (более 40 Ки/км²)   зоны постоянного контроля (15—40 Ки/км²)   зоны периодического контроля (5—15 Ки/км²)   1—15 Ки/км² "/>
          <p:cNvPicPr/>
          <p:nvPr/>
        </p:nvPicPr>
        <p:blipFill>
          <a:blip r:embed="rId1"/>
          <a:stretch/>
        </p:blipFill>
        <p:spPr>
          <a:xfrm>
            <a:off x="2362320" y="1600200"/>
            <a:ext cx="43434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30T11:33:3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