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939-931B-4CC8-BA52-F12A5586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3E5-6A71-4A33-AE8D-DD0035C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4F5-5B35-49C9-B48D-B4893D35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A96-25B3-4A97-95BB-9635784C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1EC-D6AD-4D45-BA3F-33C82D0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C13-D01D-4913-9C23-A953D8E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76D-3A17-4267-9B8F-55466A87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4BE-0415-47D7-922B-102ACB3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969-35F5-4B40-996B-182648F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E85-2A82-459C-B7FE-455AE87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FEA-9D6F-4115-935E-99DC97D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84A-FD4F-4668-B822-4036BD3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37E-6B76-43B4-9A38-5A0FC1B5D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rtualtravel.ru/user/3778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rtualtravel.ru/user/3778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Arial"/>
              </a:rPr>
              <a:t>Чернобыль. Трагедия ХХ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п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2948"/>
          <p:cNvPicPr/>
          <p:nvPr/>
        </p:nvPicPr>
        <p:blipFill>
          <a:blip r:embed="rId1"/>
          <a:stretch/>
        </p:blipFill>
        <p:spPr>
          <a:xfrm>
            <a:off x="1371600" y="1600200"/>
            <a:ext cx="60580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 на город и Чернобыльскую АЭС с крыш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Вид на город и Чернобыльскую АЭС с крыши."/>
          <p:cNvPicPr/>
          <p:nvPr/>
        </p:nvPicPr>
        <p:blipFill>
          <a:blip r:embed="rId1"/>
          <a:stretch/>
        </p:blipFill>
        <p:spPr>
          <a:xfrm>
            <a:off x="1371600" y="1676520"/>
            <a:ext cx="6076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пять после трагед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027"/>
          <p:cNvPicPr/>
          <p:nvPr/>
        </p:nvPicPr>
        <p:blipFill>
          <a:blip r:embed="rId1"/>
          <a:stretch/>
        </p:blipFill>
        <p:spPr>
          <a:xfrm>
            <a:off x="1371600" y="1523880"/>
            <a:ext cx="63626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этажка в Припя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981"/>
          <p:cNvPicPr/>
          <p:nvPr/>
        </p:nvPicPr>
        <p:blipFill>
          <a:blip r:embed="rId1"/>
          <a:stretch/>
        </p:blipFill>
        <p:spPr>
          <a:xfrm>
            <a:off x="1143000" y="1600200"/>
            <a:ext cx="6972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инутые дома в прилегающих сел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окинутые дома в прилегающих селениях"/>
          <p:cNvPicPr/>
          <p:nvPr/>
        </p:nvPicPr>
        <p:blipFill>
          <a:blip r:embed="rId1"/>
          <a:stretch/>
        </p:blipFill>
        <p:spPr>
          <a:xfrm>
            <a:off x="1447920" y="1600200"/>
            <a:ext cx="64198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дбище в Рассох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868"/>
          <p:cNvPicPr/>
          <p:nvPr/>
        </p:nvPicPr>
        <p:blipFill>
          <a:blip r:embed="rId1"/>
          <a:stretch/>
        </p:blipFill>
        <p:spPr>
          <a:xfrm>
            <a:off x="1219320" y="1600200"/>
            <a:ext cx="66675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дбище зараженных машин в Рассох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988"/>
          <p:cNvPicPr/>
          <p:nvPr/>
        </p:nvPicPr>
        <p:blipFill>
          <a:blip r:embed="rId1"/>
          <a:stretch/>
        </p:blipFill>
        <p:spPr>
          <a:xfrm>
            <a:off x="1219320" y="1600200"/>
            <a:ext cx="6057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Кладбище техники. Чернобыль"/>
          <p:cNvPicPr/>
          <p:nvPr/>
        </p:nvPicPr>
        <p:blipFill>
          <a:blip r:embed="rId1"/>
          <a:stretch/>
        </p:blipFill>
        <p:spPr>
          <a:xfrm>
            <a:off x="1295280" y="1600200"/>
            <a:ext cx="6743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селе Бураки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ладбище техники. Чернобыль"/>
          <p:cNvPicPr/>
          <p:nvPr/>
        </p:nvPicPr>
        <p:blipFill>
          <a:blip r:embed="rId1"/>
          <a:stretch/>
        </p:blipFill>
        <p:spPr>
          <a:xfrm>
            <a:off x="1066680" y="1600200"/>
            <a:ext cx="67438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в Чернобы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вято-Иль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). Осталась о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двадца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овавших ра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территории з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0" y="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26 апреля 1986 г. весь мир "вздрогнул" от взрыва энергоблока, прозвучавшего на Чернобыльской АЭС.  Радиационная пыль протянулась "хвостом" через территорию Украины, Белоруссии, 14 областей России и накрыла часть территории Западной Европ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304920" y="1600200"/>
            <a:ext cx="6352920" cy="4761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окол скорби. Установлен в память о жертвах чернобыльской трагедии. Рядом с чернобыльской церков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ый знак,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ный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дцатилетию авари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ЭС. Парк в Чернобыл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озвращение в 1986 (79 фото)"/>
          <p:cNvPicPr/>
          <p:nvPr/>
        </p:nvPicPr>
        <p:blipFill>
          <a:blip r:embed="rId1"/>
          <a:stretch/>
        </p:blipFill>
        <p:spPr>
          <a:xfrm>
            <a:off x="152280" y="45720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многочисленных уроков Чернобыля состоит в том, чтобы не предполагать, а твердо знать, каким образом надо действовать в подобных экстремальных ситуациях. Надо уметь говорить с людьми не только в праздники, но и в часы испытаний. Боязнь и малодушие перед реальностью неизбежно оборачиваются потерями. А они были. И во многом как раз потому, что люди не знали, как себя в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факт о Чернобыльской трагедии произвел на вас самое большое впечат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еобходимо знать о трагедии в Чернобы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ы ли атомные станции? Можно ли обойтись без них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Землю можно назвать «хрупкой» плането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читаете, достаточно ли только знаний для безопасной эксплуатации атомной станц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числите качества, которыми должен обладать человек, «укрощающий» ядерную энерги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полагаемые причины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тор был неправильно спроектирован и опасе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 не был проинформирован об опасност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 допустил ряд ошибок и неумышленно нарушил существующие инструкции, частично из-за отсутствия информации об опасностях реа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ение защит либо не повлияло на развитие аварии либо не противоречило нормативным докумен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авка о Чернобыльской АЭ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ogo"/>
          <p:cNvPicPr/>
          <p:nvPr/>
        </p:nvPicPr>
        <p:blipFill>
          <a:blip r:embed="rId1"/>
          <a:stretch/>
        </p:blipFill>
        <p:spPr>
          <a:xfrm>
            <a:off x="990720" y="1600200"/>
            <a:ext cx="71247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 апреля 1986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600200"/>
            <a:ext cx="62485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рушенный реактор ЧАЭ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447920"/>
            <a:ext cx="49150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69696"/>
                </a:solidFill>
                <a:latin typeface="Arial"/>
              </a:rPr>
              <a:t>Что рассказывают очевидцы ава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512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шение пожара на 4-м энергоблоке ЧАЭС 26 апреля 1986 го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3020"/>
          <p:cNvPicPr/>
          <p:nvPr/>
        </p:nvPicPr>
        <p:blipFill>
          <a:blip r:embed="rId1"/>
          <a:stretch/>
        </p:blipFill>
        <p:spPr>
          <a:xfrm>
            <a:off x="1447920" y="1600200"/>
            <a:ext cx="6200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а радиоактивного загрязн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радиоактивного загрязнения изотопом цезия-137:    закрытые зоны (более 40 Ки/км²)   зоны постоянного контроля (15—40 Ки/км²)   зоны периодического контроля (5—15 Ки/км²)   1—15 Ки/км² "/>
          <p:cNvPicPr/>
          <p:nvPr/>
        </p:nvPicPr>
        <p:blipFill>
          <a:blip r:embed="rId1"/>
          <a:stretch/>
        </p:blipFill>
        <p:spPr>
          <a:xfrm>
            <a:off x="2362320" y="1600200"/>
            <a:ext cx="43434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30T11:33:3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