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EBE-17A6-4D79-BFD5-A24A7912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9A1-4974-4EEE-A559-491EF293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62E-9109-49AF-9F50-CFA3CFCF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D56-7529-45C4-89F4-3BB18057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08FE-0B77-4799-B95C-A6715158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6399-9E4D-483C-9C6A-2313394B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233C-9A9C-4529-B124-7DBEAB84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9F2C-F68D-4838-B38F-E0D5E1D0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A08E-CE8A-41C4-991A-C1B2B687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8883-4AFB-4D6C-A47A-3F9268CD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E88E-92FF-4DEF-BDDD-4CA8420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4D0-6CE2-4B04-8617-BFB39AA7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2C1F-6AC9-47F1-9852-1D7D5A80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2D0B-0B96-4A17-8161-E7756F4E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07C9-1FF9-4D30-A871-EABF06EF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6C02-632F-445A-895C-0A0DD1BA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C687-265B-4402-9041-96C89FC3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079-0975-4562-90C0-1B79498E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B06-9A82-4006-B3F4-1D7A152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F1C-0BC2-40E0-B8B1-6B54037C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375-2CAE-458A-B9A9-8C712D51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862-FB22-4C1E-BECF-DB725FB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8B3-A418-461A-9468-851017C5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64A-24CF-49B4-A0CC-31813DA6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11C9-38CE-4F43-8773-FE23D8C724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2133-2DEB-4145-BDAE-98EE7579FF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раль и зако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Monotype Corsiva"/>
              </a:rPr>
              <a:t>Конституци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о основной закон государства, определяющий общественное и государственное устройство, порядок и принципы образования органов власти, избирательную систему, права и обязанности граждан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лохие люди опасаютс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роступков, страшась наказания, хорошие – из-за любви к добродетел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                       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Ювена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85720" y="5715000"/>
            <a:ext cx="8534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Децим Юний Ювенал – римский поэт-сати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ите нормы морали, котор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рушил Анатол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 рассказ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Какие поступки регулируются моралью, а какие – правом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спивать алкогольные напи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грожать распра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вид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дружить со слаб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платить 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ебегать ули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вить рыб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ть стек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г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одить кос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рать чужие ве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мать дере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Какие из этих поступков регулируются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одновременно и моралью и правом?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99"/>
                </a:solidFill>
                <a:latin typeface="Monotype Corsiva"/>
              </a:rPr>
              <a:t>«Моральное» лото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рим зн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ений нравствен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няти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ранжировать эти качества по степени их наличия и проявления у себ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зовите то качество и нравственную категорию, которую вы считаете самыми важными в жизни, с помощью которых вы можете состояться, будучи взросл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аспущенность в манерах всегда влечет за собой распущенность принципов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С. Смайлс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Самюэль Смайлс – английский пис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Истинный показатель цивилизации –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уровень богатства и образования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величина городов, не обилие урожаев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а облик человека, воспитанного страной.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. Эмерсо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791320"/>
            <a:ext cx="8763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Monotype Corsiva"/>
              </a:rPr>
              <a:t>Ралф Уолдо Эмерсон - американский философ и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россвор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67080" y="109440"/>
            <a:ext cx="4724640" cy="2813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Человек, который рав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ушен к судьбе Отечеств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ыкновенный, обыч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граждан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Боязнь всего; черта, противоположная муже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Мужа, который все без разбора тащит в дом, хозяйственные жены уважительно называю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вседневный, серый, неинтересн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Незаинтересованное отношение ко всему, чужим бедам, страдан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Бездействие, склонность ничего не делать, не предприним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Человек, ожидающий свою «отвертк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Изм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Человек, в «ком нет любви к стране родной» (Т.Г. Шевченко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ыгода, преимущество перед друг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76320" y="685800"/>
            <a:ext cx="9055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Поступки мудрых людей продиктованы ум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людей менее сообразительных – опыт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самых невежественных – необходимостью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животных – природой</a:t>
            </a: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  Цицерон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49320"/>
            <a:ext cx="5715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Нормы жизни 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в обществе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обществе принято жить по правил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торые должны бы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орошо извест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с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09480"/>
            <a:ext cx="1523880" cy="556272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1121760 h 5562720"/>
              <a:gd name="textAreaBottom" fmla="*/ 388440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4" stAng="-5400000" swAng="-5400000"/>
                <a:lnTo>
                  <a:pt x="0" y="10727"/>
                </a:lnTo>
                <a:arcTo wR="21600" hR="8714" stAng="10800000" swAng="-2926067"/>
                <a:lnTo>
                  <a:pt x="14400" y="21102"/>
                </a:lnTo>
                <a:lnTo>
                  <a:pt x="21600" y="18434"/>
                </a:lnTo>
                <a:lnTo>
                  <a:pt x="14400" y="14769"/>
                </a:lnTo>
                <a:lnTo>
                  <a:pt x="14400" y="16929"/>
                </a:lnTo>
                <a:arcTo wR="21600" hR="8714" stAng="7873933" swAng="2764916"/>
                <a:lnTo>
                  <a:pt x="145" y="9720"/>
                </a:lnTo>
                <a:arcTo wR="21600" hR="8714" stAng="-10638849" swAng="5238849"/>
                <a:close/>
              </a:path>
              <a:path fill="darkenLess" w="21600" h="21600">
                <a:moveTo>
                  <a:pt x="21600" y="0"/>
                </a:moveTo>
                <a:arcTo wR="21600" hR="8714" stAng="-5400000" swAng="-5400000"/>
                <a:lnTo>
                  <a:pt x="0" y="8714"/>
                </a:lnTo>
                <a:arcTo wR="21600" hR="8714" stAng="10800000" swAng="-161151"/>
                <a:lnTo>
                  <a:pt x="145" y="9720"/>
                </a:lnTo>
                <a:arcTo wR="21600" hR="8714" stAng="-10638849" swAng="5238849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0560" y="609480"/>
            <a:ext cx="1527120" cy="5567400"/>
          </a:xfrm>
          <a:custGeom>
            <a:avLst/>
            <a:gdLst>
              <a:gd name="textAreaLeft" fmla="*/ 204480 w 1527120"/>
              <a:gd name="textAreaRight" fmla="*/ 1322640 w 1527120"/>
              <a:gd name="textAreaTop" fmla="*/ 1129320 h 5567400"/>
              <a:gd name="textAreaBottom" fmla="*/ 3881160 h 55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2936104"/>
                <a:lnTo>
                  <a:pt x="7200" y="21099"/>
                </a:lnTo>
                <a:lnTo>
                  <a:pt x="0" y="18485"/>
                </a:lnTo>
                <a:lnTo>
                  <a:pt x="7200" y="14869"/>
                </a:lnTo>
                <a:lnTo>
                  <a:pt x="7200" y="17029"/>
                </a:lnTo>
                <a:arcTo wR="21600" hR="8765" stAng="2936104" swAng="-2783302"/>
                <a:lnTo>
                  <a:pt x="21471" y="9720"/>
                </a:lnTo>
                <a:arcTo wR="21600" hR="8765" stAng="-152803" swAng="-5247197"/>
                <a:close/>
              </a:path>
              <a:path fill="darkenLess"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-152803"/>
                <a:lnTo>
                  <a:pt x="21471" y="9720"/>
                </a:lnTo>
                <a:arcTo wR="21600" hR="8765" stAng="-152803" swAng="-5247197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4191120"/>
            <a:ext cx="472428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мораль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00400" y="5181480"/>
            <a:ext cx="47242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раво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Есть две морали: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одна пасс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запрещающая делать зло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другая – акт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которая повелевает делать добро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</a:t>
            </a:r>
            <a:r>
              <a:rPr b="1" i="1" lang="ru-RU" sz="4000" spc="-1" strike="noStrike">
                <a:solidFill>
                  <a:srgbClr val="ffff99"/>
                </a:solidFill>
                <a:latin typeface="Monotype Corsiva"/>
              </a:rPr>
              <a:t>П. Буас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Буаст Пьер – французский лексикогра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Мора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вокупность норм и правил, принятых в обществе, регулирующих поступки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и нормы нигде не записан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юди определили для себя, что можно делать в обществе, а чего нельз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ая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ое порицание, неодобр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Monotype Corsiva"/>
              </a:rPr>
              <a:t>Прав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истема общеобязательных норм (правил), установленных или санкционированных государством, направленных на урегулирование общественных отношений и обеспечиваемых мерами государственного прину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реплено в Конституции РФ, закон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танавливает Государ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вовая (юридическая)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06:25:16Z</dcterms:created>
  <dc:creator>USER</dc:creator>
  <dc:description/>
  <dc:language>en-US</dc:language>
  <cp:lastModifiedBy>USER</cp:lastModifiedBy>
  <dcterms:modified xsi:type="dcterms:W3CDTF">2006-01-29T13:25:43Z</dcterms:modified>
  <cp:revision>40</cp:revision>
  <dc:subject/>
  <dc:title>Мораль и закон</dc:title>
</cp:coreProperties>
</file>