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5C0-3428-4F18-84A0-1B4735FA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DB8-4925-47FE-896C-178CD949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4E7-6B98-423B-AEC2-4264C916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E24-D084-42F6-ABBB-CD394E31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5C65-8F88-4338-9BFE-21A22398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EE5B-6EEF-4818-A804-78A758BE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9543-0C02-4AE1-81FA-214156A8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1E75-B192-424D-AFD9-7B3EADB2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8568-3334-4FA4-92B2-AE478D41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1E6D-1C9F-45AF-853A-DC312D78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1DD2-6BBD-4E1E-937E-958B0C5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D89-FEA1-4526-918A-50105A6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05DF-1A7D-43C9-8603-4E6BC0C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CA00-32AD-4E35-9545-9CE4ED47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5E16-355B-4DC1-8304-653A1346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6A88-05C0-4BE0-8CFB-F114F86A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5C5B-707D-4679-B812-17BBA100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508-2D0F-41FA-83C7-6247619B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4740-ADF9-45A0-BB8E-C9171FFF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15D9-5DAA-4125-A0E5-22FB4D03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E6F-2A1A-4D8E-A824-B1592806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41CE-E1ED-4739-9768-3F4D06CE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CB0-E39B-4C90-9F6D-4C7EB4D8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CA0-A380-4323-80AB-D5AEBA8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CA2B-38B9-4D6C-85FA-2116CA8986D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6565-FFE3-4084-94EC-1311256EB3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раль и закон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ассный ча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Monotype Corsiva"/>
              </a:rPr>
              <a:t>Конституция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о основной закон государства, определяющий общественное и государственное устройство, порядок и принципы образования органов власти, избирательную систему, права и обязанности граждан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лохие люди опасаются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проступков, страшась наказания, хорошие – из-за любви к добродетели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                      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Ювена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585720" y="5715000"/>
            <a:ext cx="8534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Децим Юний Ювенал – римский поэт-сати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ите нормы морали, которы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нарушил Анатол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рассказ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Какие поступки регулируются моралью, а какие – правом: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спивать алкогольные напи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грожать распра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вид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дружить со слаб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е платить налог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ебегать улиц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вить рыб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ть стекл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г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зводить кост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рать чужие ве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омать деревь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5638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Какие из этих поступков регулируются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одновременно и моралью и правом?</a:t>
            </a:r>
            <a:r>
              <a:rPr b="0" lang="en-US" sz="2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99"/>
                </a:solidFill>
                <a:latin typeface="Monotype Corsiva"/>
              </a:rPr>
              <a:t>«Моральное» лото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оверим зна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ределений нравственных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онятий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оранжировать эти качества по степени их наличия и проявления у себ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азовите то качество и нравственную категорию, которую вы считаете самыми важными в жизни, с помощью которых вы можете состояться, будучи взросл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аспущенность в манерах всегда влечет за собой распущенность принципов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С. Смайлс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Самюэль Смайлс – английский пис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2189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Истинный показатель цивилизации –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уровень богатства и образования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не величина городов, не обилие урожаев,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а облик человека, воспитанного страной.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	</a:t>
            </a: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Р. Эмерс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791320"/>
            <a:ext cx="8763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bd71"/>
                </a:solidFill>
                <a:latin typeface="Monotype Corsiva"/>
              </a:rPr>
              <a:t>Ралф Уолдо Эмерсон - американский философ и поэ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кроссворд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67080" y="109440"/>
            <a:ext cx="4724640" cy="2813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ВЕРТИК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. Человек, который равно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ушен к судьбе Отечества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ыкновенный, обычный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е граждани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ПО ГОРИЗОНТ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Боязнь всего; черта, противоположная муже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Мужа, который все без разбора тащит в дом, хозяйственные жены уважительно называю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Повседневный, серый, неинтересн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Незаинтересованное отношение ко всему, чужим бедам, страдания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 Бездействие, склонность ничего не делать, не предпринима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. Человек, ожидающий свою «отвертку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. Изм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. Человек, в «ком нет любви к стране родной» (Т.Г. Шевченко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. Выгода, преимущество перед други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562720" y="-360"/>
            <a:ext cx="35812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веты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76320" y="685800"/>
            <a:ext cx="90550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Поступки мудрых людей продиктованы ум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людей менее сообразительных – опытом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самых невежественных – необходимостью, </a:t>
            </a:r>
            <a:br>
              <a:rPr sz="4800"/>
            </a:br>
            <a:r>
              <a:rPr b="1" i="1" lang="en-US" sz="4800" spc="-1" strike="noStrike">
                <a:solidFill>
                  <a:srgbClr val="ffff99"/>
                </a:solidFill>
                <a:latin typeface="Monotype Corsiva"/>
              </a:rPr>
              <a:t>животных – природой</a:t>
            </a: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</a:t>
            </a:r>
            <a:br>
              <a:rPr sz="3200"/>
            </a:br>
            <a:r>
              <a:rPr b="1" i="1" lang="en-US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  Цицерон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49320"/>
            <a:ext cx="57150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Нормы жизни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в обществе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обществе принято жить по правила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оторые должны быт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хорошо извест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вс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09480"/>
            <a:ext cx="1523880" cy="5562720"/>
          </a:xfrm>
          <a:custGeom>
            <a:avLst/>
            <a:gdLst>
              <a:gd name="textAreaLeft" fmla="*/ 204120 w 1523880"/>
              <a:gd name="textAreaRight" fmla="*/ 1319760 w 1523880"/>
              <a:gd name="textAreaTop" fmla="*/ 1121760 h 5562720"/>
              <a:gd name="textAreaBottom" fmla="*/ 3884400 h 556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4" stAng="-5400000" swAng="-5400000"/>
                <a:lnTo>
                  <a:pt x="0" y="10727"/>
                </a:lnTo>
                <a:arcTo wR="21600" hR="8714" stAng="10800000" swAng="-2926067"/>
                <a:lnTo>
                  <a:pt x="14400" y="21102"/>
                </a:lnTo>
                <a:lnTo>
                  <a:pt x="21600" y="18434"/>
                </a:lnTo>
                <a:lnTo>
                  <a:pt x="14400" y="14769"/>
                </a:lnTo>
                <a:lnTo>
                  <a:pt x="14400" y="16929"/>
                </a:lnTo>
                <a:arcTo wR="21600" hR="8714" stAng="7873933" swAng="2764916"/>
                <a:lnTo>
                  <a:pt x="145" y="9720"/>
                </a:lnTo>
                <a:arcTo wR="21600" hR="8714" stAng="-10638849" swAng="5238849"/>
                <a:close/>
              </a:path>
              <a:path fill="darkenLess" w="21600" h="21600">
                <a:moveTo>
                  <a:pt x="21600" y="0"/>
                </a:moveTo>
                <a:arcTo wR="21600" hR="8714" stAng="-5400000" swAng="-5400000"/>
                <a:lnTo>
                  <a:pt x="0" y="8714"/>
                </a:lnTo>
                <a:arcTo wR="21600" hR="8714" stAng="10800000" swAng="-161151"/>
                <a:lnTo>
                  <a:pt x="145" y="9720"/>
                </a:lnTo>
                <a:arcTo wR="21600" hR="8714" stAng="-10638849" swAng="5238849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40560" y="609480"/>
            <a:ext cx="1527120" cy="5567400"/>
          </a:xfrm>
          <a:custGeom>
            <a:avLst/>
            <a:gdLst>
              <a:gd name="textAreaLeft" fmla="*/ 204480 w 1527120"/>
              <a:gd name="textAreaRight" fmla="*/ 1322640 w 1527120"/>
              <a:gd name="textAreaTop" fmla="*/ 1129320 h 5567400"/>
              <a:gd name="textAreaBottom" fmla="*/ 3881160 h 556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2936104"/>
                <a:lnTo>
                  <a:pt x="7200" y="21099"/>
                </a:lnTo>
                <a:lnTo>
                  <a:pt x="0" y="18485"/>
                </a:lnTo>
                <a:lnTo>
                  <a:pt x="7200" y="14869"/>
                </a:lnTo>
                <a:lnTo>
                  <a:pt x="7200" y="17029"/>
                </a:lnTo>
                <a:arcTo wR="21600" hR="8765" stAng="2936104" swAng="-2783302"/>
                <a:lnTo>
                  <a:pt x="21471" y="9720"/>
                </a:lnTo>
                <a:arcTo wR="21600" hR="8765" stAng="-152803" swAng="-5247197"/>
                <a:close/>
              </a:path>
              <a:path fill="darkenLess" w="21600" h="21600">
                <a:moveTo>
                  <a:pt x="0" y="0"/>
                </a:moveTo>
                <a:arcTo wR="21600" hR="8765" stAng="-5400000" swAng="5400000"/>
                <a:lnTo>
                  <a:pt x="21600" y="10675"/>
                </a:lnTo>
                <a:arcTo wR="21600" hR="8765" stAng="0" swAng="-152803"/>
                <a:lnTo>
                  <a:pt x="21471" y="9720"/>
                </a:lnTo>
                <a:arcTo wR="21600" hR="8765" stAng="-152803" swAng="-5247197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43000" y="4191120"/>
            <a:ext cx="472428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мораль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00400" y="5181480"/>
            <a:ext cx="47242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право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3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3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1294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Есть две морали: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одна пасс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запрещающая делать зло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другая – активная, </a:t>
            </a:r>
            <a:br>
              <a:rPr sz="4400"/>
            </a:br>
            <a:r>
              <a:rPr b="1" i="1" lang="ru-RU" sz="4400" spc="-1" strike="noStrike">
                <a:solidFill>
                  <a:srgbClr val="ffff99"/>
                </a:solidFill>
                <a:latin typeface="Monotype Corsiva"/>
              </a:rPr>
              <a:t>которая повелевает делать добро.</a:t>
            </a:r>
            <a:br>
              <a:rPr sz="4400"/>
            </a:br>
            <a:r>
              <a:rPr b="1" i="1" lang="ru-RU" sz="32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</a:t>
            </a:r>
            <a:r>
              <a:rPr b="1" i="1" lang="ru-RU" sz="4000" spc="-1" strike="noStrike">
                <a:solidFill>
                  <a:srgbClr val="ffff99"/>
                </a:solidFill>
                <a:latin typeface="Monotype Corsiva"/>
              </a:rPr>
              <a:t>П. Буаст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201600"/>
            <a:ext cx="5029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Monotype Corsiva"/>
              </a:rPr>
              <a:t>В мире мудрых мысл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6095880"/>
            <a:ext cx="853416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Monotype Corsiva"/>
              </a:rPr>
              <a:t>Буаст Пьер – французский лексикогра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Морал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овокупность норм и правил, принятых в обществе, регулирующих поступки челове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Эти нормы нигде не записаны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Люди определили для себя, что можно делать в обществе, а чего нельз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ая ответственнос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моральное порицание, неодобр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Monotype Corsiva"/>
              </a:rPr>
              <a:t>Право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истема общеобязательных норм (правил), установленных или санкционированных государством, направленных на урегулирование общественных отношений и обеспечиваемых мерами государственного принужд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Закреплено в Конституции РФ, закон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танавливает Государ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вовая (юридическая) ответственност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06:25:16Z</dcterms:created>
  <dc:creator>USER</dc:creator>
  <dc:description/>
  <dc:language>en-US</dc:language>
  <cp:lastModifiedBy>USER</cp:lastModifiedBy>
  <dcterms:modified xsi:type="dcterms:W3CDTF">2006-01-29T13:25:43Z</dcterms:modified>
  <cp:revision>40</cp:revision>
  <dc:subject/>
  <dc:title>Мораль и закон</dc:title>
</cp:coreProperties>
</file>