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98C-568B-423E-B33E-B0D57047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C12-BA61-47D4-8D46-F0C61079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3F5-AEA0-4A49-9B6B-21D38A78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8DA-F082-43DE-8094-E6C5A422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4707-D5AF-4377-A8C5-9B0067A8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6BAD-8CBA-4303-AFDD-32C14621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B954-E1E9-4559-907F-699F5CD0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29F6-1060-4A1F-B015-A6CD75D0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0155-DE84-498B-8A8D-F10CEAA5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68FA-86FA-45A4-B371-D19D08B3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2126-C7DD-4361-9A17-732AA649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88A-99D3-4FC0-91ED-B4F605C5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C0E8-2E17-4EA8-953F-2709C197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2D42-C0F5-47C4-9DF2-87099B01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5404-4A75-4581-A4A4-5A5A9E89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2E75-E66A-4223-BF6D-AB253C9E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4B38-8DE1-4C74-BBBC-1C2D0E23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658-0EFB-400F-91C4-649E697C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6E5-7C1E-45C5-838E-674A6B3A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999-ED6C-4D21-862C-4C549773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BF3-672A-4BA6-869F-C2220A99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CD1-C4FB-4966-A042-395F18E2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726-99D1-4411-953C-FF3C8895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8B4-2BFC-43A8-B569-40D168E8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DD9E-5BE1-4584-97BF-42F3B3189A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8E08-3B5F-4AAA-88C8-B70930C62C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раль и закон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Monotype Corsiva"/>
              </a:rPr>
              <a:t>Конституци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о основной закон государства, определяющий общественное и государственное устройство, порядок и принципы образования органов власти, избирательную систему, права и обязанности граждан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лохие люди опасаютс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роступков, страшась наказания, хорошие – из-за любви к добродетел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                       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Ювена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85720" y="5715000"/>
            <a:ext cx="8534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Децим Юний Ювенал – римский поэт-сати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ите нормы морали, котор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рушил Анатол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 рассказ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Какие поступки регулируются моралью, а какие – правом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спивать алкогольные напи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грожать распра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вид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дружить со слаб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платить на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ебегать ули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вить рыб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ть стек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г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водить кос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рать чужие ве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мать дерев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Какие из этих поступков регулируются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одновременно и моралью и правом?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99"/>
                </a:solidFill>
                <a:latin typeface="Monotype Corsiva"/>
              </a:rPr>
              <a:t>«Моральное» лото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рим зн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ений нравствен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няти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ранжировать эти качества по степени их наличия и проявления у себ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зовите то качество и нравственную категорию, которую вы считаете самыми важными в жизни, с помощью которых вы можете состояться, будучи взросл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аспущенность в манерах всегда влечет за собой распущенность принципов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С. Смайлс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Самюэль Смайлс – английский пис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Истинный показатель цивилизации –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уровень богатства и образования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величина городов, не обилие урожаев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а облик человека, воспитанного страной.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. Эмерсо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791320"/>
            <a:ext cx="8763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Monotype Corsiva"/>
              </a:rPr>
              <a:t>Ралф Уолдо Эмерсон - американский философ и поэ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россвор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67080" y="109440"/>
            <a:ext cx="4724640" cy="2813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ВЕРТИК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Человек, который рав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ушен к судьбе Отечеств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ыкновенный, обыч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 граждан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Боязнь всего; черта, противоположная муже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Мужа, который все без разбора тащит в дом, хозяйственные жены уважительно называют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Повседневный, серый, неинтересн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Незаинтересованное отношение ко всему, чужим бедам, страдани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Бездействие, склонность ничего не делать, не предприним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Человек, ожидающий свою «отвертк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Изм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Человек, в «ком нет любви к стране родной» (Т.Г. Шевченко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Выгода, преимущество перед друг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76320" y="685800"/>
            <a:ext cx="9055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Поступки мудрых людей продиктованы ум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людей менее сообразительных – опыт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самых невежественных – необходимостью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животных – природой</a:t>
            </a: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  Цицерон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49320"/>
            <a:ext cx="5715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Нормы жизни 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в обществе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обществе принято жить по правил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торые должны бы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орошо извест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се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09480"/>
            <a:ext cx="1523880" cy="556272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1121760 h 5562720"/>
              <a:gd name="textAreaBottom" fmla="*/ 388440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4" stAng="-5400000" swAng="-5400000"/>
                <a:lnTo>
                  <a:pt x="0" y="10727"/>
                </a:lnTo>
                <a:arcTo wR="21600" hR="8714" stAng="10800000" swAng="-2926067"/>
                <a:lnTo>
                  <a:pt x="14400" y="21102"/>
                </a:lnTo>
                <a:lnTo>
                  <a:pt x="21600" y="18434"/>
                </a:lnTo>
                <a:lnTo>
                  <a:pt x="14400" y="14769"/>
                </a:lnTo>
                <a:lnTo>
                  <a:pt x="14400" y="16929"/>
                </a:lnTo>
                <a:arcTo wR="21600" hR="8714" stAng="7873933" swAng="2764916"/>
                <a:lnTo>
                  <a:pt x="145" y="9720"/>
                </a:lnTo>
                <a:arcTo wR="21600" hR="8714" stAng="-10638849" swAng="5238849"/>
                <a:close/>
              </a:path>
              <a:path fill="darkenLess" w="21600" h="21600">
                <a:moveTo>
                  <a:pt x="21600" y="0"/>
                </a:moveTo>
                <a:arcTo wR="21600" hR="8714" stAng="-5400000" swAng="-5400000"/>
                <a:lnTo>
                  <a:pt x="0" y="8714"/>
                </a:lnTo>
                <a:arcTo wR="21600" hR="8714" stAng="10800000" swAng="-161151"/>
                <a:lnTo>
                  <a:pt x="145" y="9720"/>
                </a:lnTo>
                <a:arcTo wR="21600" hR="8714" stAng="-10638849" swAng="5238849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0560" y="609480"/>
            <a:ext cx="1527120" cy="5567400"/>
          </a:xfrm>
          <a:custGeom>
            <a:avLst/>
            <a:gdLst>
              <a:gd name="textAreaLeft" fmla="*/ 204480 w 1527120"/>
              <a:gd name="textAreaRight" fmla="*/ 1322640 w 1527120"/>
              <a:gd name="textAreaTop" fmla="*/ 1129320 h 5567400"/>
              <a:gd name="textAreaBottom" fmla="*/ 3881160 h 55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2936104"/>
                <a:lnTo>
                  <a:pt x="7200" y="21099"/>
                </a:lnTo>
                <a:lnTo>
                  <a:pt x="0" y="18485"/>
                </a:lnTo>
                <a:lnTo>
                  <a:pt x="7200" y="14869"/>
                </a:lnTo>
                <a:lnTo>
                  <a:pt x="7200" y="17029"/>
                </a:lnTo>
                <a:arcTo wR="21600" hR="8765" stAng="2936104" swAng="-2783302"/>
                <a:lnTo>
                  <a:pt x="21471" y="9720"/>
                </a:lnTo>
                <a:arcTo wR="21600" hR="8765" stAng="-152803" swAng="-5247197"/>
                <a:close/>
              </a:path>
              <a:path fill="darkenLess"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-152803"/>
                <a:lnTo>
                  <a:pt x="21471" y="9720"/>
                </a:lnTo>
                <a:arcTo wR="21600" hR="8765" stAng="-152803" swAng="-5247197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4191120"/>
            <a:ext cx="472428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мораль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00400" y="5181480"/>
            <a:ext cx="47242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право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3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Есть две морали: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одна пасс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запрещающая делать зло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другая – акт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которая повелевает делать добро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</a:t>
            </a:r>
            <a:r>
              <a:rPr b="1" i="1" lang="ru-RU" sz="4000" spc="-1" strike="noStrike">
                <a:solidFill>
                  <a:srgbClr val="ffff99"/>
                </a:solidFill>
                <a:latin typeface="Monotype Corsiva"/>
              </a:rPr>
              <a:t>П. Буас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Буаст Пьер – французский лексикогра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Мора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вокупность норм и правил, принятых в обществе, регулирующих поступки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и нормы нигде не записан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юди определили для себя, что можно делать в обществе, а чего нельз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ая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ое порицание, неодобр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Monotype Corsiva"/>
              </a:rPr>
              <a:t>Право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истема общеобязательных норм (правил), установленных или санкционированных государством, направленных на урегулирование общественных отношений и обеспечиваемых мерами государственного прину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креплено в Конституции РФ, закон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танавливает Государ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вовая (юридическая)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06:25:16Z</dcterms:created>
  <dc:creator>USER</dc:creator>
  <dc:description/>
  <dc:language>en-US</dc:language>
  <cp:lastModifiedBy>USER</cp:lastModifiedBy>
  <dcterms:modified xsi:type="dcterms:W3CDTF">2006-01-29T13:25:43Z</dcterms:modified>
  <cp:revision>40</cp:revision>
  <dc:subject/>
  <dc:title>Мораль и закон</dc:title>
</cp:coreProperties>
</file>