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88B65-DA0E-4AAA-A5A5-75A6A07B6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8C99F-6610-406C-A06A-DF5423A6A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CCA42-C7F0-4048-A24C-EC4E9CA96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9C775-B90B-4B78-A598-E79427313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5D662-E67D-4790-B26A-94B3A78B1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3EBC9-B606-496C-8A73-CE8992F8C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D19BD-90FB-4BFC-9E31-26F2185F5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FAB80-6BDA-4E15-94FF-823DC20BF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47BC1-4A02-49E0-962D-62294D0AB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AC5F8-41AE-44FC-AE2E-AF3A1DC7E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26B19-9AEB-4742-A979-6435BF98C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FA582-D291-4552-8BED-3F8600319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2DFA9-06E8-47CB-8EEE-9E748661B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E191E-FC4A-413B-B031-AD47CF18E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6D4A9-92DC-4053-83F3-D45335350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1B970-1D49-47EA-9BB6-89CD88ACE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670F7-DAF8-41E4-8130-186264067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57C5F-4822-4BA0-8E65-DA3EB6153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5E4A4-A6D9-4C40-B817-5EEC646A2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826E7-4EF2-499F-B10C-B18F5B925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9D2E4-538E-4034-9FDE-D48082E3E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2E41F-61A6-4E43-AEC5-57D5DD488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CADBA-0BEB-4EFC-B1F1-66CAB5D7B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F9ED5-FD8B-485E-855C-D4A02DA30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F46E2-70B3-446C-87B7-6ABD391B9401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486EA-D15E-496E-B12D-FB1871678F1C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Мораль и закон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Классный час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99"/>
                </a:solidFill>
                <a:latin typeface="Monotype Corsiva"/>
              </a:rPr>
              <a:t>Конституция</a:t>
            </a:r>
            <a:endParaRPr b="0" lang="en-US" sz="7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14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это основной закон государства, определяющий общественное и государственное устройство, порядок и принципы образования органов власти, избирательную систему, права и обязанности граждан.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962520" y="201600"/>
            <a:ext cx="502920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Monotype Corsiva"/>
              </a:rPr>
              <a:t>В мире мудрых мыслей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52280" y="1294920"/>
            <a:ext cx="883944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99"/>
                </a:solidFill>
                <a:latin typeface="Monotype Corsiva"/>
              </a:rPr>
              <a:t>Плохие люди опасаются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99"/>
                </a:solidFill>
                <a:latin typeface="Monotype Corsiva"/>
              </a:rPr>
              <a:t>проступков, страшась наказания, хорошие – из-за любви к добродетели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99"/>
                </a:solidFill>
                <a:latin typeface="Monotype Corsiva"/>
              </a:rPr>
              <a:t>                       </a:t>
            </a:r>
            <a:r>
              <a:rPr b="1" lang="en-US" sz="4800" spc="-1" strike="noStrike">
                <a:solidFill>
                  <a:srgbClr val="ffff99"/>
                </a:solidFill>
                <a:latin typeface="Monotype Corsiva"/>
              </a:rPr>
              <a:t>Ювенал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"/>
          <p:cNvSpPr/>
          <p:nvPr/>
        </p:nvSpPr>
        <p:spPr>
          <a:xfrm>
            <a:off x="585720" y="5715000"/>
            <a:ext cx="8534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bbd71"/>
                </a:solidFill>
                <a:latin typeface="Monotype Corsiva"/>
              </a:rPr>
              <a:t>Децим Юний Ювенал – римский поэт-сатири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Определите нормы морали, которые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нарушил Анатолий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в рассказе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Какие поступки регулируются моралью, а какие – правом:</a:t>
            </a: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800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Распивать алкогольные напитки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Угрожать расправо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Завидоват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Не дружить со слабым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Не платить налог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Перебегать улицу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952520" y="1599840"/>
            <a:ext cx="40388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Ловить рыбу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Бить стекл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Лгат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Разводить костр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Брать чужие вещ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Ломать деревь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"/>
          <p:cNvSpPr/>
          <p:nvPr/>
        </p:nvSpPr>
        <p:spPr>
          <a:xfrm>
            <a:off x="533520" y="56386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Какие из этих поступков регулируются</a:t>
            </a:r>
            <a:br>
              <a:rPr sz="2800"/>
            </a:b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одновременно и моралью и правом?</a:t>
            </a:r>
            <a:r>
              <a:rPr b="0" lang="en-US" sz="2800" spc="-1" strike="noStrike">
                <a:solidFill>
                  <a:srgbClr val="dbbd71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93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99"/>
                </a:solidFill>
                <a:latin typeface="Monotype Corsiva"/>
              </a:rPr>
              <a:t>«Моральное» лото</a:t>
            </a: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437920"/>
            <a:ext cx="8229600" cy="369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Проверим знания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определений нравственных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понятий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Задание: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проранжировать эти качества по степени их наличия и проявления у себя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назовите то качество и нравственную категорию, которую вы считаете самыми важными в жизни, с помощью которых вы можете состояться, будучи взрослыми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90360" y="1294920"/>
            <a:ext cx="75438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99"/>
                </a:solidFill>
                <a:latin typeface="Monotype Corsiva"/>
              </a:rPr>
              <a:t>Распущенность в манерах всегда влечет за собой распущенность принципов.</a:t>
            </a:r>
            <a:br>
              <a:rPr sz="4400"/>
            </a:br>
            <a:r>
              <a:rPr b="1" i="1" lang="ru-RU" sz="3200" spc="-1" strike="noStrike">
                <a:solidFill>
                  <a:srgbClr val="ffff99"/>
                </a:solidFill>
                <a:latin typeface="Monotype Corsiva"/>
              </a:rPr>
              <a:t>                                              С. Смайлс</a:t>
            </a: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962520" y="201600"/>
            <a:ext cx="502920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Monotype Corsiva"/>
              </a:rPr>
              <a:t>В мире мудрых мысле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04920" y="6095880"/>
            <a:ext cx="8534160" cy="6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bbd71"/>
                </a:solidFill>
                <a:latin typeface="Monotype Corsiva"/>
              </a:rPr>
              <a:t>Самюэль Смайлс – английский писател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52280" y="1218960"/>
            <a:ext cx="88394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99"/>
                </a:solidFill>
                <a:latin typeface="Monotype Corsiva"/>
              </a:rPr>
              <a:t>Истинный показатель цивилизации –</a:t>
            </a:r>
            <a:br>
              <a:rPr sz="4400"/>
            </a:br>
            <a:r>
              <a:rPr b="1" i="1" lang="ru-RU" sz="4400" spc="-1" strike="noStrike">
                <a:solidFill>
                  <a:srgbClr val="ffff99"/>
                </a:solidFill>
                <a:latin typeface="Monotype Corsiva"/>
              </a:rPr>
              <a:t>не уровень богатства и образования,</a:t>
            </a:r>
            <a:br>
              <a:rPr sz="4400"/>
            </a:br>
            <a:r>
              <a:rPr b="1" i="1" lang="ru-RU" sz="4400" spc="-1" strike="noStrike">
                <a:solidFill>
                  <a:srgbClr val="ffff99"/>
                </a:solidFill>
                <a:latin typeface="Monotype Corsiva"/>
              </a:rPr>
              <a:t>не величина городов, не обилие урожаев,</a:t>
            </a:r>
            <a:br>
              <a:rPr sz="4400"/>
            </a:br>
            <a:r>
              <a:rPr b="1" i="1" lang="ru-RU" sz="4400" spc="-1" strike="noStrike">
                <a:solidFill>
                  <a:srgbClr val="ffff99"/>
                </a:solidFill>
                <a:latin typeface="Monotype Corsiva"/>
              </a:rPr>
              <a:t>а облик человека, воспитанного страной.</a:t>
            </a:r>
            <a:br>
              <a:rPr sz="4400"/>
            </a:br>
            <a:r>
              <a:rPr b="1" i="1" lang="ru-RU" sz="4400" spc="-1" strike="noStrike">
                <a:solidFill>
                  <a:srgbClr val="ffff99"/>
                </a:solidFill>
                <a:latin typeface="Monotype Corsiva"/>
              </a:rPr>
              <a:t>	</a:t>
            </a:r>
            <a:r>
              <a:rPr b="1" i="1" lang="ru-RU" sz="4400" spc="-1" strike="noStrike">
                <a:solidFill>
                  <a:srgbClr val="ffff99"/>
                </a:solidFill>
                <a:latin typeface="Monotype Corsiva"/>
              </a:rPr>
              <a:t>	</a:t>
            </a:r>
            <a:r>
              <a:rPr b="1" i="1" lang="ru-RU" sz="4400" spc="-1" strike="noStrike">
                <a:solidFill>
                  <a:srgbClr val="ffff99"/>
                </a:solidFill>
                <a:latin typeface="Monotype Corsiva"/>
              </a:rPr>
              <a:t>	</a:t>
            </a:r>
            <a:r>
              <a:rPr b="1" i="1" lang="ru-RU" sz="4400" spc="-1" strike="noStrike">
                <a:solidFill>
                  <a:srgbClr val="ffff99"/>
                </a:solidFill>
                <a:latin typeface="Monotype Corsiva"/>
              </a:rPr>
              <a:t>	</a:t>
            </a:r>
            <a:r>
              <a:rPr b="1" i="1" lang="ru-RU" sz="4400" spc="-1" strike="noStrike">
                <a:solidFill>
                  <a:srgbClr val="ffff99"/>
                </a:solidFill>
                <a:latin typeface="Monotype Corsiva"/>
              </a:rPr>
              <a:t>	</a:t>
            </a:r>
            <a:r>
              <a:rPr b="1" i="1" lang="ru-RU" sz="4400" spc="-1" strike="noStrike">
                <a:solidFill>
                  <a:srgbClr val="ffff99"/>
                </a:solidFill>
                <a:latin typeface="Monotype Corsiva"/>
              </a:rPr>
              <a:t>	</a:t>
            </a:r>
            <a:r>
              <a:rPr b="1" i="1" lang="ru-RU" sz="4400" spc="-1" strike="noStrike">
                <a:solidFill>
                  <a:srgbClr val="ffff99"/>
                </a:solidFill>
                <a:latin typeface="Monotype Corsiva"/>
              </a:rPr>
              <a:t>Р. Эмерсон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962520" y="201600"/>
            <a:ext cx="502920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Monotype Corsiva"/>
              </a:rPr>
              <a:t>В мире мудрых мысле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80880" y="5791320"/>
            <a:ext cx="87631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bbd71"/>
                </a:solidFill>
                <a:latin typeface="Monotype Corsiva"/>
              </a:rPr>
              <a:t>Ралф Уолдо Эмерсон - американский философ и поэт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bbd71"/>
                </a:solidFill>
                <a:latin typeface="Arial"/>
              </a:rPr>
              <a:t>кроссворд: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4267080" y="109440"/>
            <a:ext cx="4724640" cy="281304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52280" y="914400"/>
            <a:ext cx="88394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ПО ВЕРТИКАЛИ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0. Человек, который равно-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душен к судьбе Отечества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обыкновенный, обычный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не гражданин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ПО ГОРИЗОНТАЛИ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. Боязнь всего; черта, противоположная мужеству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. Мужа, который все без разбора тащит в дом, хозяйственные жены уважительно называют …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. Повседневный, серый, неинтересный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4. Незаинтересованное отношение ко всему, чужим бедам, страданиям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5. Бездействие, склонность ничего не делать, не предпринимать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6. Человек, ожидающий свою «отвертку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7. Измена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8. Человек, в «ком нет любви к стране родной» (Т.Г. Шевченко)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9. Выгода, преимущество перед другими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562720" y="-360"/>
            <a:ext cx="358128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Ответы: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>
            <a:alphaModFix amt="49000"/>
          </a:blip>
          <a:stretch/>
        </p:blipFill>
        <p:spPr>
          <a:xfrm>
            <a:off x="76320" y="685800"/>
            <a:ext cx="9055080" cy="57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61084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99"/>
                </a:solidFill>
                <a:latin typeface="Monotype Corsiva"/>
              </a:rPr>
              <a:t>Поступки мудрых людей продиктованы умом, </a:t>
            </a:r>
            <a:br>
              <a:rPr sz="4800"/>
            </a:br>
            <a:r>
              <a:rPr b="1" i="1" lang="en-US" sz="4800" spc="-1" strike="noStrike">
                <a:solidFill>
                  <a:srgbClr val="ffff99"/>
                </a:solidFill>
                <a:latin typeface="Monotype Corsiva"/>
              </a:rPr>
              <a:t>людей менее сообразительных – опытом, </a:t>
            </a:r>
            <a:br>
              <a:rPr sz="4800"/>
            </a:br>
            <a:r>
              <a:rPr b="1" i="1" lang="en-US" sz="4800" spc="-1" strike="noStrike">
                <a:solidFill>
                  <a:srgbClr val="ffff99"/>
                </a:solidFill>
                <a:latin typeface="Monotype Corsiva"/>
              </a:rPr>
              <a:t>самых невежественных – необходимостью, </a:t>
            </a:r>
            <a:br>
              <a:rPr sz="4800"/>
            </a:br>
            <a:r>
              <a:rPr b="1" i="1" lang="en-US" sz="4800" spc="-1" strike="noStrike">
                <a:solidFill>
                  <a:srgbClr val="ffff99"/>
                </a:solidFill>
                <a:latin typeface="Monotype Corsiva"/>
              </a:rPr>
              <a:t>животных – природой</a:t>
            </a:r>
            <a:r>
              <a:rPr b="1" i="1" lang="en-US" sz="3200" spc="-1" strike="noStrike">
                <a:solidFill>
                  <a:srgbClr val="ffff99"/>
                </a:solidFill>
                <a:latin typeface="Monotype Corsiva"/>
              </a:rPr>
              <a:t>           </a:t>
            </a:r>
            <a:br>
              <a:rPr sz="3200"/>
            </a:br>
            <a:r>
              <a:rPr b="1" i="1" lang="en-US" sz="3200" spc="-1" strike="noStrike">
                <a:solidFill>
                  <a:srgbClr val="ffff99"/>
                </a:solidFill>
                <a:latin typeface="Monotype Corsiva"/>
              </a:rPr>
              <a:t>                                                      Цицерон</a:t>
            </a: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962520" y="201600"/>
            <a:ext cx="502920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Monotype Corsiva"/>
              </a:rPr>
              <a:t>В мире мудрых мысле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752120" y="49320"/>
            <a:ext cx="57150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99"/>
                </a:solidFill>
                <a:latin typeface="Arial"/>
              </a:rPr>
              <a:t>Нормы жизни </a:t>
            </a:r>
            <a:br>
              <a:rPr sz="4800"/>
            </a:br>
            <a:r>
              <a:rPr b="1" lang="en-US" sz="4800" spc="-1" strike="noStrike">
                <a:solidFill>
                  <a:srgbClr val="ffff99"/>
                </a:solidFill>
                <a:latin typeface="Arial"/>
              </a:rPr>
              <a:t>в обществе</a:t>
            </a: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28600" y="1752120"/>
            <a:ext cx="86868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В обществе принято жить по правилам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которые должны быть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хорошо известн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всем!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"/>
          <p:cNvSpPr/>
          <p:nvPr/>
        </p:nvSpPr>
        <p:spPr>
          <a:xfrm>
            <a:off x="76320" y="609480"/>
            <a:ext cx="1523880" cy="5562720"/>
          </a:xfrm>
          <a:custGeom>
            <a:avLst/>
            <a:gdLst>
              <a:gd name="textAreaLeft" fmla="*/ 204120 w 1523880"/>
              <a:gd name="textAreaRight" fmla="*/ 1319760 w 1523880"/>
              <a:gd name="textAreaTop" fmla="*/ 1121760 h 5562720"/>
              <a:gd name="textAreaBottom" fmla="*/ 3884400 h 556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714" stAng="-5400000" swAng="-5400000"/>
                <a:lnTo>
                  <a:pt x="0" y="10727"/>
                </a:lnTo>
                <a:arcTo wR="21600" hR="8714" stAng="10800000" swAng="-2926067"/>
                <a:lnTo>
                  <a:pt x="14400" y="21102"/>
                </a:lnTo>
                <a:lnTo>
                  <a:pt x="21600" y="18434"/>
                </a:lnTo>
                <a:lnTo>
                  <a:pt x="14400" y="14769"/>
                </a:lnTo>
                <a:lnTo>
                  <a:pt x="14400" y="16929"/>
                </a:lnTo>
                <a:arcTo wR="21600" hR="8714" stAng="7873933" swAng="2764916"/>
                <a:lnTo>
                  <a:pt x="145" y="9720"/>
                </a:lnTo>
                <a:arcTo wR="21600" hR="8714" stAng="-10638849" swAng="5238849"/>
                <a:close/>
              </a:path>
              <a:path fill="darkenLess" w="21600" h="21600">
                <a:moveTo>
                  <a:pt x="21600" y="0"/>
                </a:moveTo>
                <a:arcTo wR="21600" hR="8714" stAng="-5400000" swAng="-5400000"/>
                <a:lnTo>
                  <a:pt x="0" y="8714"/>
                </a:lnTo>
                <a:arcTo wR="21600" hR="8714" stAng="10800000" swAng="-161151"/>
                <a:lnTo>
                  <a:pt x="145" y="9720"/>
                </a:lnTo>
                <a:arcTo wR="21600" hR="8714" stAng="-10638849" swAng="5238849"/>
                <a:close/>
              </a:path>
            </a:pathLst>
          </a:cu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540560" y="609480"/>
            <a:ext cx="1527120" cy="5567400"/>
          </a:xfrm>
          <a:custGeom>
            <a:avLst/>
            <a:gdLst>
              <a:gd name="textAreaLeft" fmla="*/ 204480 w 1527120"/>
              <a:gd name="textAreaRight" fmla="*/ 1322640 w 1527120"/>
              <a:gd name="textAreaTop" fmla="*/ 1129320 h 5567400"/>
              <a:gd name="textAreaBottom" fmla="*/ 3881160 h 5567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765" stAng="-5400000" swAng="5400000"/>
                <a:lnTo>
                  <a:pt x="21600" y="10675"/>
                </a:lnTo>
                <a:arcTo wR="21600" hR="8765" stAng="0" swAng="2936104"/>
                <a:lnTo>
                  <a:pt x="7200" y="21099"/>
                </a:lnTo>
                <a:lnTo>
                  <a:pt x="0" y="18485"/>
                </a:lnTo>
                <a:lnTo>
                  <a:pt x="7200" y="14869"/>
                </a:lnTo>
                <a:lnTo>
                  <a:pt x="7200" y="17029"/>
                </a:lnTo>
                <a:arcTo wR="21600" hR="8765" stAng="2936104" swAng="-2783302"/>
                <a:lnTo>
                  <a:pt x="21471" y="9720"/>
                </a:lnTo>
                <a:arcTo wR="21600" hR="8765" stAng="-152803" swAng="-5247197"/>
                <a:close/>
              </a:path>
              <a:path fill="darkenLess" w="21600" h="21600">
                <a:moveTo>
                  <a:pt x="0" y="0"/>
                </a:moveTo>
                <a:arcTo wR="21600" hR="8765" stAng="-5400000" swAng="5400000"/>
                <a:lnTo>
                  <a:pt x="21600" y="10675"/>
                </a:lnTo>
                <a:arcTo wR="21600" hR="8765" stAng="0" swAng="-152803"/>
                <a:lnTo>
                  <a:pt x="21471" y="9720"/>
                </a:lnTo>
                <a:arcTo wR="21600" hR="8765" stAng="-152803" swAng="-5247197"/>
                <a:close/>
              </a:path>
            </a:pathLst>
          </a:cu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143000" y="4191120"/>
            <a:ext cx="4724280" cy="1222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99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Monotype Corsiva"/>
              </a:rPr>
              <a:t>мораль</a:t>
            </a:r>
            <a:endParaRPr b="1" lang="en-US" sz="1800" spc="1" strike="noStrike">
              <a:ln w="9360">
                <a:solidFill>
                  <a:srgbClr val="ffff99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200400" y="5181480"/>
            <a:ext cx="4724280" cy="122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99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Monotype Corsiva"/>
              </a:rPr>
              <a:t>право</a:t>
            </a:r>
            <a:endParaRPr b="1" lang="en-US" sz="1800" spc="1" strike="noStrike">
              <a:ln w="9360">
                <a:solidFill>
                  <a:srgbClr val="ffff99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" dur="3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0"/>
                            </p:stCondLst>
                            <p:childTnLst>
                              <p:par>
                                <p:cTn id="2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" dur="3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8000"/>
                            </p:stCondLst>
                            <p:childTnLst>
                              <p:par>
                                <p:cTn id="2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0" dur="3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1000"/>
                            </p:stCondLst>
                            <p:childTnLst>
                              <p:par>
                                <p:cTn id="32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" dur="30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4000"/>
                            </p:stCondLst>
                            <p:childTnLst>
                              <p:par>
                                <p:cTn id="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6000"/>
                            </p:stCondLst>
                            <p:childTnLst>
                              <p:par>
                                <p:cTn id="4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8000"/>
                            </p:stCondLst>
                            <p:childTnLst>
                              <p:par>
                                <p:cTn id="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0000"/>
                            </p:stCondLst>
                            <p:childTnLst>
                              <p:par>
                                <p:cTn id="5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90360" y="1294920"/>
            <a:ext cx="75438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99"/>
                </a:solidFill>
                <a:latin typeface="Monotype Corsiva"/>
              </a:rPr>
              <a:t>Есть две морали: </a:t>
            </a:r>
            <a:br>
              <a:rPr sz="4400"/>
            </a:br>
            <a:r>
              <a:rPr b="1" i="1" lang="ru-RU" sz="4400" spc="-1" strike="noStrike">
                <a:solidFill>
                  <a:srgbClr val="ffff99"/>
                </a:solidFill>
                <a:latin typeface="Monotype Corsiva"/>
              </a:rPr>
              <a:t>одна пассивная, </a:t>
            </a:r>
            <a:br>
              <a:rPr sz="4400"/>
            </a:br>
            <a:r>
              <a:rPr b="1" i="1" lang="ru-RU" sz="4400" spc="-1" strike="noStrike">
                <a:solidFill>
                  <a:srgbClr val="ffff99"/>
                </a:solidFill>
                <a:latin typeface="Monotype Corsiva"/>
              </a:rPr>
              <a:t>запрещающая делать зло, </a:t>
            </a:r>
            <a:br>
              <a:rPr sz="4400"/>
            </a:br>
            <a:r>
              <a:rPr b="1" i="1" lang="ru-RU" sz="4400" spc="-1" strike="noStrike">
                <a:solidFill>
                  <a:srgbClr val="ffff99"/>
                </a:solidFill>
                <a:latin typeface="Monotype Corsiva"/>
              </a:rPr>
              <a:t>другая – активная, </a:t>
            </a:r>
            <a:br>
              <a:rPr sz="4400"/>
            </a:br>
            <a:r>
              <a:rPr b="1" i="1" lang="ru-RU" sz="4400" spc="-1" strike="noStrike">
                <a:solidFill>
                  <a:srgbClr val="ffff99"/>
                </a:solidFill>
                <a:latin typeface="Monotype Corsiva"/>
              </a:rPr>
              <a:t>которая повелевает делать добро.</a:t>
            </a:r>
            <a:br>
              <a:rPr sz="4400"/>
            </a:br>
            <a:r>
              <a:rPr b="1" i="1" lang="ru-RU" sz="3200" spc="-1" strike="noStrike">
                <a:solidFill>
                  <a:srgbClr val="ffff99"/>
                </a:solidFill>
                <a:latin typeface="Monotype Corsiva"/>
              </a:rPr>
              <a:t>                                              </a:t>
            </a:r>
            <a:r>
              <a:rPr b="1" i="1" lang="ru-RU" sz="4000" spc="-1" strike="noStrike">
                <a:solidFill>
                  <a:srgbClr val="ffff99"/>
                </a:solidFill>
                <a:latin typeface="Monotype Corsiva"/>
              </a:rPr>
              <a:t>П. Буаст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962520" y="201600"/>
            <a:ext cx="502920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Monotype Corsiva"/>
              </a:rPr>
              <a:t>В мире мудрых мысле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04920" y="6095880"/>
            <a:ext cx="8534160" cy="6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bbd71"/>
                </a:solidFill>
                <a:latin typeface="Monotype Corsiva"/>
              </a:rPr>
              <a:t>Буаст Пьер – французский лексикограф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Мораль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Совокупность норм и правил, принятых в обществе, регулирующих поступки человека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Эти нормы нигде не записаны.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Люди определили для себя, что можно делать в обществе, а чего нельзя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Моральная ответственност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-</a:t>
            </a: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моральное порицание, неодобрение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2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000"/>
                            </p:stCondLst>
                            <p:childTnLst>
                              <p:par>
                                <p:cTn id="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2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4000"/>
                            </p:stCondLst>
                            <p:childTnLst>
                              <p:par>
                                <p:cTn id="6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2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6000"/>
                            </p:stCondLst>
                            <p:childTnLst>
                              <p:par>
                                <p:cTn id="7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20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99"/>
                </a:solidFill>
                <a:latin typeface="Monotype Corsiva"/>
              </a:rPr>
              <a:t>Право</a:t>
            </a: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86868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система общеобязательных норм (правил), установленных или санкционированных государством, направленных на урегулирование общественных отношений и обеспечиваемых мерами государственного принуждения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Закреплено в Конституции РФ, законах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Устанавливает Государство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правовая (юридическая) ответственность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2" dur="20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2000"/>
                            </p:stCondLst>
                            <p:childTnLst>
                              <p:par>
                                <p:cTn id="8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6" dur="20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4000"/>
                            </p:stCondLst>
                            <p:childTnLst>
                              <p:par>
                                <p:cTn id="8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0" dur="20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6000"/>
                            </p:stCondLst>
                            <p:childTnLst>
                              <p:par>
                                <p:cTn id="9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4" dur="2000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29T06:25:16Z</dcterms:created>
  <dc:creator>USER</dc:creator>
  <dc:description/>
  <dc:language>en-US</dc:language>
  <cp:lastModifiedBy>USER</cp:lastModifiedBy>
  <dcterms:modified xsi:type="dcterms:W3CDTF">2006-01-29T13:25:43Z</dcterms:modified>
  <cp:revision>40</cp:revision>
  <dc:subject/>
  <dc:title>Мораль и закон</dc:title>
</cp:coreProperties>
</file>