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36.png" ContentType="image/png"/>
  <Override PartName="/ppt/media/image6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934-749F-4510-9B27-09B75CF9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D0A-A3D3-4B65-B973-518D293C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2D5-6DFA-412C-9203-7779C9A3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5BE-1E4D-4375-AD8B-C64AFCB8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D61E-235C-4A5D-8292-5988B0A3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70D8-675D-4912-AC40-B1956041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A49F-2A67-4DA8-B253-E3402525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3305-AFEF-4587-BAB1-E1E46390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E2C3-06EA-48AD-B7AE-1FAA80C2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9F22-CB8C-4A62-803F-F40BD66C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C0C9-E836-4A37-96C1-3819ED5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005-4AED-4C18-995A-2A7EB35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1813-CBEF-4C90-9590-4E0150D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9FA6-2E2A-4279-9C64-8B65BC9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5F3-5797-4758-96B6-17F44A5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4F2E-1429-4FDE-AB2C-22E5D14C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7C60-115D-461F-AE93-02C67FBD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6C3-89C7-4E9A-BA6C-3F515B5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04B-B211-43F8-B1EF-54AEB9A9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D67-79C2-4622-80BD-81317016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854-0642-4835-9BF6-DC7A6509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E89-6B10-4A47-A6BA-973360F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AF8-FC64-4458-ADF9-A692D2B2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7EF-F958-4E3C-9DD3-95B7EA0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2F6A-AF04-41C3-BE2C-526B5767B4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Freeform 11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Freeform 38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5167440" y="108360"/>
            <a:ext cx="2244600" cy="2649600"/>
            <a:chOff x="5167440" y="108360"/>
            <a:chExt cx="2244600" cy="2649600"/>
          </a:xfrm>
        </p:grpSpPr>
        <p:grpSp>
          <p:nvGrpSpPr>
            <p:cNvPr id="39" name="Group 41"/>
            <p:cNvGrpSpPr/>
            <p:nvPr/>
          </p:nvGrpSpPr>
          <p:grpSpPr>
            <a:xfrm>
              <a:off x="5167440" y="108360"/>
              <a:ext cx="2244600" cy="2649600"/>
              <a:chOff x="5167440" y="108360"/>
              <a:chExt cx="2244600" cy="26496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5167440" y="108360"/>
                <a:ext cx="2244600" cy="2396520"/>
                <a:chOff x="5167440" y="108360"/>
                <a:chExt cx="2244600" cy="23965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5842080" y="208080"/>
                  <a:ext cx="32400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5888160" y="902160"/>
                  <a:ext cx="569160" cy="5216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5552280" y="798120"/>
                  <a:ext cx="1069200" cy="10688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5487120" y="582120"/>
                  <a:ext cx="160488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6229440" y="1952280"/>
                  <a:ext cx="35820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6171480" y="177012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5851800" y="512640"/>
                  <a:ext cx="38304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5810760" y="360720"/>
                  <a:ext cx="37908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89" name="Freeform 9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5684040" y="5833800"/>
            <a:ext cx="1062000" cy="1393560"/>
            <a:chOff x="5684040" y="5833800"/>
            <a:chExt cx="1062000" cy="1393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5758920" y="6288840"/>
              <a:ext cx="88092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5684040" y="5833800"/>
              <a:ext cx="1062000" cy="1393560"/>
              <a:chOff x="5684040" y="5833800"/>
              <a:chExt cx="1062000" cy="1393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5508720" y="6345360"/>
                <a:ext cx="1412280" cy="369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5807160" y="6424560"/>
                <a:ext cx="999720" cy="208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6357240" y="6133680"/>
                <a:ext cx="133200" cy="140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6025320" y="6396840"/>
                <a:ext cx="408600" cy="12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E064-1D4F-49BE-A9F8-816F980311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7.gif"/><Relationship Id="rId8" Type="http://schemas.openxmlformats.org/officeDocument/2006/relationships/image" Target="../media/image38.pn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0000222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700280" y="1887480"/>
            <a:ext cx="3806640" cy="21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КЛАССНО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ЕРОПРИЯТИ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ши права 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язанности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66280" y="635040"/>
            <a:ext cx="5100840" cy="16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8m"/>
          <p:cNvPicPr/>
          <p:nvPr/>
        </p:nvPicPr>
        <p:blipFill>
          <a:blip r:embed="rId1"/>
          <a:stretch/>
        </p:blipFill>
        <p:spPr>
          <a:xfrm>
            <a:off x="890640" y="2266920"/>
            <a:ext cx="2117520" cy="478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nlit-435"/>
          <p:cNvPicPr/>
          <p:nvPr/>
        </p:nvPicPr>
        <p:blipFill>
          <a:blip r:embed="rId2"/>
          <a:stretch/>
        </p:blipFill>
        <p:spPr>
          <a:xfrm>
            <a:off x="3808440" y="3227400"/>
            <a:ext cx="19321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0640" y="347400"/>
            <a:ext cx="5153040" cy="13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героев насильно перемещали и похищ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1015a8dae979"/>
          <p:cNvPicPr/>
          <p:nvPr/>
        </p:nvPicPr>
        <p:blipFill>
          <a:blip r:embed="rId1"/>
          <a:stretch/>
        </p:blipFill>
        <p:spPr>
          <a:xfrm>
            <a:off x="243000" y="1979640"/>
            <a:ext cx="2808000" cy="3216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d5b719eccfc"/>
          <p:cNvPicPr/>
          <p:nvPr/>
        </p:nvPicPr>
        <p:blipFill>
          <a:blip r:embed="rId2"/>
          <a:stretch/>
        </p:blipFill>
        <p:spPr>
          <a:xfrm>
            <a:off x="1917720" y="3708360"/>
            <a:ext cx="2033640" cy="470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ba4d49055a90"/>
          <p:cNvPicPr/>
          <p:nvPr/>
        </p:nvPicPr>
        <p:blipFill>
          <a:blip r:embed="rId3"/>
          <a:stretch/>
        </p:blipFill>
        <p:spPr>
          <a:xfrm>
            <a:off x="4076640" y="2459160"/>
            <a:ext cx="2332080" cy="6337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9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538280" y="6877080"/>
            <a:ext cx="421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сударства-участники принимают меры для борьбы с незаконным перемещением и невозвращением детей из-за границ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2640" y="444600"/>
            <a:ext cx="515304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произведениях затрагивается тема о праве на полноценную и достойную жизнь (по состоянию здоровья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7" descr="f52a2dd7ae70"/>
          <p:cNvPicPr/>
          <p:nvPr/>
        </p:nvPicPr>
        <p:blipFill>
          <a:blip r:embed="rId1"/>
          <a:stretch/>
        </p:blipFill>
        <p:spPr>
          <a:xfrm>
            <a:off x="189000" y="3035160"/>
            <a:ext cx="2050920" cy="3516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p_F"/>
          <p:cNvPicPr/>
          <p:nvPr/>
        </p:nvPicPr>
        <p:blipFill>
          <a:blip r:embed="rId2"/>
          <a:stretch/>
        </p:blipFill>
        <p:spPr>
          <a:xfrm>
            <a:off x="2293920" y="3035160"/>
            <a:ext cx="1944720" cy="345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51736868_skazki0204"/>
          <p:cNvPicPr/>
          <p:nvPr/>
        </p:nvPicPr>
        <p:blipFill>
          <a:blip r:embed="rId3"/>
          <a:stretch/>
        </p:blipFill>
        <p:spPr>
          <a:xfrm>
            <a:off x="4351320" y="3035160"/>
            <a:ext cx="1998720" cy="3418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5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376280" y="6877080"/>
            <a:ext cx="44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 полноценную и достойную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21333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м  произведении затрагивается тема о праве на пользование услугами здравоохра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005fx70z"/>
          <p:cNvPicPr/>
          <p:nvPr/>
        </p:nvPicPr>
        <p:blipFill>
          <a:blip r:embed="rId1"/>
          <a:stretch/>
        </p:blipFill>
        <p:spPr>
          <a:xfrm>
            <a:off x="620640" y="3322800"/>
            <a:ext cx="2328840" cy="30733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8"/>
          <p:cNvSpPr/>
          <p:nvPr/>
        </p:nvSpPr>
        <p:spPr>
          <a:xfrm>
            <a:off x="1755720" y="7164360"/>
            <a:ext cx="4265640" cy="163188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863720" y="7164360"/>
            <a:ext cx="40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4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пользование услугами здравоохра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1" descr="aibolit"/>
          <p:cNvPicPr/>
          <p:nvPr/>
        </p:nvPicPr>
        <p:blipFill>
          <a:blip r:embed="rId2"/>
          <a:stretch/>
        </p:blipFill>
        <p:spPr>
          <a:xfrm>
            <a:off x="3483000" y="265284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2640" y="252000"/>
            <a:ext cx="5153040" cy="221940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нарушаетс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тья 36 о Защите ребёнка  от экономической и всех форм эксплуат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8" descr="photo_16"/>
          <p:cNvPicPr/>
          <p:nvPr/>
        </p:nvPicPr>
        <p:blipFill>
          <a:blip r:embed="rId1"/>
          <a:stretch/>
        </p:blipFill>
        <p:spPr>
          <a:xfrm>
            <a:off x="243000" y="2363760"/>
            <a:ext cx="2012760" cy="489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4248914d1f331e16c6539d5bde7a22fb"/>
          <p:cNvPicPr/>
          <p:nvPr/>
        </p:nvPicPr>
        <p:blipFill>
          <a:blip r:embed="rId2"/>
          <a:stretch/>
        </p:blipFill>
        <p:spPr>
          <a:xfrm>
            <a:off x="2943360" y="2459160"/>
            <a:ext cx="2646360" cy="354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130997_12_mesyatsev1956-3"/>
          <p:cNvPicPr/>
          <p:nvPr/>
        </p:nvPicPr>
        <p:blipFill>
          <a:blip r:embed="rId3"/>
          <a:stretch/>
        </p:blipFill>
        <p:spPr>
          <a:xfrm>
            <a:off x="1593720" y="5532480"/>
            <a:ext cx="2482920" cy="332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603630_7135thumb500"/>
          <p:cNvPicPr/>
          <p:nvPr/>
        </p:nvPicPr>
        <p:blipFill>
          <a:blip r:embed="rId4"/>
          <a:stretch/>
        </p:blipFill>
        <p:spPr>
          <a:xfrm>
            <a:off x="4564080" y="5529240"/>
            <a:ext cx="19159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й сказке защищаются права детей на получение образова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9" descr="413"/>
          <p:cNvPicPr/>
          <p:nvPr/>
        </p:nvPicPr>
        <p:blipFill>
          <a:blip r:embed="rId1"/>
          <a:stretch/>
        </p:blipFill>
        <p:spPr>
          <a:xfrm>
            <a:off x="3591000" y="2747880"/>
            <a:ext cx="2647800" cy="33987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0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8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о ребенка на обра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2" descr="i4be94448a701b"/>
          <p:cNvPicPr/>
          <p:nvPr/>
        </p:nvPicPr>
        <p:blipFill>
          <a:blip r:embed="rId2"/>
          <a:stretch/>
        </p:blipFill>
        <p:spPr>
          <a:xfrm>
            <a:off x="674640" y="2747880"/>
            <a:ext cx="26481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0640" y="539640"/>
            <a:ext cx="5153040" cy="13161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права ребёнка нарушены в этой сказ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a5cb770eceb"/>
          <p:cNvPicPr/>
          <p:nvPr/>
        </p:nvPicPr>
        <p:blipFill>
          <a:blip r:embed="rId1"/>
          <a:stretch/>
        </p:blipFill>
        <p:spPr>
          <a:xfrm>
            <a:off x="1538280" y="2076480"/>
            <a:ext cx="3456000" cy="43768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бёнок имеет пра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ть своих родите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право на их з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2640" y="347400"/>
            <a:ext cx="515304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знав так много о правах, не забудьте о своих обязанностях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6640" y="1883880"/>
            <a:ext cx="5832360" cy="482148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ледить за собой и участвовать в домашних дел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Учиться в соответствии со своим физическим и умственным развит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им родителям и другим членам семь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чь своё здоров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ему государству и соблюдать его зако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облюдать принятые в обществе  правила повед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жно относиться к окружающей сред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My malenkie deti.mp3" descr=""/>
          <p:cNvPicPr/>
          <p:nvPr/>
        </p:nvPicPr>
        <p:blipFill>
          <a:blip r:embed="rId8"/>
          <a:stretch/>
        </p:blipFill>
        <p:spPr>
          <a:xfrm>
            <a:off x="135000" y="252360"/>
            <a:ext cx="228600" cy="406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Наталья\Мои документы\Мои рисунки\99_1.jpg"/>
          <p:cNvPicPr/>
          <p:nvPr/>
        </p:nvPicPr>
        <p:blipFill>
          <a:blip r:embed="rId9"/>
          <a:stretch/>
        </p:blipFill>
        <p:spPr>
          <a:xfrm>
            <a:off x="1903320" y="6108840"/>
            <a:ext cx="2892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54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5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166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306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44640" y="252360"/>
            <a:ext cx="5153040" cy="16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дание штаб-квартиры ООН в Нью-Йорке (США)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" descr="72262_152_02_b"/>
          <p:cNvPicPr/>
          <p:nvPr/>
        </p:nvPicPr>
        <p:blipFill>
          <a:blip r:embed="rId1"/>
          <a:stretch/>
        </p:blipFill>
        <p:spPr>
          <a:xfrm>
            <a:off x="998640" y="2363760"/>
            <a:ext cx="53467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1593720" y="0"/>
            <a:ext cx="4152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2925720" y="96840"/>
            <a:ext cx="2109960" cy="788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3b42e3081059"/>
          <p:cNvPicPr/>
          <p:nvPr/>
        </p:nvPicPr>
        <p:blipFill>
          <a:blip r:embed="rId2"/>
          <a:stretch/>
        </p:blipFill>
        <p:spPr>
          <a:xfrm>
            <a:off x="404640" y="4091040"/>
            <a:ext cx="5618160" cy="480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Наталья\Мои документы\Мои рисунки\2009_04_10_16_41_163466668.jpg"/>
          <p:cNvPicPr/>
          <p:nvPr/>
        </p:nvPicPr>
        <p:blipFill>
          <a:blip r:embed="rId3"/>
          <a:stretch/>
        </p:blipFill>
        <p:spPr>
          <a:xfrm>
            <a:off x="4870440" y="1682640"/>
            <a:ext cx="1494000" cy="4797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" descr=""/>
          <p:cNvPicPr/>
          <p:nvPr/>
        </p:nvPicPr>
        <p:blipFill>
          <a:blip r:embed="rId4"/>
          <a:stretch/>
        </p:blipFill>
        <p:spPr>
          <a:xfrm>
            <a:off x="-139680" y="1494000"/>
            <a:ext cx="3492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ВЕНЦИЯ О ПРАВАХ РЕБ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принята единогласно Генеральной Ассамблеей ООН 20 ноября 1989 год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ткрыта для подписания, ратификации и присоединения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2 сентября 1990 года в соответствии со статьей 49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ратифицирована Верховным Советом СССР 13 июня 1990 год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для Российской Федерации 15 сентября 1990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H:\МАМА\АНИМАШКИ\6236051.gif"/>
          <p:cNvPicPr/>
          <p:nvPr/>
        </p:nvPicPr>
        <p:blipFill>
          <a:blip r:embed="rId1"/>
          <a:stretch/>
        </p:blipFill>
        <p:spPr>
          <a:xfrm>
            <a:off x="6265800" y="3035160"/>
            <a:ext cx="592200" cy="533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basik.ru/images/2691/short.jpg"/>
          <p:cNvPicPr/>
          <p:nvPr/>
        </p:nvPicPr>
        <p:blipFill>
          <a:blip r:embed="rId2"/>
          <a:stretch/>
        </p:blipFill>
        <p:spPr>
          <a:xfrm>
            <a:off x="5319720" y="0"/>
            <a:ext cx="1252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литературные герои могли бы пожаловаться, что нарушено их право на неприкосновенность их жилищ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0" descr="536967d561d6"/>
          <p:cNvPicPr/>
          <p:nvPr/>
        </p:nvPicPr>
        <p:blipFill>
          <a:blip r:embed="rId1"/>
          <a:stretch/>
        </p:blipFill>
        <p:spPr>
          <a:xfrm>
            <a:off x="3537000" y="2363760"/>
            <a:ext cx="2754360" cy="347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rasskazy%20po%20kartinkam%20teremok%20vnutri%201_enl"/>
          <p:cNvPicPr/>
          <p:nvPr/>
        </p:nvPicPr>
        <p:blipFill>
          <a:blip r:embed="rId2"/>
          <a:stretch/>
        </p:blipFill>
        <p:spPr>
          <a:xfrm>
            <a:off x="3537000" y="5627520"/>
            <a:ext cx="2754360" cy="320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345b566ee80b"/>
          <p:cNvPicPr/>
          <p:nvPr/>
        </p:nvPicPr>
        <p:blipFill>
          <a:blip r:embed="rId3"/>
          <a:stretch/>
        </p:blipFill>
        <p:spPr>
          <a:xfrm>
            <a:off x="1432080" y="4859280"/>
            <a:ext cx="1888920" cy="3936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3"/>
          <p:cNvPicPr/>
          <p:nvPr/>
        </p:nvPicPr>
        <p:blipFill>
          <a:blip r:embed="rId4"/>
          <a:stretch/>
        </p:blipFill>
        <p:spPr>
          <a:xfrm>
            <a:off x="135000" y="2459160"/>
            <a:ext cx="24303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3" descr="3e92ad8dfeb7a07a021cfd33406a6b1a_21149"/>
          <p:cNvPicPr/>
          <p:nvPr/>
        </p:nvPicPr>
        <p:blipFill>
          <a:blip r:embed="rId1"/>
          <a:stretch/>
        </p:blipFill>
        <p:spPr>
          <a:xfrm>
            <a:off x="1322280" y="3132000"/>
            <a:ext cx="1319400" cy="3935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858000" cy="273708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538280" y="6684840"/>
            <a:ext cx="4753080" cy="220680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46280" y="6684840"/>
            <a:ext cx="469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3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аво ребенка на отдых и досуг, право участвовать в играх и развлекательных мероприятиях, и свободно участвовать в культурной жизни и заниматься искусств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0" descr="1234189592_zolushka"/>
          <p:cNvPicPr/>
          <p:nvPr/>
        </p:nvPicPr>
        <p:blipFill>
          <a:blip r:embed="rId2"/>
          <a:stretch/>
        </p:blipFill>
        <p:spPr>
          <a:xfrm>
            <a:off x="3213000" y="3322800"/>
            <a:ext cx="2106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аба-яга уносит братца Иванушку от сестрицы Аленушки за тридевять земель в тридесятое царство. Какая статья Конвенции была нарушена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1015a8dae979"/>
          <p:cNvPicPr/>
          <p:nvPr/>
        </p:nvPicPr>
        <p:blipFill>
          <a:blip r:embed="rId1"/>
          <a:stretch/>
        </p:blipFill>
        <p:spPr>
          <a:xfrm>
            <a:off x="2349360" y="2459160"/>
            <a:ext cx="2322720" cy="42256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6"/>
          <p:cNvSpPr/>
          <p:nvPr/>
        </p:nvSpPr>
        <p:spPr>
          <a:xfrm>
            <a:off x="1538280" y="6972480"/>
            <a:ext cx="4699080" cy="191916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личную жизн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икосновенность и своб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399360" cy="16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4200"/>
          <p:cNvPicPr/>
          <p:nvPr/>
        </p:nvPicPr>
        <p:blipFill>
          <a:blip r:embed="rId1"/>
          <a:stretch/>
        </p:blipFill>
        <p:spPr>
          <a:xfrm>
            <a:off x="243000" y="1884240"/>
            <a:ext cx="3078000" cy="412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BMZ3"/>
          <p:cNvPicPr/>
          <p:nvPr/>
        </p:nvPicPr>
        <p:blipFill>
          <a:blip r:embed="rId2"/>
          <a:stretch/>
        </p:blipFill>
        <p:spPr>
          <a:xfrm>
            <a:off x="4294080" y="1979640"/>
            <a:ext cx="2092320" cy="537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0800d915c9d9"/>
          <p:cNvPicPr/>
          <p:nvPr/>
        </p:nvPicPr>
        <p:blipFill>
          <a:blip r:embed="rId3"/>
          <a:stretch/>
        </p:blipFill>
        <p:spPr>
          <a:xfrm>
            <a:off x="2241720" y="5532480"/>
            <a:ext cx="24285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9:56:41Z</dcterms:created>
  <dc:creator>Елена</dc:creator>
  <dc:description/>
  <dc:language>en-US</dc:language>
  <cp:lastModifiedBy>MAGNUM</cp:lastModifiedBy>
  <cp:lastPrinted>2015-04-01T21:45:38Z</cp:lastPrinted>
  <dcterms:modified xsi:type="dcterms:W3CDTF">2015-04-01T22:17:02Z</dcterms:modified>
  <cp:revision>30</cp:revision>
  <dc:subject/>
  <dc:title>"Мы тоже имеем права!"</dc:title>
</cp:coreProperties>
</file>