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36.png" ContentType="image/png"/>
  <Override PartName="/ppt/media/image6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147-5E51-4A5B-9EFE-205B9045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8FA-DA64-47E9-83B6-15E038F2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10B-DC5B-4278-BE15-F13465D4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981-BC4B-4817-84DD-1D48356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9D6-3658-460A-ADE5-3185C62B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5A8A-D5D5-4B91-9EA8-9B991D4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61E6-A034-4547-8967-0C7165F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00F-77E6-4D61-BF45-B2B222D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11B6-C33E-4921-8986-6446F995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195E-49E7-4DDD-87EC-FE1CE683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5BA9-03F6-4AD0-8E9E-6B22FE6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447-2F6B-436C-AABA-46BE60E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1F9C-BD5A-4944-8705-8AF86DC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ECC3-8B62-4DD9-B957-0326CCC3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77B9-AB6D-4D25-9008-DF8F309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7980-0F82-41A1-957C-F5301594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1483-6DAE-438F-9934-1D6041E9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0B4-5F19-44E3-AF6B-45771C1A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1DE-9E06-4D19-8BA5-26B2251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C1E-CDF8-4C8A-A017-24BD9D1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269-8E95-4164-9A03-931B2F7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40B-5FF0-4ACC-8BFB-8BA8C56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CAF-1E42-4239-9A4C-5306063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11D-86FC-44F3-BBC5-E19A39E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7FC-25A0-4A16-81B6-F5D6D2B848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4565-0A81-41C9-836D-5FCA6DA38E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КЛАСС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РОПРИЯТ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2808000" cy="321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d5b719eccfc"/>
          <p:cNvPicPr/>
          <p:nvPr/>
        </p:nvPicPr>
        <p:blipFill>
          <a:blip r:embed="rId2"/>
          <a:stretch/>
        </p:blipFill>
        <p:spPr>
          <a:xfrm>
            <a:off x="1917720" y="3708360"/>
            <a:ext cx="2033640" cy="470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ba4d49055a90"/>
          <p:cNvPicPr/>
          <p:nvPr/>
        </p:nvPicPr>
        <p:blipFill>
          <a:blip r:embed="rId3"/>
          <a:stretch/>
        </p:blipFill>
        <p:spPr>
          <a:xfrm>
            <a:off x="4076640" y="2459160"/>
            <a:ext cx="2332080" cy="633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538280" y="6877080"/>
            <a:ext cx="421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f52a2dd7ae70"/>
          <p:cNvPicPr/>
          <p:nvPr/>
        </p:nvPicPr>
        <p:blipFill>
          <a:blip r:embed="rId1"/>
          <a:stretch/>
        </p:blipFill>
        <p:spPr>
          <a:xfrm>
            <a:off x="189000" y="3035160"/>
            <a:ext cx="2050920" cy="351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p_F"/>
          <p:cNvPicPr/>
          <p:nvPr/>
        </p:nvPicPr>
        <p:blipFill>
          <a:blip r:embed="rId2"/>
          <a:stretch/>
        </p:blipFill>
        <p:spPr>
          <a:xfrm>
            <a:off x="2293920" y="303516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51736868_skazki0204"/>
          <p:cNvPicPr/>
          <p:nvPr/>
        </p:nvPicPr>
        <p:blipFill>
          <a:blip r:embed="rId3"/>
          <a:stretch/>
        </p:blipFill>
        <p:spPr>
          <a:xfrm>
            <a:off x="4351320" y="3035160"/>
            <a:ext cx="1998720" cy="3418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photo_16"/>
          <p:cNvPicPr/>
          <p:nvPr/>
        </p:nvPicPr>
        <p:blipFill>
          <a:blip r:embed="rId1"/>
          <a:stretch/>
        </p:blipFill>
        <p:spPr>
          <a:xfrm>
            <a:off x="243000" y="2363760"/>
            <a:ext cx="2012760" cy="489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4248914d1f331e16c6539d5bde7a22fb"/>
          <p:cNvPicPr/>
          <p:nvPr/>
        </p:nvPicPr>
        <p:blipFill>
          <a:blip r:embed="rId2"/>
          <a:stretch/>
        </p:blipFill>
        <p:spPr>
          <a:xfrm>
            <a:off x="2943360" y="2459160"/>
            <a:ext cx="2646360" cy="354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30997_12_mesyatsev1956-3"/>
          <p:cNvPicPr/>
          <p:nvPr/>
        </p:nvPicPr>
        <p:blipFill>
          <a:blip r:embed="rId3"/>
          <a:stretch/>
        </p:blipFill>
        <p:spPr>
          <a:xfrm>
            <a:off x="1593720" y="5532480"/>
            <a:ext cx="2482920" cy="332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603630_7135thumb500"/>
          <p:cNvPicPr/>
          <p:nvPr/>
        </p:nvPicPr>
        <p:blipFill>
          <a:blip r:embed="rId4"/>
          <a:stretch/>
        </p:blipFill>
        <p:spPr>
          <a:xfrm>
            <a:off x="4564080" y="5529240"/>
            <a:ext cx="19159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640" y="252360"/>
            <a:ext cx="515304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дание штаб-квартиры ООН в Нью-Йорке (США)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72262_152_02_b"/>
          <p:cNvPicPr/>
          <p:nvPr/>
        </p:nvPicPr>
        <p:blipFill>
          <a:blip r:embed="rId1"/>
          <a:stretch/>
        </p:blipFill>
        <p:spPr>
          <a:xfrm>
            <a:off x="998640" y="2363760"/>
            <a:ext cx="53467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b42e3081059"/>
          <p:cNvPicPr/>
          <p:nvPr/>
        </p:nvPicPr>
        <p:blipFill>
          <a:blip r:embed="rId2"/>
          <a:stretch/>
        </p:blipFill>
        <p:spPr>
          <a:xfrm>
            <a:off x="404640" y="4091040"/>
            <a:ext cx="561816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Наталья\Мои документы\Мои рисунки\2009_04_10_16_41_163466668.jpg"/>
          <p:cNvPicPr/>
          <p:nvPr/>
        </p:nvPicPr>
        <p:blipFill>
          <a:blip r:embed="rId3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" descr=""/>
          <p:cNvPicPr/>
          <p:nvPr/>
        </p:nvPicPr>
        <p:blipFill>
          <a:blip r:embed="rId4"/>
          <a:stretch/>
        </p:blipFill>
        <p:spPr>
          <a:xfrm>
            <a:off x="-139680" y="1494000"/>
            <a:ext cx="3492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BMZ3"/>
          <p:cNvPicPr/>
          <p:nvPr/>
        </p:nvPicPr>
        <p:blipFill>
          <a:blip r:embed="rId2"/>
          <a:stretch/>
        </p:blipFill>
        <p:spPr>
          <a:xfrm>
            <a:off x="4294080" y="1979640"/>
            <a:ext cx="2092320" cy="537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0800d915c9d9"/>
          <p:cNvPicPr/>
          <p:nvPr/>
        </p:nvPicPr>
        <p:blipFill>
          <a:blip r:embed="rId3"/>
          <a:stretch/>
        </p:blipFill>
        <p:spPr>
          <a:xfrm>
            <a:off x="2241720" y="5532480"/>
            <a:ext cx="24285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MAGNUM</cp:lastModifiedBy>
  <cp:lastPrinted>2015-04-01T21:45:38Z</cp:lastPrinted>
  <dcterms:modified xsi:type="dcterms:W3CDTF">2015-04-01T22:17:02Z</dcterms:modified>
  <cp:revision>30</cp:revision>
  <dc:subject/>
  <dc:title>"Мы тоже имеем права!"</dc:title>
</cp:coreProperties>
</file>