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8.jpeg" ContentType="image/jpeg"/>
  <Override PartName="/ppt/media/image8.gif" ContentType="image/gif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8.png" ContentType="image/png"/>
  <Override PartName="/ppt/media/image39.jpeg" ContentType="image/jpeg"/>
  <Override PartName="/ppt/media/image36.png" ContentType="image/png"/>
  <Override PartName="/ppt/media/image6.png" ContentType="image/png"/>
  <Override PartName="/ppt/media/image29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6858000" cy="9144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45B8-C99A-4472-A968-53E79418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C13A-942D-4B9A-A205-3C9E2F18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F6E2-283C-430F-869A-D470A24C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50BF-64E6-482B-B33F-1EE7BE51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0C03-6F30-4653-8D81-259CBAE2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64CC-C0E8-4C43-A264-2A897AE5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F1A9-1991-42B9-84C6-D58C22E5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D004-B56D-4868-B0C2-745E1808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4019-6203-444E-881A-7B97BF5D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0D63-2192-4846-811D-1907AA3A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9C32-18B5-4A64-88A2-87D995B8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09E-0EA8-4190-83BC-C117D363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A36C-6D50-4297-AFF4-84B68936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D0E9-91BD-4821-BF69-A1C3D2ED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061DA-35E8-4C9D-83C9-9CDF700E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C440-4119-4F3A-8DBD-A8443EF6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46600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417560" y="243792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1444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46600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4417560" y="4985280"/>
            <a:ext cx="1858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DB64-398B-447A-80DD-F0B2C8EC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F49-3307-4135-B50D-F1BB5780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5CE-1C70-440F-BCC2-34194B48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85C3-6C48-4FDA-B93B-4D2BC4F3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14440" y="202680"/>
            <a:ext cx="5153040" cy="989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DFD5-ED2B-4457-B7D3-9EDAEB3E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8F6-B873-42DE-BAFC-DCBCF68A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472200" y="498528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371E-ED26-420F-9FE4-3E69231D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72200" y="2437920"/>
            <a:ext cx="2816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4440" y="4985280"/>
            <a:ext cx="577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A41-D031-4E7B-BE6D-6BF00113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5494680" y="587880"/>
            <a:ext cx="1549440" cy="156384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288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6652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03820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6DF1-7674-4586-B9B1-A22A4F8A2D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5559120" y="644040"/>
            <a:ext cx="1554120" cy="15732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5574240" y="714600"/>
            <a:ext cx="1366920" cy="117792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6480" y="7386480"/>
            <a:ext cx="1337760" cy="1661400"/>
            <a:chOff x="6480" y="7386480"/>
            <a:chExt cx="1337760" cy="1661400"/>
          </a:xfrm>
        </p:grpSpPr>
        <p:sp>
          <p:nvSpPr>
            <p:cNvPr id="9" name="Freeform 11"/>
            <p:cNvSpPr/>
            <p:nvPr/>
          </p:nvSpPr>
          <p:spPr>
            <a:xfrm>
              <a:off x="28800" y="7418160"/>
              <a:ext cx="1296360" cy="137376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217160" y="7581240"/>
              <a:ext cx="84240" cy="27252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24120" y="7987320"/>
              <a:ext cx="942840" cy="8679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154080" y="8059320"/>
              <a:ext cx="624960" cy="7912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77800" y="7475040"/>
              <a:ext cx="160560" cy="25632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763560" y="8811000"/>
              <a:ext cx="90360" cy="23688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600480" y="7634160"/>
              <a:ext cx="229680" cy="81072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795600" y="7598160"/>
              <a:ext cx="433080" cy="3679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13280" y="7815960"/>
              <a:ext cx="185400" cy="14184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6480" y="7386480"/>
              <a:ext cx="1337760" cy="1650600"/>
              <a:chOff x="6480" y="7386480"/>
              <a:chExt cx="1337760" cy="16506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594360" y="7538400"/>
                <a:ext cx="651960" cy="1498680"/>
                <a:chOff x="594360" y="7538400"/>
                <a:chExt cx="651960" cy="14986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594360" y="7591320"/>
                  <a:ext cx="186840" cy="18360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57440" y="8755560"/>
                  <a:ext cx="136800" cy="2815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195200" y="7538400"/>
                  <a:ext cx="51120" cy="24732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90720" y="7898400"/>
                <a:ext cx="708120" cy="5292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309960" y="8224560"/>
                <a:ext cx="290160" cy="3132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672840" y="7788600"/>
                <a:ext cx="127080" cy="50328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6480" y="7386480"/>
                <a:ext cx="1337760" cy="1434600"/>
                <a:chOff x="6480" y="7386480"/>
                <a:chExt cx="1337760" cy="14346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796680" y="8567280"/>
                  <a:ext cx="89280" cy="18360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480" y="7889760"/>
                  <a:ext cx="1002240" cy="93132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26360" y="7979040"/>
                  <a:ext cx="95040" cy="3531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534960" y="7386480"/>
                  <a:ext cx="383040" cy="125676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688320" y="7724520"/>
                  <a:ext cx="114120" cy="5335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390600" y="7682400"/>
                  <a:ext cx="231840" cy="28584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783720" y="7488000"/>
                  <a:ext cx="560520" cy="4482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853920" y="7631640"/>
                  <a:ext cx="291240" cy="18216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6509880" y="2820960"/>
            <a:ext cx="288720" cy="5744880"/>
            <a:chOff x="6509880" y="2820960"/>
            <a:chExt cx="288720" cy="5744880"/>
          </a:xfrm>
        </p:grpSpPr>
        <p:sp>
          <p:nvSpPr>
            <p:cNvPr id="36" name="Freeform 38"/>
            <p:cNvSpPr/>
            <p:nvPr/>
          </p:nvSpPr>
          <p:spPr>
            <a:xfrm flipH="1">
              <a:off x="6509520" y="5545080"/>
              <a:ext cx="243720" cy="30207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6554520" y="2820960"/>
              <a:ext cx="243720" cy="345672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5167440" y="108360"/>
            <a:ext cx="2244600" cy="2649600"/>
            <a:chOff x="5167440" y="108360"/>
            <a:chExt cx="2244600" cy="2649600"/>
          </a:xfrm>
        </p:grpSpPr>
        <p:grpSp>
          <p:nvGrpSpPr>
            <p:cNvPr id="39" name="Group 41"/>
            <p:cNvGrpSpPr/>
            <p:nvPr/>
          </p:nvGrpSpPr>
          <p:grpSpPr>
            <a:xfrm>
              <a:off x="5167440" y="108360"/>
              <a:ext cx="2244600" cy="2649600"/>
              <a:chOff x="5167440" y="108360"/>
              <a:chExt cx="2244600" cy="26496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6437160" y="2430360"/>
                <a:ext cx="131400" cy="34272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5167440" y="108360"/>
                <a:ext cx="2244600" cy="2396520"/>
                <a:chOff x="5167440" y="108360"/>
                <a:chExt cx="2244600" cy="23965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5842080" y="208080"/>
                  <a:ext cx="324000" cy="14904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5888160" y="902160"/>
                  <a:ext cx="569160" cy="52164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5552280" y="798120"/>
                  <a:ext cx="1069200" cy="10688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5487120" y="582120"/>
                  <a:ext cx="1604880" cy="160020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6229440" y="1952280"/>
                  <a:ext cx="358200" cy="1450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6171480" y="1770120"/>
                  <a:ext cx="383040" cy="17136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5851800" y="512640"/>
                  <a:ext cx="383040" cy="17496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5810760" y="360720"/>
                  <a:ext cx="379080" cy="16416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5798880" y="177480"/>
              <a:ext cx="5004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15840" y="17640"/>
            <a:ext cx="6672240" cy="903888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46160" y="312840"/>
            <a:ext cx="2841480" cy="2371320"/>
            <a:chOff x="146160" y="312840"/>
            <a:chExt cx="2841480" cy="2371320"/>
          </a:xfrm>
        </p:grpSpPr>
        <p:sp>
          <p:nvSpPr>
            <p:cNvPr id="89" name="Freeform 9"/>
            <p:cNvSpPr/>
            <p:nvPr/>
          </p:nvSpPr>
          <p:spPr>
            <a:xfrm>
              <a:off x="210600" y="374040"/>
              <a:ext cx="2679120" cy="21528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197280" y="551880"/>
              <a:ext cx="2671920" cy="21322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564120" y="727560"/>
              <a:ext cx="1771920" cy="19454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46160" y="312840"/>
              <a:ext cx="2841480" cy="2288520"/>
              <a:chOff x="146160" y="312840"/>
              <a:chExt cx="2841480" cy="22885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2387160" y="1976760"/>
                <a:ext cx="252360" cy="4525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46160" y="312840"/>
                <a:ext cx="2841480" cy="22885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385560" y="333720"/>
                <a:ext cx="2007720" cy="12996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486720" y="530640"/>
                <a:ext cx="270000" cy="8679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007280" y="1134000"/>
                <a:ext cx="822600" cy="7704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5684040" y="5833800"/>
            <a:ext cx="1062000" cy="1393560"/>
            <a:chOff x="5684040" y="5833800"/>
            <a:chExt cx="1062000" cy="1393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5553000" y="6349680"/>
              <a:ext cx="1332360" cy="3488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5535360" y="6319080"/>
              <a:ext cx="1328040" cy="3452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5758920" y="6288840"/>
              <a:ext cx="880920" cy="3153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5684040" y="5833800"/>
              <a:ext cx="1062000" cy="1393560"/>
              <a:chOff x="5684040" y="5833800"/>
              <a:chExt cx="1062000" cy="1393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5910120" y="6779520"/>
                <a:ext cx="125280" cy="723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5508720" y="6345360"/>
                <a:ext cx="1412280" cy="369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5807160" y="6424560"/>
                <a:ext cx="999720" cy="208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6357240" y="6133680"/>
                <a:ext cx="133200" cy="1400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6025320" y="6396840"/>
                <a:ext cx="408600" cy="1231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676440" y="6738840"/>
            <a:ext cx="5105160" cy="971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3057480" y="2573280"/>
            <a:ext cx="666720" cy="50796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14440" y="2437920"/>
            <a:ext cx="577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0F0E-C311-46C1-A2A2-5BFFF15739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7.gif"/><Relationship Id="rId3" Type="http://schemas.openxmlformats.org/officeDocument/2006/relationships/image" Target="../media/image37.gif"/><Relationship Id="rId4" Type="http://schemas.openxmlformats.org/officeDocument/2006/relationships/image" Target="../media/image37.gif"/><Relationship Id="rId5" Type="http://schemas.openxmlformats.org/officeDocument/2006/relationships/image" Target="../media/image37.gif"/><Relationship Id="rId6" Type="http://schemas.openxmlformats.org/officeDocument/2006/relationships/image" Target="../media/image37.gif"/><Relationship Id="rId7" Type="http://schemas.openxmlformats.org/officeDocument/2006/relationships/image" Target="../media/image37.gif"/><Relationship Id="rId8" Type="http://schemas.openxmlformats.org/officeDocument/2006/relationships/image" Target="../media/image38.pn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p0000222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6"/>
          <p:cNvSpPr txBox="1"/>
          <p:nvPr/>
        </p:nvSpPr>
        <p:spPr>
          <a:xfrm>
            <a:off x="1700280" y="1887480"/>
            <a:ext cx="3806640" cy="21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НЕКЛАССНО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ЕРОПРИЯТИЕ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Наши права и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язанности"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66280" y="635040"/>
            <a:ext cx="5100840" cy="160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В каких ещё сказках нарушено право на личную неприкосновенность, жизнь и свободу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Picture 4" descr="8m"/>
          <p:cNvPicPr/>
          <p:nvPr/>
        </p:nvPicPr>
        <p:blipFill>
          <a:blip r:embed="rId1"/>
          <a:stretch/>
        </p:blipFill>
        <p:spPr>
          <a:xfrm>
            <a:off x="890640" y="2266920"/>
            <a:ext cx="2117520" cy="4786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nlit-435"/>
          <p:cNvPicPr/>
          <p:nvPr/>
        </p:nvPicPr>
        <p:blipFill>
          <a:blip r:embed="rId2"/>
          <a:stretch/>
        </p:blipFill>
        <p:spPr>
          <a:xfrm>
            <a:off x="3808440" y="3227400"/>
            <a:ext cx="193212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0640" y="347400"/>
            <a:ext cx="5153040" cy="131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сказках героев насильно перемещали и похищал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Picture 4" descr="1015a8dae979"/>
          <p:cNvPicPr/>
          <p:nvPr/>
        </p:nvPicPr>
        <p:blipFill>
          <a:blip r:embed="rId1"/>
          <a:stretch/>
        </p:blipFill>
        <p:spPr>
          <a:xfrm>
            <a:off x="243000" y="1979640"/>
            <a:ext cx="2808000" cy="32162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6d5b719eccfc"/>
          <p:cNvPicPr/>
          <p:nvPr/>
        </p:nvPicPr>
        <p:blipFill>
          <a:blip r:embed="rId2"/>
          <a:stretch/>
        </p:blipFill>
        <p:spPr>
          <a:xfrm>
            <a:off x="1917720" y="3708360"/>
            <a:ext cx="2033640" cy="4703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ba4d49055a90"/>
          <p:cNvPicPr/>
          <p:nvPr/>
        </p:nvPicPr>
        <p:blipFill>
          <a:blip r:embed="rId3"/>
          <a:stretch/>
        </p:blipFill>
        <p:spPr>
          <a:xfrm>
            <a:off x="4076640" y="2459160"/>
            <a:ext cx="2332080" cy="633708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9"/>
          <p:cNvSpPr/>
          <p:nvPr/>
        </p:nvSpPr>
        <p:spPr>
          <a:xfrm>
            <a:off x="1376280" y="6877080"/>
            <a:ext cx="4589640" cy="182412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1538280" y="6877080"/>
            <a:ext cx="421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11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осударства-участники принимают меры для борьбы с незаконным перемещением и невозвращением детей из-за границы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12640" y="444600"/>
            <a:ext cx="515304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произведениях затрагивается тема о праве на полноценную и достойную жизнь (по состоянию здоровья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7" descr="f52a2dd7ae70"/>
          <p:cNvPicPr/>
          <p:nvPr/>
        </p:nvPicPr>
        <p:blipFill>
          <a:blip r:embed="rId1"/>
          <a:stretch/>
        </p:blipFill>
        <p:spPr>
          <a:xfrm>
            <a:off x="189000" y="3035160"/>
            <a:ext cx="2050920" cy="3516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p_F"/>
          <p:cNvPicPr/>
          <p:nvPr/>
        </p:nvPicPr>
        <p:blipFill>
          <a:blip r:embed="rId2"/>
          <a:stretch/>
        </p:blipFill>
        <p:spPr>
          <a:xfrm>
            <a:off x="2293920" y="3035160"/>
            <a:ext cx="1944720" cy="3456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51736868_skazki0204"/>
          <p:cNvPicPr/>
          <p:nvPr/>
        </p:nvPicPr>
        <p:blipFill>
          <a:blip r:embed="rId3"/>
          <a:stretch/>
        </p:blipFill>
        <p:spPr>
          <a:xfrm>
            <a:off x="4351320" y="3035160"/>
            <a:ext cx="1998720" cy="3418200"/>
          </a:xfrm>
          <a:prstGeom prst="rect">
            <a:avLst/>
          </a:prstGeom>
          <a:ln w="0">
            <a:noFill/>
          </a:ln>
        </p:spPr>
      </p:pic>
      <p:sp>
        <p:nvSpPr>
          <p:cNvPr id="194" name="AutoShape 15"/>
          <p:cNvSpPr/>
          <p:nvPr/>
        </p:nvSpPr>
        <p:spPr>
          <a:xfrm>
            <a:off x="1376280" y="6877080"/>
            <a:ext cx="4589640" cy="182412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376280" y="6877080"/>
            <a:ext cx="44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3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 полноценную и достойную жизн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12640" y="347760"/>
            <a:ext cx="5153040" cy="213336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ом  произведении затрагивается тема о праве на пользование услугами здравоохран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6" descr="005fx70z"/>
          <p:cNvPicPr/>
          <p:nvPr/>
        </p:nvPicPr>
        <p:blipFill>
          <a:blip r:embed="rId1"/>
          <a:stretch/>
        </p:blipFill>
        <p:spPr>
          <a:xfrm>
            <a:off x="620640" y="3322800"/>
            <a:ext cx="2328840" cy="307332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8"/>
          <p:cNvSpPr/>
          <p:nvPr/>
        </p:nvSpPr>
        <p:spPr>
          <a:xfrm>
            <a:off x="1755720" y="7164360"/>
            <a:ext cx="4265640" cy="163188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863720" y="7164360"/>
            <a:ext cx="404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4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пользование услугами здравоохран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11" descr="aibolit"/>
          <p:cNvPicPr/>
          <p:nvPr/>
        </p:nvPicPr>
        <p:blipFill>
          <a:blip r:embed="rId2"/>
          <a:stretch/>
        </p:blipFill>
        <p:spPr>
          <a:xfrm>
            <a:off x="3483000" y="2652840"/>
            <a:ext cx="20397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12640" y="252000"/>
            <a:ext cx="5153040" cy="221940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их сказках нарушаетс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атья 36 о Защите ребёнка  от экономической и всех форм эксплуатац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8" descr="photo_16"/>
          <p:cNvPicPr/>
          <p:nvPr/>
        </p:nvPicPr>
        <p:blipFill>
          <a:blip r:embed="rId1"/>
          <a:stretch/>
        </p:blipFill>
        <p:spPr>
          <a:xfrm>
            <a:off x="243000" y="2363760"/>
            <a:ext cx="2012760" cy="4896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4248914d1f331e16c6539d5bde7a22fb"/>
          <p:cNvPicPr/>
          <p:nvPr/>
        </p:nvPicPr>
        <p:blipFill>
          <a:blip r:embed="rId2"/>
          <a:stretch/>
        </p:blipFill>
        <p:spPr>
          <a:xfrm>
            <a:off x="2943360" y="2459160"/>
            <a:ext cx="2646360" cy="3546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0" descr="130997_12_mesyatsev1956-3"/>
          <p:cNvPicPr/>
          <p:nvPr/>
        </p:nvPicPr>
        <p:blipFill>
          <a:blip r:embed="rId3"/>
          <a:stretch/>
        </p:blipFill>
        <p:spPr>
          <a:xfrm>
            <a:off x="1593720" y="5532480"/>
            <a:ext cx="2482920" cy="3327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603630_7135thumb500"/>
          <p:cNvPicPr/>
          <p:nvPr/>
        </p:nvPicPr>
        <p:blipFill>
          <a:blip r:embed="rId4"/>
          <a:stretch/>
        </p:blipFill>
        <p:spPr>
          <a:xfrm>
            <a:off x="4564080" y="5529240"/>
            <a:ext cx="1915920" cy="33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12640" y="347760"/>
            <a:ext cx="5153040" cy="141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кой сказке защищаются права детей на получение образования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9" descr="413"/>
          <p:cNvPicPr/>
          <p:nvPr/>
        </p:nvPicPr>
        <p:blipFill>
          <a:blip r:embed="rId1"/>
          <a:stretch/>
        </p:blipFill>
        <p:spPr>
          <a:xfrm>
            <a:off x="3591000" y="2747880"/>
            <a:ext cx="2647800" cy="339876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10"/>
          <p:cNvSpPr/>
          <p:nvPr/>
        </p:nvSpPr>
        <p:spPr>
          <a:xfrm>
            <a:off x="1322280" y="6877080"/>
            <a:ext cx="4645080" cy="197964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28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во ребенка на образова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12" descr="i4be94448a701b"/>
          <p:cNvPicPr/>
          <p:nvPr/>
        </p:nvPicPr>
        <p:blipFill>
          <a:blip r:embed="rId2"/>
          <a:stretch/>
        </p:blipFill>
        <p:spPr>
          <a:xfrm>
            <a:off x="674640" y="2747880"/>
            <a:ext cx="264816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0640" y="539640"/>
            <a:ext cx="5153040" cy="131616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кие права ребёнка нарушены в этой сказк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5" descr="ba5cb770eceb"/>
          <p:cNvPicPr/>
          <p:nvPr/>
        </p:nvPicPr>
        <p:blipFill>
          <a:blip r:embed="rId1"/>
          <a:stretch/>
        </p:blipFill>
        <p:spPr>
          <a:xfrm>
            <a:off x="1538280" y="2076480"/>
            <a:ext cx="3456000" cy="437688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6"/>
          <p:cNvSpPr/>
          <p:nvPr/>
        </p:nvSpPr>
        <p:spPr>
          <a:xfrm>
            <a:off x="1322280" y="6877080"/>
            <a:ext cx="4645080" cy="197964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9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ебёнок имеет прав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нать своих родителе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 право на их забот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12640" y="347400"/>
            <a:ext cx="5153040" cy="15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Узнав так много о правах, не забудьте о своих обязанностях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6640" y="1883880"/>
            <a:ext cx="5832360" cy="4821480"/>
          </a:xfrm>
          <a:prstGeom prst="rect">
            <a:avLst/>
          </a:prstGeom>
          <a:solidFill>
            <a:srgbClr val="fff5a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ледить за собой и участвовать в домашних делах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Учиться в соответствии со своим физическим и умственным развитие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 уважением относиться к своим родителям и другим членам семь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Беречь своё здоровь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 уважением относиться к своему государству и соблюдать его зако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Соблюдать принятые в обществе  правила повед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omic Sans MS"/>
              </a:rPr>
              <a:t>Бережно относиться к окружающей сред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My malenkie deti.mp3" descr=""/>
          <p:cNvPicPr/>
          <p:nvPr/>
        </p:nvPicPr>
        <p:blipFill>
          <a:blip r:embed="rId8"/>
          <a:stretch/>
        </p:blipFill>
        <p:spPr>
          <a:xfrm>
            <a:off x="135000" y="252360"/>
            <a:ext cx="228600" cy="406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C:\Documents and Settings\Наталья\Мои документы\Мои рисунки\99_1.jpg"/>
          <p:cNvPicPr/>
          <p:nvPr/>
        </p:nvPicPr>
        <p:blipFill>
          <a:blip r:embed="rId9"/>
          <a:stretch/>
        </p:blipFill>
        <p:spPr>
          <a:xfrm>
            <a:off x="1903320" y="6108840"/>
            <a:ext cx="289260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3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54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6740"/>
                            </p:stCondLst>
                            <p:childTnLst>
                              <p:par>
                                <p:cTn id="3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7540"/>
                            </p:stCondLst>
                            <p:childTnLst>
                              <p:par>
                                <p:cTn id="3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3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1660"/>
                            </p:stCondLst>
                            <p:childTnLst>
                              <p:par>
                                <p:cTn id="3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306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44640" y="252360"/>
            <a:ext cx="5153040" cy="16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Здание штаб-квартиры ООН в Нью-Йорке (США)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5" descr="72262_152_02_b"/>
          <p:cNvPicPr/>
          <p:nvPr/>
        </p:nvPicPr>
        <p:blipFill>
          <a:blip r:embed="rId1"/>
          <a:stretch/>
        </p:blipFill>
        <p:spPr>
          <a:xfrm>
            <a:off x="998640" y="2363760"/>
            <a:ext cx="534672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convention_ontherightsofthechild_2009"/>
          <p:cNvPicPr/>
          <p:nvPr/>
        </p:nvPicPr>
        <p:blipFill>
          <a:blip r:embed="rId1"/>
          <a:stretch/>
        </p:blipFill>
        <p:spPr>
          <a:xfrm>
            <a:off x="1593720" y="0"/>
            <a:ext cx="415296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onvention_ontherightsofthechild_2009"/>
          <p:cNvPicPr/>
          <p:nvPr/>
        </p:nvPicPr>
        <p:blipFill>
          <a:blip r:embed="rId1"/>
          <a:stretch/>
        </p:blipFill>
        <p:spPr>
          <a:xfrm>
            <a:off x="2925720" y="96840"/>
            <a:ext cx="2109960" cy="788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3b42e3081059"/>
          <p:cNvPicPr/>
          <p:nvPr/>
        </p:nvPicPr>
        <p:blipFill>
          <a:blip r:embed="rId2"/>
          <a:stretch/>
        </p:blipFill>
        <p:spPr>
          <a:xfrm>
            <a:off x="404640" y="4091040"/>
            <a:ext cx="5618160" cy="4800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Documents and Settings\Наталья\Мои документы\Мои рисунки\2009_04_10_16_41_163466668.jpg"/>
          <p:cNvPicPr/>
          <p:nvPr/>
        </p:nvPicPr>
        <p:blipFill>
          <a:blip r:embed="rId3"/>
          <a:stretch/>
        </p:blipFill>
        <p:spPr>
          <a:xfrm>
            <a:off x="4870440" y="1682640"/>
            <a:ext cx="1494000" cy="479736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1" descr=""/>
          <p:cNvPicPr/>
          <p:nvPr/>
        </p:nvPicPr>
        <p:blipFill>
          <a:blip r:embed="rId4"/>
          <a:stretch/>
        </p:blipFill>
        <p:spPr>
          <a:xfrm>
            <a:off x="-139680" y="1494000"/>
            <a:ext cx="34923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КОНВЕНЦИЯ О ПРАВАХ РЕБЕН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440" y="2437920"/>
            <a:ext cx="5772240" cy="60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принята единогласно Генеральной Ассамблеей ООН 20 ноября 1989 год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открыта для подписания, ратификации и присоединения.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вступила в силу 2 сентября 1990 года в соответствии со статьей 49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ратифицирована Верховным Советом СССР 13 июня 1990 год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нвенция вступила в силу для Российской Федерации 15 сентября 1990 года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7" descr="H:\МАМА\АНИМАШКИ\6236051.gif"/>
          <p:cNvPicPr/>
          <p:nvPr/>
        </p:nvPicPr>
        <p:blipFill>
          <a:blip r:embed="rId1"/>
          <a:stretch/>
        </p:blipFill>
        <p:spPr>
          <a:xfrm>
            <a:off x="6265800" y="3035160"/>
            <a:ext cx="592200" cy="5334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http://basik.ru/images/2691/short.jpg"/>
          <p:cNvPicPr/>
          <p:nvPr/>
        </p:nvPicPr>
        <p:blipFill>
          <a:blip r:embed="rId2"/>
          <a:stretch/>
        </p:blipFill>
        <p:spPr>
          <a:xfrm>
            <a:off x="5319720" y="0"/>
            <a:ext cx="125244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ие литературные герои могли бы пожаловаться, что нарушено их право на неприкосновенность их жилища?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10" descr="536967d561d6"/>
          <p:cNvPicPr/>
          <p:nvPr/>
        </p:nvPicPr>
        <p:blipFill>
          <a:blip r:embed="rId1"/>
          <a:stretch/>
        </p:blipFill>
        <p:spPr>
          <a:xfrm>
            <a:off x="3537000" y="2363760"/>
            <a:ext cx="2754360" cy="3479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rasskazy%20po%20kartinkam%20teremok%20vnutri%201_enl"/>
          <p:cNvPicPr/>
          <p:nvPr/>
        </p:nvPicPr>
        <p:blipFill>
          <a:blip r:embed="rId2"/>
          <a:stretch/>
        </p:blipFill>
        <p:spPr>
          <a:xfrm>
            <a:off x="3537000" y="5627520"/>
            <a:ext cx="2754360" cy="3200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345b566ee80b"/>
          <p:cNvPicPr/>
          <p:nvPr/>
        </p:nvPicPr>
        <p:blipFill>
          <a:blip r:embed="rId3"/>
          <a:stretch/>
        </p:blipFill>
        <p:spPr>
          <a:xfrm>
            <a:off x="1432080" y="4859280"/>
            <a:ext cx="1888920" cy="3936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3"/>
          <p:cNvPicPr/>
          <p:nvPr/>
        </p:nvPicPr>
        <p:blipFill>
          <a:blip r:embed="rId4"/>
          <a:stretch/>
        </p:blipFill>
        <p:spPr>
          <a:xfrm>
            <a:off x="135000" y="2459160"/>
            <a:ext cx="24303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3" descr="3e92ad8dfeb7a07a021cfd33406a6b1a_21149"/>
          <p:cNvPicPr/>
          <p:nvPr/>
        </p:nvPicPr>
        <p:blipFill>
          <a:blip r:embed="rId1"/>
          <a:stretch/>
        </p:blipFill>
        <p:spPr>
          <a:xfrm>
            <a:off x="1322280" y="3132000"/>
            <a:ext cx="1319400" cy="39355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52000"/>
            <a:ext cx="6858000" cy="273708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mic Sans MS"/>
              </a:rPr>
              <a:t>Мачеха с утра до ночи заставляет Золушку трудиться. Несчастной девочке запрещено участвовать в играх и забавах ее сестер. Какая статья Конвенции была бы нарушена, если бы подобное происходило в наши дни?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1538280" y="6684840"/>
            <a:ext cx="4753080" cy="220680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646280" y="6684840"/>
            <a:ext cx="4699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31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аво ребенка на отдых и досуг, право участвовать в играх и развлекательных мероприятиях, и свободно участвовать в культурной жизни и заниматься искусством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10" descr="1234189592_zolushka"/>
          <p:cNvPicPr/>
          <p:nvPr/>
        </p:nvPicPr>
        <p:blipFill>
          <a:blip r:embed="rId2"/>
          <a:stretch/>
        </p:blipFill>
        <p:spPr>
          <a:xfrm>
            <a:off x="3213000" y="3322800"/>
            <a:ext cx="2106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14440" y="202680"/>
            <a:ext cx="5153040" cy="2133720"/>
          </a:xfrm>
          <a:prstGeom prst="rect">
            <a:avLst/>
          </a:prstGeom>
          <a:solidFill>
            <a:srgbClr val="fffce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аба-яга уносит братца Иванушку от сестрицы Аленушки за тридевять земель в тридесятое царство. Какая статья Конвенции была нарушена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1015a8dae979"/>
          <p:cNvPicPr/>
          <p:nvPr/>
        </p:nvPicPr>
        <p:blipFill>
          <a:blip r:embed="rId1"/>
          <a:stretch/>
        </p:blipFill>
        <p:spPr>
          <a:xfrm>
            <a:off x="2349360" y="2459160"/>
            <a:ext cx="2322720" cy="422568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6"/>
          <p:cNvSpPr/>
          <p:nvPr/>
        </p:nvSpPr>
        <p:spPr>
          <a:xfrm>
            <a:off x="1538280" y="6972480"/>
            <a:ext cx="4699080" cy="1919160"/>
          </a:xfrm>
          <a:prstGeom prst="foldedCorner">
            <a:avLst>
              <a:gd name="adj" fmla="val 125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тья 16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о на личную жизнь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прикосновенность и свобод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2000"/>
            <a:ext cx="6399360" cy="16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mic Sans MS"/>
              </a:rPr>
              <a:t>В каких ещё сказках нарушено право на личную неприкосновенность, жизнь и свободу?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7" descr="4200"/>
          <p:cNvPicPr/>
          <p:nvPr/>
        </p:nvPicPr>
        <p:blipFill>
          <a:blip r:embed="rId1"/>
          <a:stretch/>
        </p:blipFill>
        <p:spPr>
          <a:xfrm>
            <a:off x="243000" y="1884240"/>
            <a:ext cx="3078000" cy="4121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BMZ3"/>
          <p:cNvPicPr/>
          <p:nvPr/>
        </p:nvPicPr>
        <p:blipFill>
          <a:blip r:embed="rId2"/>
          <a:stretch/>
        </p:blipFill>
        <p:spPr>
          <a:xfrm>
            <a:off x="4294080" y="1979640"/>
            <a:ext cx="2092320" cy="5375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0800d915c9d9"/>
          <p:cNvPicPr/>
          <p:nvPr/>
        </p:nvPicPr>
        <p:blipFill>
          <a:blip r:embed="rId3"/>
          <a:stretch/>
        </p:blipFill>
        <p:spPr>
          <a:xfrm>
            <a:off x="2241720" y="5532480"/>
            <a:ext cx="242856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0T09:56:41Z</dcterms:created>
  <dc:creator>Елена</dc:creator>
  <dc:description/>
  <dc:language>en-US</dc:language>
  <cp:lastModifiedBy>MAGNUM</cp:lastModifiedBy>
  <cp:lastPrinted>2015-04-01T21:45:38Z</cp:lastPrinted>
  <dcterms:modified xsi:type="dcterms:W3CDTF">2015-04-01T22:17:02Z</dcterms:modified>
  <cp:revision>30</cp:revision>
  <dc:subject/>
  <dc:title>"Мы тоже имеем права!"</dc:title>
</cp:coreProperties>
</file>