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0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18.jpeg" ContentType="image/jpeg"/>
  <Override PartName="/ppt/media/image8.gif" ContentType="image/gif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38.png" ContentType="image/png"/>
  <Override PartName="/ppt/media/image39.jpeg" ContentType="image/jpeg"/>
  <Override PartName="/ppt/media/image36.png" ContentType="image/png"/>
  <Override PartName="/ppt/media/image6.png" ContentType="image/png"/>
  <Override PartName="/ppt/media/image29.jpeg" ContentType="image/jpeg"/>
  <Override PartName="/ppt/media/image37.gif" ContentType="image/gif"/>
  <Override PartName="/ppt/media/image2.jpeg" ContentType="image/jpeg"/>
  <Override PartName="/ppt/media/image23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6858000" cy="9144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D18A-D5D6-46A5-BF7F-77ED57445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577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4440" y="4985280"/>
            <a:ext cx="577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A071-3D6A-455B-A674-29105164B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4440" y="498528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472200" y="498528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69CD-77BB-45DD-B311-3911BAD59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466000" y="243792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417560" y="243792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4440" y="498528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466000" y="498528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417560" y="498528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AA6C-8C0B-4665-B3EA-56129B9A2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C886F-7F56-4206-9ED2-6A7B8E97F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514440" y="2437920"/>
            <a:ext cx="577224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A4333-85A2-4749-9DB5-3550D61B4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5772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7E259-76A4-4BD0-BF22-2113722A2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D6DB8-26A6-43C1-A25D-B59189993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5E028-8215-4E40-AD55-5CAFC6FD4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514440" y="202680"/>
            <a:ext cx="515304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8B00E-1031-4F80-8443-62C8A1CDB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14440" y="498528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46E5C-4D3F-4070-9648-CD7B2594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14440" y="2437920"/>
            <a:ext cx="577224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7988-07B6-44AF-9D80-DED90A936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3472200" y="498528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4C4A7-2CB5-490F-A612-CD4DA00B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14440" y="4985280"/>
            <a:ext cx="577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FC902-D575-4036-AE42-FDBFF085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577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4440" y="4985280"/>
            <a:ext cx="577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6E78B-4B69-4A8D-A7AE-BE8BB891E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14440" y="498528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3472200" y="498528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70F0D-D3A2-473B-AEAC-4F42CFB82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466000" y="243792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417560" y="243792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4440" y="498528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466000" y="498528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4417560" y="498528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4CA15-0D50-41BB-AB78-59CD04C57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5772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CA7D-E5B6-42F1-A9F0-7216BFED6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06D3-8081-4127-9566-6CD19A104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1B53-6F43-4508-8072-2D4C2523D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14440" y="202680"/>
            <a:ext cx="515304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EC0A-1D27-4AB1-A1E9-E26A8D138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4440" y="498528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2BF5-402F-4E94-A427-A72A660C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472200" y="498528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828C-416C-4327-83D9-FC3962D3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4440" y="4985280"/>
            <a:ext cx="577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4911-93D6-42BB-9487-DC548464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5494680" y="587880"/>
            <a:ext cx="1549440" cy="156384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14440" y="2437920"/>
            <a:ext cx="5772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0288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666520" y="8331120"/>
            <a:ext cx="2171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503820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00758-EFD9-4274-8F52-6CFDC3C08EE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5559120" y="644040"/>
            <a:ext cx="1554120" cy="15732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5574240" y="714600"/>
            <a:ext cx="1366920" cy="117792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6480" y="7386480"/>
            <a:ext cx="1337760" cy="1661400"/>
            <a:chOff x="6480" y="7386480"/>
            <a:chExt cx="1337760" cy="1661400"/>
          </a:xfrm>
        </p:grpSpPr>
        <p:sp>
          <p:nvSpPr>
            <p:cNvPr id="9" name="Freeform 11"/>
            <p:cNvSpPr/>
            <p:nvPr/>
          </p:nvSpPr>
          <p:spPr>
            <a:xfrm>
              <a:off x="28800" y="7418160"/>
              <a:ext cx="1296360" cy="137376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217160" y="7581240"/>
              <a:ext cx="84240" cy="27252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24120" y="7987320"/>
              <a:ext cx="942840" cy="8679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154080" y="8059320"/>
              <a:ext cx="624960" cy="7912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77800" y="7475040"/>
              <a:ext cx="160560" cy="25632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763560" y="8811000"/>
              <a:ext cx="90360" cy="23688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600480" y="7634160"/>
              <a:ext cx="229680" cy="81072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795600" y="7598160"/>
              <a:ext cx="433080" cy="3679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13280" y="7815960"/>
              <a:ext cx="185400" cy="14184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6480" y="7386480"/>
              <a:ext cx="1337760" cy="1650600"/>
              <a:chOff x="6480" y="7386480"/>
              <a:chExt cx="1337760" cy="16506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594360" y="7538400"/>
                <a:ext cx="651960" cy="1498680"/>
                <a:chOff x="594360" y="7538400"/>
                <a:chExt cx="651960" cy="14986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594360" y="7591320"/>
                  <a:ext cx="186840" cy="18360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757440" y="8755560"/>
                  <a:ext cx="136800" cy="2815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195200" y="7538400"/>
                  <a:ext cx="51120" cy="24732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90720" y="7898400"/>
                <a:ext cx="708120" cy="52920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309960" y="8224560"/>
                <a:ext cx="290160" cy="3132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672840" y="7788600"/>
                <a:ext cx="127080" cy="50328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6480" y="7386480"/>
                <a:ext cx="1337760" cy="1434600"/>
                <a:chOff x="6480" y="7386480"/>
                <a:chExt cx="1337760" cy="14346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796680" y="8567280"/>
                  <a:ext cx="89280" cy="18360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6480" y="7889760"/>
                  <a:ext cx="1002240" cy="93132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26360" y="7979040"/>
                  <a:ext cx="95040" cy="3531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534960" y="7386480"/>
                  <a:ext cx="383040" cy="125676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688320" y="7724520"/>
                  <a:ext cx="114120" cy="5335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390600" y="7682400"/>
                  <a:ext cx="231840" cy="28584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783720" y="7488000"/>
                  <a:ext cx="560520" cy="4482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853920" y="7631640"/>
                  <a:ext cx="291240" cy="18216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6509880" y="2820960"/>
            <a:ext cx="288720" cy="5744880"/>
            <a:chOff x="6509880" y="2820960"/>
            <a:chExt cx="288720" cy="5744880"/>
          </a:xfrm>
        </p:grpSpPr>
        <p:sp>
          <p:nvSpPr>
            <p:cNvPr id="36" name="Freeform 38"/>
            <p:cNvSpPr/>
            <p:nvPr/>
          </p:nvSpPr>
          <p:spPr>
            <a:xfrm flipH="1">
              <a:off x="6509520" y="5545080"/>
              <a:ext cx="243720" cy="30207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6554520" y="2820960"/>
              <a:ext cx="243720" cy="345672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5167440" y="108360"/>
            <a:ext cx="2244600" cy="2649600"/>
            <a:chOff x="5167440" y="108360"/>
            <a:chExt cx="2244600" cy="2649600"/>
          </a:xfrm>
        </p:grpSpPr>
        <p:grpSp>
          <p:nvGrpSpPr>
            <p:cNvPr id="39" name="Group 41"/>
            <p:cNvGrpSpPr/>
            <p:nvPr/>
          </p:nvGrpSpPr>
          <p:grpSpPr>
            <a:xfrm>
              <a:off x="5167440" y="108360"/>
              <a:ext cx="2244600" cy="2649600"/>
              <a:chOff x="5167440" y="108360"/>
              <a:chExt cx="2244600" cy="26496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6437160" y="2430360"/>
                <a:ext cx="131400" cy="34272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5167440" y="108360"/>
                <a:ext cx="2244600" cy="2396520"/>
                <a:chOff x="5167440" y="108360"/>
                <a:chExt cx="2244600" cy="23965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5842080" y="208080"/>
                  <a:ext cx="324000" cy="14904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5888160" y="902160"/>
                  <a:ext cx="569160" cy="52164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5552280" y="798120"/>
                  <a:ext cx="1069200" cy="10688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5487120" y="582120"/>
                  <a:ext cx="1604880" cy="160020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6229440" y="1952280"/>
                  <a:ext cx="358200" cy="1450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6171480" y="1770120"/>
                  <a:ext cx="383040" cy="17136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5851800" y="512640"/>
                  <a:ext cx="383040" cy="17496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5810760" y="360720"/>
                  <a:ext cx="379080" cy="16416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5798880" y="177480"/>
              <a:ext cx="50040" cy="20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15840" y="17640"/>
            <a:ext cx="6672240" cy="903888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46160" y="312840"/>
            <a:ext cx="2841480" cy="2371320"/>
            <a:chOff x="146160" y="312840"/>
            <a:chExt cx="2841480" cy="2371320"/>
          </a:xfrm>
        </p:grpSpPr>
        <p:sp>
          <p:nvSpPr>
            <p:cNvPr id="89" name="Freeform 9"/>
            <p:cNvSpPr/>
            <p:nvPr/>
          </p:nvSpPr>
          <p:spPr>
            <a:xfrm>
              <a:off x="210600" y="374040"/>
              <a:ext cx="2679120" cy="215280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197280" y="551880"/>
              <a:ext cx="2671920" cy="21322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564120" y="727560"/>
              <a:ext cx="1771920" cy="19454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46160" y="312840"/>
              <a:ext cx="2841480" cy="2288520"/>
              <a:chOff x="146160" y="312840"/>
              <a:chExt cx="2841480" cy="22885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2387160" y="1976760"/>
                <a:ext cx="252360" cy="4525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46160" y="312840"/>
                <a:ext cx="2841480" cy="22885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385560" y="333720"/>
                <a:ext cx="2007720" cy="129960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486720" y="530640"/>
                <a:ext cx="270000" cy="8679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007280" y="1134000"/>
                <a:ext cx="822600" cy="7704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5684040" y="5833800"/>
            <a:ext cx="1062000" cy="1393560"/>
            <a:chOff x="5684040" y="5833800"/>
            <a:chExt cx="1062000" cy="1393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5553000" y="6349680"/>
              <a:ext cx="1332360" cy="3488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5535360" y="6319080"/>
              <a:ext cx="1328040" cy="3452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5758920" y="6288840"/>
              <a:ext cx="880920" cy="3153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5684040" y="5833800"/>
              <a:ext cx="1062000" cy="1393560"/>
              <a:chOff x="5684040" y="5833800"/>
              <a:chExt cx="1062000" cy="1393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5910120" y="6779520"/>
                <a:ext cx="125280" cy="7236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5508720" y="6345360"/>
                <a:ext cx="1412280" cy="3697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5807160" y="6424560"/>
                <a:ext cx="999720" cy="20880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6357240" y="6133680"/>
                <a:ext cx="133200" cy="14004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6025320" y="6396840"/>
                <a:ext cx="408600" cy="1231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676440" y="6738840"/>
            <a:ext cx="5105160" cy="971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3057480" y="2573280"/>
            <a:ext cx="666720" cy="50796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514440" y="2437920"/>
            <a:ext cx="5772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65436-60D3-4A2E-942D-25D52BFB3E5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image" Target="../media/image37.gif"/><Relationship Id="rId3" Type="http://schemas.openxmlformats.org/officeDocument/2006/relationships/image" Target="../media/image37.gif"/><Relationship Id="rId4" Type="http://schemas.openxmlformats.org/officeDocument/2006/relationships/image" Target="../media/image37.gif"/><Relationship Id="rId5" Type="http://schemas.openxmlformats.org/officeDocument/2006/relationships/image" Target="../media/image37.gif"/><Relationship Id="rId6" Type="http://schemas.openxmlformats.org/officeDocument/2006/relationships/image" Target="../media/image37.gif"/><Relationship Id="rId7" Type="http://schemas.openxmlformats.org/officeDocument/2006/relationships/image" Target="../media/image37.gif"/><Relationship Id="rId8" Type="http://schemas.openxmlformats.org/officeDocument/2006/relationships/image" Target="../media/image38.png"/><Relationship Id="rId9" Type="http://schemas.openxmlformats.org/officeDocument/2006/relationships/image" Target="../media/image39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p0000222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52" name="WordArt 6"/>
          <p:cNvSpPr txBox="1"/>
          <p:nvPr/>
        </p:nvSpPr>
        <p:spPr>
          <a:xfrm>
            <a:off x="1700280" y="1887480"/>
            <a:ext cx="3806640" cy="21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ВНЕКЛАССНОЕ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МЕРОПРИЯТИЕ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"Наши права и 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обязанности"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66280" y="635040"/>
            <a:ext cx="5100840" cy="160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В каких ещё сказках нарушено право на личную неприкосновенность, жизнь и свободу?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Picture 4" descr="8m"/>
          <p:cNvPicPr/>
          <p:nvPr/>
        </p:nvPicPr>
        <p:blipFill>
          <a:blip r:embed="rId1"/>
          <a:stretch/>
        </p:blipFill>
        <p:spPr>
          <a:xfrm>
            <a:off x="890640" y="2266920"/>
            <a:ext cx="2117520" cy="47862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nlit-435"/>
          <p:cNvPicPr/>
          <p:nvPr/>
        </p:nvPicPr>
        <p:blipFill>
          <a:blip r:embed="rId2"/>
          <a:stretch/>
        </p:blipFill>
        <p:spPr>
          <a:xfrm>
            <a:off x="3808440" y="3227400"/>
            <a:ext cx="1932120" cy="47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2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0640" y="347400"/>
            <a:ext cx="5153040" cy="131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 каких сказках героев насильно перемещали и похищали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Picture 4" descr="1015a8dae979"/>
          <p:cNvPicPr/>
          <p:nvPr/>
        </p:nvPicPr>
        <p:blipFill>
          <a:blip r:embed="rId1"/>
          <a:stretch/>
        </p:blipFill>
        <p:spPr>
          <a:xfrm>
            <a:off x="243000" y="1979640"/>
            <a:ext cx="2808000" cy="32162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6d5b719eccfc"/>
          <p:cNvPicPr/>
          <p:nvPr/>
        </p:nvPicPr>
        <p:blipFill>
          <a:blip r:embed="rId2"/>
          <a:stretch/>
        </p:blipFill>
        <p:spPr>
          <a:xfrm>
            <a:off x="1917720" y="3708360"/>
            <a:ext cx="2033640" cy="47037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ba4d49055a90"/>
          <p:cNvPicPr/>
          <p:nvPr/>
        </p:nvPicPr>
        <p:blipFill>
          <a:blip r:embed="rId3"/>
          <a:stretch/>
        </p:blipFill>
        <p:spPr>
          <a:xfrm>
            <a:off x="4076640" y="2459160"/>
            <a:ext cx="2332080" cy="633708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9"/>
          <p:cNvSpPr/>
          <p:nvPr/>
        </p:nvSpPr>
        <p:spPr>
          <a:xfrm>
            <a:off x="1376280" y="6877080"/>
            <a:ext cx="4589640" cy="1824120"/>
          </a:xfrm>
          <a:prstGeom prst="foldedCorner">
            <a:avLst>
              <a:gd name="adj" fmla="val 125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Text Box 11"/>
          <p:cNvSpPr/>
          <p:nvPr/>
        </p:nvSpPr>
        <p:spPr>
          <a:xfrm>
            <a:off x="1538280" y="6877080"/>
            <a:ext cx="42130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татья 11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Государства-участники принимают меры для борьбы с незаконным перемещением и невозвращением детей из-за границы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5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12640" y="444600"/>
            <a:ext cx="5153040" cy="213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 каких произведениях затрагивается тема о праве на полноценную и достойную жизнь (по состоянию здоровья)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Picture 7" descr="f52a2dd7ae70"/>
          <p:cNvPicPr/>
          <p:nvPr/>
        </p:nvPicPr>
        <p:blipFill>
          <a:blip r:embed="rId1"/>
          <a:stretch/>
        </p:blipFill>
        <p:spPr>
          <a:xfrm>
            <a:off x="189000" y="3035160"/>
            <a:ext cx="2050920" cy="35164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9" descr="p_F"/>
          <p:cNvPicPr/>
          <p:nvPr/>
        </p:nvPicPr>
        <p:blipFill>
          <a:blip r:embed="rId2"/>
          <a:stretch/>
        </p:blipFill>
        <p:spPr>
          <a:xfrm>
            <a:off x="2293920" y="3035160"/>
            <a:ext cx="1944720" cy="3456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3" descr="51736868_skazki0204"/>
          <p:cNvPicPr/>
          <p:nvPr/>
        </p:nvPicPr>
        <p:blipFill>
          <a:blip r:embed="rId3"/>
          <a:stretch/>
        </p:blipFill>
        <p:spPr>
          <a:xfrm>
            <a:off x="4351320" y="3035160"/>
            <a:ext cx="1998720" cy="3418200"/>
          </a:xfrm>
          <a:prstGeom prst="rect">
            <a:avLst/>
          </a:prstGeom>
          <a:ln w="0">
            <a:noFill/>
          </a:ln>
        </p:spPr>
      </p:pic>
      <p:sp>
        <p:nvSpPr>
          <p:cNvPr id="194" name="AutoShape 15"/>
          <p:cNvSpPr/>
          <p:nvPr/>
        </p:nvSpPr>
        <p:spPr>
          <a:xfrm>
            <a:off x="1376280" y="6877080"/>
            <a:ext cx="4589640" cy="1824120"/>
          </a:xfrm>
          <a:prstGeom prst="foldedCorner">
            <a:avLst>
              <a:gd name="adj" fmla="val 125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Text Box 16"/>
          <p:cNvSpPr/>
          <p:nvPr/>
        </p:nvSpPr>
        <p:spPr>
          <a:xfrm>
            <a:off x="1376280" y="6877080"/>
            <a:ext cx="448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татья 23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аво на  полноценную и достойную жизн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2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6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12640" y="347760"/>
            <a:ext cx="5153040" cy="2133360"/>
          </a:xfrm>
          <a:prstGeom prst="rect">
            <a:avLst/>
          </a:prstGeom>
          <a:solidFill>
            <a:srgbClr val="fff9c2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 каком  произведении затрагивается тема о праве на пользование услугами здравоохране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" name="Picture 6" descr="005fx70z"/>
          <p:cNvPicPr/>
          <p:nvPr/>
        </p:nvPicPr>
        <p:blipFill>
          <a:blip r:embed="rId1"/>
          <a:stretch/>
        </p:blipFill>
        <p:spPr>
          <a:xfrm>
            <a:off x="620640" y="3322800"/>
            <a:ext cx="2328840" cy="307332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8"/>
          <p:cNvSpPr/>
          <p:nvPr/>
        </p:nvSpPr>
        <p:spPr>
          <a:xfrm>
            <a:off x="1755720" y="7164360"/>
            <a:ext cx="4265640" cy="1631880"/>
          </a:xfrm>
          <a:prstGeom prst="foldedCorner">
            <a:avLst>
              <a:gd name="adj" fmla="val 125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1863720" y="7164360"/>
            <a:ext cx="404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татья 24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аво на пользование услугами здравоохране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Picture 11" descr="aibolit"/>
          <p:cNvPicPr/>
          <p:nvPr/>
        </p:nvPicPr>
        <p:blipFill>
          <a:blip r:embed="rId2"/>
          <a:stretch/>
        </p:blipFill>
        <p:spPr>
          <a:xfrm>
            <a:off x="3483000" y="2652840"/>
            <a:ext cx="20397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1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12640" y="252000"/>
            <a:ext cx="5153040" cy="2219400"/>
          </a:xfrm>
          <a:prstGeom prst="rect">
            <a:avLst/>
          </a:prstGeom>
          <a:solidFill>
            <a:srgbClr val="fff9c2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 каких сказках нарушается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татья 36 о Защите ребёнка  от экономической и всех форм эксплуатаци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Picture 8" descr="photo_16"/>
          <p:cNvPicPr/>
          <p:nvPr/>
        </p:nvPicPr>
        <p:blipFill>
          <a:blip r:embed="rId1"/>
          <a:stretch/>
        </p:blipFill>
        <p:spPr>
          <a:xfrm>
            <a:off x="243000" y="2363760"/>
            <a:ext cx="2012760" cy="4896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4" descr="4248914d1f331e16c6539d5bde7a22fb"/>
          <p:cNvPicPr/>
          <p:nvPr/>
        </p:nvPicPr>
        <p:blipFill>
          <a:blip r:embed="rId2"/>
          <a:stretch/>
        </p:blipFill>
        <p:spPr>
          <a:xfrm>
            <a:off x="2943360" y="2459160"/>
            <a:ext cx="2646360" cy="3546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0" descr="130997_12_mesyatsev1956-3"/>
          <p:cNvPicPr/>
          <p:nvPr/>
        </p:nvPicPr>
        <p:blipFill>
          <a:blip r:embed="rId3"/>
          <a:stretch/>
        </p:blipFill>
        <p:spPr>
          <a:xfrm>
            <a:off x="1593720" y="5532480"/>
            <a:ext cx="2482920" cy="33274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2" descr="603630_7135thumb500"/>
          <p:cNvPicPr/>
          <p:nvPr/>
        </p:nvPicPr>
        <p:blipFill>
          <a:blip r:embed="rId4"/>
          <a:stretch/>
        </p:blipFill>
        <p:spPr>
          <a:xfrm>
            <a:off x="4564080" y="5529240"/>
            <a:ext cx="1915920" cy="33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8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2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0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12640" y="347760"/>
            <a:ext cx="5153040" cy="141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 какой сказке защищаются права детей на получение образования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Picture 9" descr="413"/>
          <p:cNvPicPr/>
          <p:nvPr/>
        </p:nvPicPr>
        <p:blipFill>
          <a:blip r:embed="rId1"/>
          <a:stretch/>
        </p:blipFill>
        <p:spPr>
          <a:xfrm>
            <a:off x="3591000" y="2747880"/>
            <a:ext cx="2647800" cy="339876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10"/>
          <p:cNvSpPr/>
          <p:nvPr/>
        </p:nvSpPr>
        <p:spPr>
          <a:xfrm>
            <a:off x="1322280" y="6877080"/>
            <a:ext cx="4645080" cy="1979640"/>
          </a:xfrm>
          <a:prstGeom prst="foldedCorner">
            <a:avLst>
              <a:gd name="adj" fmla="val 125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татья 28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аво ребенка на образова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9" name="Picture 12" descr="i4be94448a701b"/>
          <p:cNvPicPr/>
          <p:nvPr/>
        </p:nvPicPr>
        <p:blipFill>
          <a:blip r:embed="rId2"/>
          <a:stretch/>
        </p:blipFill>
        <p:spPr>
          <a:xfrm>
            <a:off x="674640" y="2747880"/>
            <a:ext cx="264816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0640" y="539640"/>
            <a:ext cx="5153040" cy="1316160"/>
          </a:xfrm>
          <a:prstGeom prst="rect">
            <a:avLst/>
          </a:prstGeom>
          <a:solidFill>
            <a:srgbClr val="fff9c2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акие права ребёнка нарушены в этой сказке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1" name="Picture 5" descr="ba5cb770eceb"/>
          <p:cNvPicPr/>
          <p:nvPr/>
        </p:nvPicPr>
        <p:blipFill>
          <a:blip r:embed="rId1"/>
          <a:stretch/>
        </p:blipFill>
        <p:spPr>
          <a:xfrm>
            <a:off x="1538280" y="2076480"/>
            <a:ext cx="3456000" cy="4376880"/>
          </a:xfrm>
          <a:prstGeom prst="rect">
            <a:avLst/>
          </a:prstGeom>
          <a:ln w="0">
            <a:noFill/>
          </a:ln>
        </p:spPr>
      </p:pic>
      <p:sp>
        <p:nvSpPr>
          <p:cNvPr id="212" name="AutoShape 6"/>
          <p:cNvSpPr/>
          <p:nvPr/>
        </p:nvSpPr>
        <p:spPr>
          <a:xfrm>
            <a:off x="1322280" y="6877080"/>
            <a:ext cx="4645080" cy="1979640"/>
          </a:xfrm>
          <a:prstGeom prst="foldedCorner">
            <a:avLst>
              <a:gd name="adj" fmla="val 125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татья 9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ебёнок имеет право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нать своих родителей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 право на их забот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0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2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12640" y="347400"/>
            <a:ext cx="5153040" cy="15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Узнав так много о правах, не забудьте о своих обязанностях.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96640" y="1883880"/>
            <a:ext cx="5832360" cy="4821480"/>
          </a:xfrm>
          <a:prstGeom prst="rect">
            <a:avLst/>
          </a:prstGeom>
          <a:solidFill>
            <a:srgbClr val="fff5a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omic Sans MS"/>
              </a:rPr>
              <a:t>Следить за собой и участвовать в домашних делах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omic Sans MS"/>
              </a:rPr>
              <a:t>Учиться в соответствии со своим физическим и умственным развитие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omic Sans MS"/>
              </a:rPr>
              <a:t>С уважением относиться к своим родителям и другим членам семь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omic Sans MS"/>
              </a:rPr>
              <a:t>Беречь своё здоровь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omic Sans MS"/>
              </a:rPr>
              <a:t>С уважением относиться к своему государству и соблюдать его закон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omic Sans MS"/>
              </a:rPr>
              <a:t>Соблюдать принятые в обществе  правила поведе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omic Sans MS"/>
              </a:rPr>
              <a:t>Бережно относиться к окружающей сред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5" name="My malenkie deti.mp3" descr=""/>
          <p:cNvPicPr/>
          <p:nvPr/>
        </p:nvPicPr>
        <p:blipFill>
          <a:blip r:embed="rId8"/>
          <a:stretch/>
        </p:blipFill>
        <p:spPr>
          <a:xfrm>
            <a:off x="135000" y="252360"/>
            <a:ext cx="228600" cy="4064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C:\Documents and Settings\Наталья\Мои документы\Мои рисунки\99_1.jpg"/>
          <p:cNvPicPr/>
          <p:nvPr/>
        </p:nvPicPr>
        <p:blipFill>
          <a:blip r:embed="rId9"/>
          <a:stretch/>
        </p:blipFill>
        <p:spPr>
          <a:xfrm>
            <a:off x="1903320" y="6108840"/>
            <a:ext cx="289260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5" dur="1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8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2180"/>
                            </p:stCondLst>
                            <p:childTnLst>
                              <p:par>
                                <p:cTn id="3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8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4540"/>
                            </p:stCondLst>
                            <p:childTnLst>
                              <p:par>
                                <p:cTn id="3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8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6740"/>
                            </p:stCondLst>
                            <p:childTnLst>
                              <p:par>
                                <p:cTn id="3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8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7540"/>
                            </p:stCondLst>
                            <p:childTnLst>
                              <p:par>
                                <p:cTn id="3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9900"/>
                            </p:stCondLst>
                            <p:childTnLst>
                              <p:par>
                                <p:cTn id="3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8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11660"/>
                            </p:stCondLst>
                            <p:childTnLst>
                              <p:par>
                                <p:cTn id="3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8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13060"/>
                            </p:stCondLst>
                            <p:childTnLst>
                              <p:par>
                                <p:cTn id="3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44640" y="252360"/>
            <a:ext cx="5153040" cy="168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Здание штаб-квартиры ООН в Нью-Йорке (США)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Picture 5" descr="72262_152_02_b"/>
          <p:cNvPicPr/>
          <p:nvPr/>
        </p:nvPicPr>
        <p:blipFill>
          <a:blip r:embed="rId1"/>
          <a:stretch/>
        </p:blipFill>
        <p:spPr>
          <a:xfrm>
            <a:off x="998640" y="2363760"/>
            <a:ext cx="5346720" cy="61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convention_ontherightsofthechild_2009"/>
          <p:cNvPicPr/>
          <p:nvPr/>
        </p:nvPicPr>
        <p:blipFill>
          <a:blip r:embed="rId1"/>
          <a:stretch/>
        </p:blipFill>
        <p:spPr>
          <a:xfrm>
            <a:off x="1593720" y="0"/>
            <a:ext cx="415296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convention_ontherightsofthechild_2009"/>
          <p:cNvPicPr/>
          <p:nvPr/>
        </p:nvPicPr>
        <p:blipFill>
          <a:blip r:embed="rId1"/>
          <a:stretch/>
        </p:blipFill>
        <p:spPr>
          <a:xfrm>
            <a:off x="2925720" y="96840"/>
            <a:ext cx="2109960" cy="7883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3b42e3081059"/>
          <p:cNvPicPr/>
          <p:nvPr/>
        </p:nvPicPr>
        <p:blipFill>
          <a:blip r:embed="rId2"/>
          <a:stretch/>
        </p:blipFill>
        <p:spPr>
          <a:xfrm>
            <a:off x="404640" y="4091040"/>
            <a:ext cx="5618160" cy="48006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C:\Documents and Settings\Наталья\Мои документы\Мои рисунки\2009_04_10_16_41_163466668.jpg"/>
          <p:cNvPicPr/>
          <p:nvPr/>
        </p:nvPicPr>
        <p:blipFill>
          <a:blip r:embed="rId3"/>
          <a:stretch/>
        </p:blipFill>
        <p:spPr>
          <a:xfrm>
            <a:off x="4870440" y="1682640"/>
            <a:ext cx="1494000" cy="4797360"/>
          </a:xfrm>
          <a:prstGeom prst="rect">
            <a:avLst/>
          </a:prstGeom>
          <a:ln w="0">
            <a:noFill/>
          </a:ln>
        </p:spPr>
      </p:pic>
      <p:pic>
        <p:nvPicPr>
          <p:cNvPr id="159" name="Прямоугольник 1" descr=""/>
          <p:cNvPicPr/>
          <p:nvPr/>
        </p:nvPicPr>
        <p:blipFill>
          <a:blip r:embed="rId4"/>
          <a:stretch/>
        </p:blipFill>
        <p:spPr>
          <a:xfrm>
            <a:off x="-139680" y="1494000"/>
            <a:ext cx="349236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КОНВЕНЦИЯ О ПРАВАХ РЕБЕН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5772240" cy="60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онвенция принята единогласно Генеральной Ассамблеей ООН 20 ноября 1989 года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 открыта для подписания, ратификации и присоединения.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онвенция вступила в силу 2 сентября 1990 года в соответствии со статьей 49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онвенция ратифицирована Верховным Советом СССР 13 июня 1990 года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онвенция вступила в силу для Российской Федерации 15 сентября 1990 года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7" descr="H:\МАМА\АНИМАШКИ\6236051.gif"/>
          <p:cNvPicPr/>
          <p:nvPr/>
        </p:nvPicPr>
        <p:blipFill>
          <a:blip r:embed="rId1"/>
          <a:stretch/>
        </p:blipFill>
        <p:spPr>
          <a:xfrm>
            <a:off x="6265800" y="3035160"/>
            <a:ext cx="592200" cy="53341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http://basik.ru/images/2691/short.jpg"/>
          <p:cNvPicPr/>
          <p:nvPr/>
        </p:nvPicPr>
        <p:blipFill>
          <a:blip r:embed="rId2"/>
          <a:stretch/>
        </p:blipFill>
        <p:spPr>
          <a:xfrm>
            <a:off x="5319720" y="0"/>
            <a:ext cx="125244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solidFill>
            <a:srgbClr val="fff9c2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акие литературные герои могли бы пожаловаться, что нарушено их право на неприкосновенность их жилища?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10" descr="536967d561d6"/>
          <p:cNvPicPr/>
          <p:nvPr/>
        </p:nvPicPr>
        <p:blipFill>
          <a:blip r:embed="rId1"/>
          <a:stretch/>
        </p:blipFill>
        <p:spPr>
          <a:xfrm>
            <a:off x="3537000" y="2363760"/>
            <a:ext cx="2754360" cy="34797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3" descr="rasskazy%20po%20kartinkam%20teremok%20vnutri%201_enl"/>
          <p:cNvPicPr/>
          <p:nvPr/>
        </p:nvPicPr>
        <p:blipFill>
          <a:blip r:embed="rId2"/>
          <a:stretch/>
        </p:blipFill>
        <p:spPr>
          <a:xfrm>
            <a:off x="3537000" y="5627520"/>
            <a:ext cx="2754360" cy="32004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5" descr="345b566ee80b"/>
          <p:cNvPicPr/>
          <p:nvPr/>
        </p:nvPicPr>
        <p:blipFill>
          <a:blip r:embed="rId3"/>
          <a:stretch/>
        </p:blipFill>
        <p:spPr>
          <a:xfrm>
            <a:off x="1432080" y="4859280"/>
            <a:ext cx="1888920" cy="39369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8" descr="3"/>
          <p:cNvPicPr/>
          <p:nvPr/>
        </p:nvPicPr>
        <p:blipFill>
          <a:blip r:embed="rId4"/>
          <a:stretch/>
        </p:blipFill>
        <p:spPr>
          <a:xfrm>
            <a:off x="135000" y="2459160"/>
            <a:ext cx="243036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3" descr="3e92ad8dfeb7a07a021cfd33406a6b1a_21149"/>
          <p:cNvPicPr/>
          <p:nvPr/>
        </p:nvPicPr>
        <p:blipFill>
          <a:blip r:embed="rId1"/>
          <a:stretch/>
        </p:blipFill>
        <p:spPr>
          <a:xfrm>
            <a:off x="1322280" y="3132000"/>
            <a:ext cx="1319400" cy="393552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252000"/>
            <a:ext cx="6858000" cy="2737080"/>
          </a:xfrm>
          <a:prstGeom prst="rect">
            <a:avLst/>
          </a:prstGeom>
          <a:solidFill>
            <a:srgbClr val="fff9c2"/>
          </a:solidFill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Мачеха с утра до ночи заставляет Золушку трудиться. Несчастной девочке запрещено участвовать в играх и забавах ее сестер. Какая статья Конвенции была бы нарушена, если бы подобное происходило в наши дни?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AutoShape 7"/>
          <p:cNvSpPr/>
          <p:nvPr/>
        </p:nvSpPr>
        <p:spPr>
          <a:xfrm>
            <a:off x="1538280" y="6684840"/>
            <a:ext cx="4753080" cy="2206800"/>
          </a:xfrm>
          <a:prstGeom prst="foldedCorner">
            <a:avLst>
              <a:gd name="adj" fmla="val 125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1646280" y="6684840"/>
            <a:ext cx="46990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татья 31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аво ребенка на отдых и досуг, право участвовать в играх и развлекательных мероприятиях, и свободно участвовать в культурной жизни и заниматься искусством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10" descr="1234189592_zolushka"/>
          <p:cNvPicPr/>
          <p:nvPr/>
        </p:nvPicPr>
        <p:blipFill>
          <a:blip r:embed="rId2"/>
          <a:stretch/>
        </p:blipFill>
        <p:spPr>
          <a:xfrm>
            <a:off x="3213000" y="3322800"/>
            <a:ext cx="210672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solidFill>
            <a:srgbClr val="fffce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Баба-яга уносит братца Иванушку от сестрицы Аленушки за тридевять земель в тридесятое царство. Какая статья Конвенции была нарушена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4" descr="1015a8dae979"/>
          <p:cNvPicPr/>
          <p:nvPr/>
        </p:nvPicPr>
        <p:blipFill>
          <a:blip r:embed="rId1"/>
          <a:stretch/>
        </p:blipFill>
        <p:spPr>
          <a:xfrm>
            <a:off x="2349360" y="2459160"/>
            <a:ext cx="2322720" cy="4225680"/>
          </a:xfrm>
          <a:prstGeom prst="rect">
            <a:avLst/>
          </a:prstGeom>
          <a:ln w="0">
            <a:noFill/>
          </a:ln>
        </p:spPr>
      </p:pic>
      <p:sp>
        <p:nvSpPr>
          <p:cNvPr id="176" name="AutoShape 6"/>
          <p:cNvSpPr/>
          <p:nvPr/>
        </p:nvSpPr>
        <p:spPr>
          <a:xfrm>
            <a:off x="1538280" y="6972480"/>
            <a:ext cx="4699080" cy="1919160"/>
          </a:xfrm>
          <a:prstGeom prst="foldedCorner">
            <a:avLst>
              <a:gd name="adj" fmla="val 125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татья 16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аво на личную жизнь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еприкосновенность и свобод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52000"/>
            <a:ext cx="6399360" cy="163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В каких ещё сказках нарушено право на личную неприкосновенность, жизнь и свободу?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7" descr="4200"/>
          <p:cNvPicPr/>
          <p:nvPr/>
        </p:nvPicPr>
        <p:blipFill>
          <a:blip r:embed="rId1"/>
          <a:stretch/>
        </p:blipFill>
        <p:spPr>
          <a:xfrm>
            <a:off x="243000" y="1884240"/>
            <a:ext cx="3078000" cy="4121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BMZ3"/>
          <p:cNvPicPr/>
          <p:nvPr/>
        </p:nvPicPr>
        <p:blipFill>
          <a:blip r:embed="rId2"/>
          <a:stretch/>
        </p:blipFill>
        <p:spPr>
          <a:xfrm>
            <a:off x="4294080" y="1979640"/>
            <a:ext cx="2092320" cy="53751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1" descr="0800d915c9d9"/>
          <p:cNvPicPr/>
          <p:nvPr/>
        </p:nvPicPr>
        <p:blipFill>
          <a:blip r:embed="rId3"/>
          <a:stretch/>
        </p:blipFill>
        <p:spPr>
          <a:xfrm>
            <a:off x="2241720" y="5532480"/>
            <a:ext cx="242856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0T09:56:41Z</dcterms:created>
  <dc:creator>Елена</dc:creator>
  <dc:description/>
  <dc:language>en-US</dc:language>
  <cp:lastModifiedBy>MAGNUM</cp:lastModifiedBy>
  <cp:lastPrinted>2015-04-01T21:45:38Z</cp:lastPrinted>
  <dcterms:modified xsi:type="dcterms:W3CDTF">2015-04-01T22:17:02Z</dcterms:modified>
  <cp:revision>30</cp:revision>
  <dc:subject/>
  <dc:title>"Мы тоже имеем права!"</dc:title>
</cp:coreProperties>
</file>