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36.png" ContentType="image/png"/>
  <Override PartName="/ppt/media/image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BCC-478E-4978-9DB5-CA9E958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4F2-0C37-4104-AB4E-6332FFB7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CDD-5A3D-41A1-A3A3-A29F42B6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B84-B099-471F-B0EB-E37EF20F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03F3-EFB6-4E25-983F-2E0087E5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364-4E1B-453C-8613-ACE3DAAB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59CE-08A2-4F7F-B435-6D67CA1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263B-CBE1-4145-8CFD-66BC025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84B4-173B-42A1-BFF8-95237F5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E76-5C6F-4373-AF32-74564E1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974-112A-4A96-A8CC-F853B7F2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510-26E5-4922-B1DE-01F12CF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172-122F-48C2-8EAC-09AA794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7393-38AF-44E0-A886-3A1CC61C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6D24-AA2F-4DDA-B5DA-570943D9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68F7-4C73-4C48-9A84-CAE08248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C669-8BF4-46DF-B5E2-985B0C24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114-EED1-460B-A8E8-D398CB9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C0A-6B54-4864-BCF1-438BA23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2A1-649C-4121-BE72-F95715B5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1A4-4F94-4AEC-8B02-FFDD99A5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BDD-99B8-4C57-BAFA-F5735879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C43-559F-4E21-9526-5E6EFF4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CE2-D713-416D-A776-D3ECF92E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04E-57D1-458B-9EA1-4128E7961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134-FDDC-4BE4-94A6-47C6197DF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КЛАСС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ОПРИЯТ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2808000" cy="321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d5b719eccfc"/>
          <p:cNvPicPr/>
          <p:nvPr/>
        </p:nvPicPr>
        <p:blipFill>
          <a:blip r:embed="rId2"/>
          <a:stretch/>
        </p:blipFill>
        <p:spPr>
          <a:xfrm>
            <a:off x="1917720" y="3708360"/>
            <a:ext cx="2033640" cy="470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a4d49055a90"/>
          <p:cNvPicPr/>
          <p:nvPr/>
        </p:nvPicPr>
        <p:blipFill>
          <a:blip r:embed="rId3"/>
          <a:stretch/>
        </p:blipFill>
        <p:spPr>
          <a:xfrm>
            <a:off x="4076640" y="2459160"/>
            <a:ext cx="2332080" cy="633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38280" y="6877080"/>
            <a:ext cx="421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f52a2dd7ae70"/>
          <p:cNvPicPr/>
          <p:nvPr/>
        </p:nvPicPr>
        <p:blipFill>
          <a:blip r:embed="rId1"/>
          <a:stretch/>
        </p:blipFill>
        <p:spPr>
          <a:xfrm>
            <a:off x="189000" y="3035160"/>
            <a:ext cx="2050920" cy="351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p_F"/>
          <p:cNvPicPr/>
          <p:nvPr/>
        </p:nvPicPr>
        <p:blipFill>
          <a:blip r:embed="rId2"/>
          <a:stretch/>
        </p:blipFill>
        <p:spPr>
          <a:xfrm>
            <a:off x="2293920" y="303516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51736868_skazki0204"/>
          <p:cNvPicPr/>
          <p:nvPr/>
        </p:nvPicPr>
        <p:blipFill>
          <a:blip r:embed="rId3"/>
          <a:stretch/>
        </p:blipFill>
        <p:spPr>
          <a:xfrm>
            <a:off x="4351320" y="3035160"/>
            <a:ext cx="1998720" cy="3418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photo_16"/>
          <p:cNvPicPr/>
          <p:nvPr/>
        </p:nvPicPr>
        <p:blipFill>
          <a:blip r:embed="rId1"/>
          <a:stretch/>
        </p:blipFill>
        <p:spPr>
          <a:xfrm>
            <a:off x="243000" y="2363760"/>
            <a:ext cx="2012760" cy="489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4248914d1f331e16c6539d5bde7a22fb"/>
          <p:cNvPicPr/>
          <p:nvPr/>
        </p:nvPicPr>
        <p:blipFill>
          <a:blip r:embed="rId2"/>
          <a:stretch/>
        </p:blipFill>
        <p:spPr>
          <a:xfrm>
            <a:off x="2943360" y="2459160"/>
            <a:ext cx="2646360" cy="354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30997_12_mesyatsev1956-3"/>
          <p:cNvPicPr/>
          <p:nvPr/>
        </p:nvPicPr>
        <p:blipFill>
          <a:blip r:embed="rId3"/>
          <a:stretch/>
        </p:blipFill>
        <p:spPr>
          <a:xfrm>
            <a:off x="1593720" y="5532480"/>
            <a:ext cx="2482920" cy="332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603630_7135thumb500"/>
          <p:cNvPicPr/>
          <p:nvPr/>
        </p:nvPicPr>
        <p:blipFill>
          <a:blip r:embed="rId4"/>
          <a:stretch/>
        </p:blipFill>
        <p:spPr>
          <a:xfrm>
            <a:off x="4564080" y="5529240"/>
            <a:ext cx="19159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640" y="252360"/>
            <a:ext cx="515304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дание штаб-квартиры ООН в Нью-Йорке (США)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72262_152_02_b"/>
          <p:cNvPicPr/>
          <p:nvPr/>
        </p:nvPicPr>
        <p:blipFill>
          <a:blip r:embed="rId1"/>
          <a:stretch/>
        </p:blipFill>
        <p:spPr>
          <a:xfrm>
            <a:off x="998640" y="2363760"/>
            <a:ext cx="53467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b42e3081059"/>
          <p:cNvPicPr/>
          <p:nvPr/>
        </p:nvPicPr>
        <p:blipFill>
          <a:blip r:embed="rId2"/>
          <a:stretch/>
        </p:blipFill>
        <p:spPr>
          <a:xfrm>
            <a:off x="404640" y="4091040"/>
            <a:ext cx="56181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Наталья\Мои документы\Мои рисунки\2009_04_10_16_41_163466668.jpg"/>
          <p:cNvPicPr/>
          <p:nvPr/>
        </p:nvPicPr>
        <p:blipFill>
          <a:blip r:embed="rId3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" descr=""/>
          <p:cNvPicPr/>
          <p:nvPr/>
        </p:nvPicPr>
        <p:blipFill>
          <a:blip r:embed="rId4"/>
          <a:stretch/>
        </p:blipFill>
        <p:spPr>
          <a:xfrm>
            <a:off x="-139680" y="1494000"/>
            <a:ext cx="3492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BMZ3"/>
          <p:cNvPicPr/>
          <p:nvPr/>
        </p:nvPicPr>
        <p:blipFill>
          <a:blip r:embed="rId2"/>
          <a:stretch/>
        </p:blipFill>
        <p:spPr>
          <a:xfrm>
            <a:off x="4294080" y="1979640"/>
            <a:ext cx="2092320" cy="537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0800d915c9d9"/>
          <p:cNvPicPr/>
          <p:nvPr/>
        </p:nvPicPr>
        <p:blipFill>
          <a:blip r:embed="rId3"/>
          <a:stretch/>
        </p:blipFill>
        <p:spPr>
          <a:xfrm>
            <a:off x="2241720" y="5532480"/>
            <a:ext cx="242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MAGNUM</cp:lastModifiedBy>
  <cp:lastPrinted>2015-04-01T21:45:38Z</cp:lastPrinted>
  <dcterms:modified xsi:type="dcterms:W3CDTF">2015-04-01T22:17:02Z</dcterms:modified>
  <cp:revision>30</cp:revision>
  <dc:subject/>
  <dc:title>"Мы тоже имеем права!"</dc:title>
</cp:coreProperties>
</file>