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F409-F128-4C76-A0B0-A3B02715D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3457-D046-4421-BD50-84A39AFDB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45F72-1704-4791-AE07-FD468BCC1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1498-FB02-46A7-BF75-03F4C6F04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AAC07-34D5-4726-9061-8D31AFA158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CC050-0871-4041-8F8F-C811793DB9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97BFE-78E3-4163-B4DD-C1E396B0DA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A79AB-6D84-4346-93BF-7CF8DE7E0A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DE92D-D424-42BC-8A98-A2524380C9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1AC6A-0A26-471B-882C-400A093638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25BFE-E380-42F4-9277-DE49B8ED92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56AC9-679E-450D-90C9-3790029F9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C237-C891-4DA3-B7D1-B59C76039A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A15D0-DDE0-488E-AA79-C405E02757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9C4B4-F1EB-44BE-AD95-E01B137CBA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DBCC2-CD92-4906-B10B-66A0204A50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95357-C50D-4127-9697-23591E9B06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130C-5B16-4B0B-827D-81EB62BAB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56EB-39AE-461B-A26E-A27F65368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133ED-D1DA-467C-9E43-F1D0B41CA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3950-19B2-4B4E-862A-8B7033005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2BFA-560F-484B-ABC3-F0CCBB44D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2C24-83AE-44C6-BB22-8E6395CA7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B68F-3DEA-40B3-8474-ECCF94409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16000" y="6365520"/>
            <a:ext cx="54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7EC8-7C76-437E-9A0A-07D895BF2BF9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D5FF-B8F5-4502-8415-12AE9787C2AB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WordArt 5" descr=""/>
          <p:cNvPicPr/>
          <p:nvPr/>
        </p:nvPicPr>
        <p:blipFill>
          <a:blip r:embed="rId1"/>
          <a:stretch/>
        </p:blipFill>
        <p:spPr>
          <a:xfrm>
            <a:off x="1011240" y="450720"/>
            <a:ext cx="7224840" cy="18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блема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Западной Европе, по данным ООН, только 39 % молодых людей от 15 до 24 лет обеспечены работой, в России этот показатель ниже – 31 %.</a:t>
            </a: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1" name="Picture 6" descr="Рисунок10"/>
          <p:cNvPicPr/>
          <p:nvPr/>
        </p:nvPicPr>
        <p:blipFill>
          <a:blip r:embed="rId2"/>
          <a:stretch/>
        </p:blipFill>
        <p:spPr>
          <a:xfrm>
            <a:off x="6172200" y="4356000"/>
            <a:ext cx="2131920" cy="20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и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8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ервый тип: человек – природа. Люди этих профессий имеют дело с живой и неживой природой: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Ветеринар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Агроном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Гидролог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еханизатор;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Тракторист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Для них характерен общий предмет труда животные и растения, почва и воздушная среда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4" name="Picture 6" descr="Рисунок9"/>
          <p:cNvPicPr/>
          <p:nvPr/>
        </p:nvPicPr>
        <p:blipFill>
          <a:blip r:embed="rId6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7"/>
          <a:stretch/>
        </p:blipFill>
        <p:spPr>
          <a:xfrm>
            <a:off x="2876400" y="2895480"/>
            <a:ext cx="2171880" cy="3224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8"/>
          <a:stretch/>
        </p:blipFill>
        <p:spPr>
          <a:xfrm>
            <a:off x="5394240" y="2895480"/>
            <a:ext cx="2054160" cy="32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9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торой тип: человек – техника. Это могут</a:t>
            </a: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быть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летчик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одител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матрос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токар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слесари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и другие профессии, использующие технические устройства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9" name="Picture 6" descr="Рисунок9"/>
          <p:cNvPicPr/>
          <p:nvPr/>
        </p:nvPicPr>
        <p:blipFill>
          <a:blip r:embed="rId7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8"/>
          <a:stretch/>
        </p:blipFill>
        <p:spPr>
          <a:xfrm>
            <a:off x="4705200" y="3328920"/>
            <a:ext cx="1768680" cy="2882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9"/>
          <a:stretch/>
        </p:blipFill>
        <p:spPr>
          <a:xfrm>
            <a:off x="2419200" y="2584440"/>
            <a:ext cx="2171880" cy="2871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10"/>
          <a:stretch/>
        </p:blipFill>
        <p:spPr>
          <a:xfrm>
            <a:off x="6534000" y="2610000"/>
            <a:ext cx="2183040" cy="28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Третий тип: человек – человек.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редметом труда в этой профессии является другой человек, а характерной чертой деятельности – воздействие на других людей. К такому типу профессий относятся: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учитель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рач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журналист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родавец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95" name="Picture 6" descr="Рисунок9"/>
          <p:cNvPicPr/>
          <p:nvPr/>
        </p:nvPicPr>
        <p:blipFill>
          <a:blip r:embed="rId5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6"/>
          <a:stretch/>
        </p:blipFill>
        <p:spPr>
          <a:xfrm>
            <a:off x="3048120" y="4114800"/>
            <a:ext cx="199224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7"/>
          <a:stretch/>
        </p:blipFill>
        <p:spPr>
          <a:xfrm>
            <a:off x="5257800" y="4114800"/>
            <a:ext cx="17715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8"/>
          <a:stretch/>
        </p:blipFill>
        <p:spPr>
          <a:xfrm>
            <a:off x="7315200" y="4143240"/>
            <a:ext cx="12304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Четвертый тип: человек – знаковая система. Специалисты такого типа используют в своем труде различные знаки: устная и письменная речь, цифры, химические и физические символы, ноты, схемы, карты, графики, рисунки, дорожные знаки. Это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бухгалтеры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ученые,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люди, работающие в лабораториях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научных центрах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1" name="Picture 6" descr="Рисунок9"/>
          <p:cNvPicPr/>
          <p:nvPr/>
        </p:nvPicPr>
        <p:blipFill>
          <a:blip r:embed="rId5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6"/>
          <a:stretch/>
        </p:blipFill>
        <p:spPr>
          <a:xfrm>
            <a:off x="6613560" y="469800"/>
            <a:ext cx="1994040" cy="287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7"/>
          <a:stretch/>
        </p:blipFill>
        <p:spPr>
          <a:xfrm>
            <a:off x="390600" y="609480"/>
            <a:ext cx="1457280" cy="287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8"/>
          <a:stretch/>
        </p:blipFill>
        <p:spPr>
          <a:xfrm>
            <a:off x="6461280" y="4145040"/>
            <a:ext cx="2427120" cy="44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ый тип: человек – художественный образ.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Людей этого типа отличает наличие живого образного мышления, художественная фантазия, талант. Это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музыкант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художник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актер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дизайнеры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7" name="Picture 6" descr="Рисунок11"/>
          <p:cNvPicPr/>
          <p:nvPr/>
        </p:nvPicPr>
        <p:blipFill>
          <a:blip r:embed="rId5"/>
          <a:stretch/>
        </p:blipFill>
        <p:spPr>
          <a:xfrm>
            <a:off x="6297480" y="3962520"/>
            <a:ext cx="2171880" cy="243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6"/>
          <a:stretch/>
        </p:blipFill>
        <p:spPr>
          <a:xfrm>
            <a:off x="3962520" y="3395520"/>
            <a:ext cx="1938240" cy="2882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7"/>
          <a:stretch/>
        </p:blipFill>
        <p:spPr>
          <a:xfrm>
            <a:off x="2871720" y="5029200"/>
            <a:ext cx="1938240" cy="28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8"/>
          <a:stretch/>
        </p:blipFill>
        <p:spPr>
          <a:xfrm>
            <a:off x="5924520" y="4468680"/>
            <a:ext cx="1944720" cy="28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Лента новостей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Ярмарка профессий</a:t>
            </a:r>
            <a:r>
              <a:rPr b="0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Логистик – специалист, регулирующий потоки: складские, транспортные, производственные. Транспортный логистик придумывает схемы перевозки грузов компании, складской логистик занимается организацией хранения продукции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аркетолог – в переводе с латыни «знающий рынок». Специалист, изучающий рынок для того, чтобы узнать потребности покупателей, их вкусы и предпочтения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ерчендайзер – это человек, который следит за тем, как товар его фирмы представлен в крупных магазинах. Он обходит магазины, дает советы по размещению товара, по оформлению витрин. Этой специальности пока не обучают ни в одном учебном заведении</a:t>
            </a:r>
            <a:r>
              <a:rPr b="0" lang="ru-RU" sz="2400" spc="-1" strike="noStrike">
                <a:solidFill>
                  <a:srgbClr val="2c2c8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3" name="Picture 6" descr="Рисунок23"/>
          <p:cNvPicPr/>
          <p:nvPr/>
        </p:nvPicPr>
        <p:blipFill>
          <a:blip r:embed="rId4"/>
          <a:stretch/>
        </p:blipFill>
        <p:spPr>
          <a:xfrm>
            <a:off x="228600" y="228600"/>
            <a:ext cx="165276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Занимательные факты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Самые редкие профессии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Титестер – дегустатор чая.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Постижёр - это специалист по изготовлению париков, усов, бород и бакенбардов.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Мастер спецэффектов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6" name="Picture 6" descr="Рисунок17"/>
          <p:cNvPicPr/>
          <p:nvPr/>
        </p:nvPicPr>
        <p:blipFill>
          <a:blip r:embed="rId4"/>
          <a:stretch/>
        </p:blipFill>
        <p:spPr>
          <a:xfrm>
            <a:off x="6324480" y="4362480"/>
            <a:ext cx="229104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5"/>
          <a:stretch/>
        </p:blipFill>
        <p:spPr>
          <a:xfrm>
            <a:off x="990720" y="502920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6"/>
          <a:stretch/>
        </p:blipFill>
        <p:spPr>
          <a:xfrm>
            <a:off x="3505320" y="5116680"/>
            <a:ext cx="1790640" cy="1552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7"/>
          <a:stretch/>
        </p:blipFill>
        <p:spPr>
          <a:xfrm>
            <a:off x="6053040" y="3948120"/>
            <a:ext cx="14382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лякса</dc:creator>
  <dc:description/>
  <dc:language>en-US</dc:language>
  <cp:lastModifiedBy>MAGNUM</cp:lastModifiedBy>
  <cp:lastPrinted>2002-01-16T03:48:31Z</cp:lastPrinted>
  <dcterms:modified xsi:type="dcterms:W3CDTF">2002-01-16T04:22:4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