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2678-627F-47AA-B916-87EFE891C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144AD-9314-460D-A06D-1B5CD5AAF0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0369-199E-453F-A4B7-D37E1F6FF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581C-9E6B-4CF6-B055-6CB82C81E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971E-9C55-434C-A0BE-043D59CC3D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32884-7809-4F0B-B07D-FCC5B60D8E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A3A0-26CB-4C56-B3FA-D5DD676997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7DC1-0481-4D76-AB20-50D4F64D24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EA6E-9780-4E7D-9637-F13D7AD620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CEE7B-F1C3-4C06-82EA-1E9DD93373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161C-CE9A-4282-A19C-E77D7CED79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065AB-9E52-4F92-B6CC-76985E34B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BDC4-C186-45CC-8E7C-DABDBB9ECD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EFB3B-D495-4B88-8ACE-F215DB79B3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5097-E82E-4798-AE39-ED22932758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6F921-CED1-4FFE-9557-ADAD2412A6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935C4-DCA3-4809-9A8A-44433E5F92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D848-A4DE-444C-A1D5-F15BA9181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C64A-F755-444C-BB22-EAD9E0072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5962-61B3-4D7F-A21F-BB4B696758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6355-C7F4-4E0E-84B3-E83A701C4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3597-6A60-48D6-BEFD-3310DDAF8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775D0-438B-4F62-9E2D-643742C95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3890-2FBE-49D4-A299-69EB80A7C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9B4-8A3E-47B0-AC9F-FB807161E74D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3B19-6BBB-4F64-B191-6DC953817E4B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WordArt 5" descr=""/>
          <p:cNvPicPr/>
          <p:nvPr/>
        </p:nvPicPr>
        <p:blipFill>
          <a:blip r:embed="rId1"/>
          <a:stretch/>
        </p:blipFill>
        <p:spPr>
          <a:xfrm>
            <a:off x="1011240" y="450720"/>
            <a:ext cx="7224840" cy="18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блема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Западной Европе, по данным ООН, только 39 % молодых людей от 15 до 24 лет обеспечены работой, в России этот показатель ниже – 31 %.</a:t>
            </a: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1" name="Picture 6" descr="Рисунок10"/>
          <p:cNvPicPr/>
          <p:nvPr/>
        </p:nvPicPr>
        <p:blipFill>
          <a:blip r:embed="rId2"/>
          <a:stretch/>
        </p:blipFill>
        <p:spPr>
          <a:xfrm>
            <a:off x="6172200" y="4356000"/>
            <a:ext cx="213192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ервый тип: человек – природа. Люди этих профессий имеют дело с живой и неживой природой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Ветеринар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Агроном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Гидролог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ханизатор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-258480" algn="just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Тракторист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58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Для них характерен общий предмет труда животные и растения, почва и воздушная среда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4" name="Picture 6" descr="Рисунок9"/>
          <p:cNvPicPr/>
          <p:nvPr/>
        </p:nvPicPr>
        <p:blipFill>
          <a:blip r:embed="rId6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7"/>
          <a:stretch/>
        </p:blipFill>
        <p:spPr>
          <a:xfrm>
            <a:off x="2876400" y="2895480"/>
            <a:ext cx="2171880" cy="32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8"/>
          <a:stretch/>
        </p:blipFill>
        <p:spPr>
          <a:xfrm>
            <a:off x="5394240" y="2895480"/>
            <a:ext cx="205416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9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торой тип: человек – техника. Это могут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быть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етч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одител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атрос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окар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слесари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и другие профессии, использующие технические устройства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9" name="Picture 6" descr="Рисунок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8"/>
          <a:stretch/>
        </p:blipFill>
        <p:spPr>
          <a:xfrm>
            <a:off x="4705200" y="3328920"/>
            <a:ext cx="1768680" cy="288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9"/>
          <a:stretch/>
        </p:blipFill>
        <p:spPr>
          <a:xfrm>
            <a:off x="2419200" y="2584440"/>
            <a:ext cx="217188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"/>
          <p:cNvPicPr/>
          <p:nvPr/>
        </p:nvPicPr>
        <p:blipFill>
          <a:blip r:embed="rId10"/>
          <a:stretch/>
        </p:blipFill>
        <p:spPr>
          <a:xfrm>
            <a:off x="6534000" y="2610000"/>
            <a:ext cx="218304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Третий тип: человек – человек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учитель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врач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журналист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родавец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95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/>
          <a:stretch/>
        </p:blipFill>
        <p:spPr>
          <a:xfrm>
            <a:off x="3048120" y="4114800"/>
            <a:ext cx="199224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7715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8"/>
          <a:stretch/>
        </p:blipFill>
        <p:spPr>
          <a:xfrm>
            <a:off x="7315200" y="4143240"/>
            <a:ext cx="123048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Четвертый тип: человек – знаковая система. Специалисты такого типа используют в своем труде различные знаки: устная и письменная речь, цифры, химические и физические символы, ноты, схемы, карты, графики, рисунки, дорожные знаки. Это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бухгалтеры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ученые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юди, работающие в лабораториях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научных центрах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1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6"/>
          <a:stretch/>
        </p:blipFill>
        <p:spPr>
          <a:xfrm>
            <a:off x="6613560" y="469800"/>
            <a:ext cx="1994040" cy="287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7"/>
          <a:stretch/>
        </p:blipFill>
        <p:spPr>
          <a:xfrm>
            <a:off x="390600" y="609480"/>
            <a:ext cx="1457280" cy="287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8"/>
          <a:stretch/>
        </p:blipFill>
        <p:spPr>
          <a:xfrm>
            <a:off x="6461280" y="4145040"/>
            <a:ext cx="2427120" cy="44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рофессии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Пятый тип: человек – художественный образ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юдей этого типа отличает наличие живого образного мышления, художественная фантазия, талант. Это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узыкант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художн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актер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дизайнеры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7" name="Picture 6" descr="Рисунок11"/>
          <p:cNvPicPr/>
          <p:nvPr/>
        </p:nvPicPr>
        <p:blipFill>
          <a:blip r:embed="rId5"/>
          <a:stretch/>
        </p:blipFill>
        <p:spPr>
          <a:xfrm>
            <a:off x="6297480" y="3962520"/>
            <a:ext cx="2171880" cy="243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6"/>
          <a:stretch/>
        </p:blipFill>
        <p:spPr>
          <a:xfrm>
            <a:off x="3962520" y="3395520"/>
            <a:ext cx="1938240" cy="288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7"/>
          <a:stretch/>
        </p:blipFill>
        <p:spPr>
          <a:xfrm>
            <a:off x="2871720" y="5029200"/>
            <a:ext cx="1938240" cy="2871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8"/>
          <a:stretch/>
        </p:blipFill>
        <p:spPr>
          <a:xfrm>
            <a:off x="5924520" y="4468680"/>
            <a:ext cx="1944720" cy="28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Ярмарка профессий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Логистик – специалист, регулирующий потоки: складские, транспортные, производственные. Транспортный логистик придумывает схемы перевозки грузов компании, складской логистик занимается организацией хранения продукци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аркетолог – в переводе с латыни «знающий рынок». Специалист, изучающий рынок для того, чтобы узнать потребности покупателей, их вкусы и предпочтения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Мерчендайзер – это человек, который следит за тем, как товар его фирмы представлен в крупных магазинах. Он обходит магазины, дает советы по размещению товара, по оформлению витрин. Этой специальности пока не обучают ни в одном учебном заведении</a:t>
            </a:r>
            <a:r>
              <a:rPr b="0" lang="ru-RU" sz="24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Picture 6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Занимательные факты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Самые редкие профессии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Титестер – дегустатор чая.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Постижёр - это специалист по изготовлению париков, усов, бород и бакенбардов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2c84"/>
                </a:solidFill>
                <a:latin typeface="Arial"/>
              </a:rPr>
              <a:t>Мастер спецэффектов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6" name="Picture 6" descr="Рисунок17"/>
          <p:cNvPicPr/>
          <p:nvPr/>
        </p:nvPicPr>
        <p:blipFill>
          <a:blip r:embed="rId4"/>
          <a:stretch/>
        </p:blipFill>
        <p:spPr>
          <a:xfrm>
            <a:off x="6324480" y="4362480"/>
            <a:ext cx="229104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990720" y="50292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3505320" y="5116680"/>
            <a:ext cx="1790640" cy="1552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6053040" y="3948120"/>
            <a:ext cx="14382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лякса</dc:creator>
  <dc:description/>
  <dc:language>en-US</dc:language>
  <cp:lastModifiedBy>MAGNUM</cp:lastModifiedBy>
  <cp:lastPrinted>2002-01-16T03:48:31Z</cp:lastPrinted>
  <dcterms:modified xsi:type="dcterms:W3CDTF">2002-01-16T04:22:4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