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C469-6F5C-4BA1-AF2A-DCE4A0A04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C484-9834-4A06-AC5A-115B4434E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044C-75E8-4C2E-A3C6-6AD69FFA0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7442-8F00-4519-A3D5-19BFE2A62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5862-B52F-4B4D-A6D7-58E882242E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0626-356D-4C71-A64B-2918F42F87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4615-6EBD-4BDB-B689-B60D1FC551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BF29-1306-489C-9B8E-BD0B97D860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B1E7-5D8C-425B-8FFD-CE56FFA3E8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F061-D098-49DF-BCAC-AADA1BC44F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3175-823E-4328-97AD-20ECCE519C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9305-50F0-4DF3-A4EA-DB51C253D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1640-AB16-4B3C-879E-C9DD4FD051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A713-5743-4A85-AD22-FC1FAE21A0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8072-39DD-493F-8983-2E621107C1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04908-9C9B-4C81-9C9E-F3BCEA3D5D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36DF-A859-469C-8169-583C95F499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8300-8CA3-4EAD-B6FF-D1F7A4330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899B-397D-43D9-9395-57B8A4479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5362-8A9A-48DC-8556-E085275A1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CC01-845E-48AA-8B15-1F910D460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562C-DFF3-48A6-BFC2-B276AF6B5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0211-9C9B-457B-A08E-D7FF19B8B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027A-18AD-432C-AFEF-315B69FC9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3C4A-CFBE-42D1-8D24-66B2B4F3EC5A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EF7C-8ECB-470B-8992-85C6C5929A71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WordArt 5" descr=""/>
          <p:cNvPicPr/>
          <p:nvPr/>
        </p:nvPicPr>
        <p:blipFill>
          <a:blip r:embed="rId1"/>
          <a:stretch/>
        </p:blipFill>
        <p:spPr>
          <a:xfrm>
            <a:off x="1011240" y="450720"/>
            <a:ext cx="7224840" cy="18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блема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Западной Европе, по данным ООН, только 39 % молодых людей от 15 до 24 лет обеспечены работой, в России этот показатель ниже – 31 %.</a:t>
            </a: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1" name="Picture 6" descr="Рисунок10"/>
          <p:cNvPicPr/>
          <p:nvPr/>
        </p:nvPicPr>
        <p:blipFill>
          <a:blip r:embed="rId2"/>
          <a:stretch/>
        </p:blipFill>
        <p:spPr>
          <a:xfrm>
            <a:off x="6172200" y="4356000"/>
            <a:ext cx="2131920" cy="20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ервый тип: человек – природа. Люди этих профессий имеют дело с живой и неживой природой: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Ветеринар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Агроном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Гидролог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ханизатор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Тракторист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Для них характерен общий предмет труда животные и растения, почва и воздушная среда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4" name="Picture 6" descr="Рисунок9"/>
          <p:cNvPicPr/>
          <p:nvPr/>
        </p:nvPicPr>
        <p:blipFill>
          <a:blip r:embed="rId6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7"/>
          <a:stretch/>
        </p:blipFill>
        <p:spPr>
          <a:xfrm>
            <a:off x="2876400" y="2895480"/>
            <a:ext cx="2171880" cy="32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8"/>
          <a:stretch/>
        </p:blipFill>
        <p:spPr>
          <a:xfrm>
            <a:off x="5394240" y="2895480"/>
            <a:ext cx="205416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торой тип: человек – техника. Это могут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быть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етч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одител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атрос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окар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слесари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и другие профессии, использующие технические устройства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9" name="Picture 6" descr="Рисунок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8"/>
          <a:stretch/>
        </p:blipFill>
        <p:spPr>
          <a:xfrm>
            <a:off x="4705200" y="3328920"/>
            <a:ext cx="1768680" cy="288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9"/>
          <a:stretch/>
        </p:blipFill>
        <p:spPr>
          <a:xfrm>
            <a:off x="2419200" y="2584440"/>
            <a:ext cx="217188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10"/>
          <a:stretch/>
        </p:blipFill>
        <p:spPr>
          <a:xfrm>
            <a:off x="6534000" y="2610000"/>
            <a:ext cx="218304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ретий тип: человек – человек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едметом труда в этой профессии является другой человек, а характерной чертой деятельности – воздействие на других людей. К такому типу профессий относятся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учитель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рач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журналист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одавец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95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3048120" y="4114800"/>
            <a:ext cx="199224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7715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8"/>
          <a:stretch/>
        </p:blipFill>
        <p:spPr>
          <a:xfrm>
            <a:off x="7315200" y="4143240"/>
            <a:ext cx="1230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Четвертый тип: человек – знаковая система. Специалисты такого типа используют в своем труде различные знаки: устная и письменная речь, цифры, химические и физические символы, ноты, схемы, карты, графики, рисунки, дорожные знаки. Это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бухгалтеры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ученые,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юди, работающие в лабораториях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научных центрах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1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6613560" y="469800"/>
            <a:ext cx="1994040" cy="287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7"/>
          <a:stretch/>
        </p:blipFill>
        <p:spPr>
          <a:xfrm>
            <a:off x="390600" y="609480"/>
            <a:ext cx="1457280" cy="287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8"/>
          <a:stretch/>
        </p:blipFill>
        <p:spPr>
          <a:xfrm>
            <a:off x="6461280" y="4145040"/>
            <a:ext cx="2427120" cy="44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ый тип: человек – художественный образ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юдей этого типа отличает наличие живого образного мышления, художественная фантазия, талант. Это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узыкант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художн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актер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дизайнеры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7" name="Picture 6" descr="Рисунок11"/>
          <p:cNvPicPr/>
          <p:nvPr/>
        </p:nvPicPr>
        <p:blipFill>
          <a:blip r:embed="rId5"/>
          <a:stretch/>
        </p:blipFill>
        <p:spPr>
          <a:xfrm>
            <a:off x="6297480" y="3962520"/>
            <a:ext cx="2171880" cy="24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6"/>
          <a:stretch/>
        </p:blipFill>
        <p:spPr>
          <a:xfrm>
            <a:off x="3962520" y="3395520"/>
            <a:ext cx="1938240" cy="288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7"/>
          <a:stretch/>
        </p:blipFill>
        <p:spPr>
          <a:xfrm>
            <a:off x="2871720" y="5029200"/>
            <a:ext cx="1938240" cy="28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8"/>
          <a:stretch/>
        </p:blipFill>
        <p:spPr>
          <a:xfrm>
            <a:off x="5924520" y="4468680"/>
            <a:ext cx="1944720" cy="28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Лента новостей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Ярмарка профессий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огистик – специалист, регулирующий потоки: складские, транспортные, производственные. Транспортный логистик придумывает схемы перевозки грузов компании, складской логистик занимается организацией хранения продукции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аркетолог – в переводе с латыни «знающий рынок». Специалист, изучающий рынок для того, чтобы узнать потребности покупателей, их вкусы и предпочтения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рчендайзер – это человек, который следит за тем, как товар его фирмы представлен в крупных магазинах. Он обходит магазины, дает советы по размещению товара, по оформлению витрин. Этой специальности пока не обучают ни в одном учебном заведении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3" name="Picture 6" descr="Рисунок23"/>
          <p:cNvPicPr/>
          <p:nvPr/>
        </p:nvPicPr>
        <p:blipFill>
          <a:blip r:embed="rId4"/>
          <a:stretch/>
        </p:blipFill>
        <p:spPr>
          <a:xfrm>
            <a:off x="228600" y="228600"/>
            <a:ext cx="16527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Занимательные факты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Самые редкие профессии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Титестер – дегустатор чая.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Постижёр - это специалист по изготовлению париков, усов, бород и бакенбардов.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Мастер спецэффектов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6" name="Picture 6" descr="Рисунок17"/>
          <p:cNvPicPr/>
          <p:nvPr/>
        </p:nvPicPr>
        <p:blipFill>
          <a:blip r:embed="rId4"/>
          <a:stretch/>
        </p:blipFill>
        <p:spPr>
          <a:xfrm>
            <a:off x="6324480" y="4362480"/>
            <a:ext cx="22910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990720" y="50292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6"/>
          <a:stretch/>
        </p:blipFill>
        <p:spPr>
          <a:xfrm>
            <a:off x="3505320" y="5116680"/>
            <a:ext cx="1790640" cy="155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7"/>
          <a:stretch/>
        </p:blipFill>
        <p:spPr>
          <a:xfrm>
            <a:off x="6053040" y="3948120"/>
            <a:ext cx="14382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лякса</dc:creator>
  <dc:description/>
  <dc:language>en-US</dc:language>
  <cp:lastModifiedBy>MAGNUM</cp:lastModifiedBy>
  <cp:lastPrinted>2002-01-16T03:48:31Z</cp:lastPrinted>
  <dcterms:modified xsi:type="dcterms:W3CDTF">2002-01-16T04:22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