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7CD5-085A-46E3-86FC-B1DD34DE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2FCA-046A-4A1A-B5D3-24BFC00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0C54-6CBB-437A-A423-F4245CA8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C9B8-38C9-4E48-93DC-568FADB3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5A85-A8D2-4648-ADEE-420524E2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EBA3-F212-476C-AEF6-E289DC21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3035-7779-4E82-800A-A611D89C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A7AC-910F-4FA2-A749-B9DDBB9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866-1A6D-4AFB-9A9C-BA5957C0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698-8122-4BD3-B8D2-B728F4A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3CD9-F464-4226-8226-8566E181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DBF4-FB9A-4342-937C-9384E21F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25FD-1215-4230-ABBF-DB87CF9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8CE7-9F1D-4456-B3BE-219020F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B605-7252-4DFF-8184-1C216602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1E3B-17C2-469D-9676-7C8F84C3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DADD-D056-4319-9A75-C990FE85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9A2F-1E6A-4A3F-871B-9F897B6E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B528-553C-414F-A26A-A85CC0F8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76D8-46C9-4ABE-A783-E4AD626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2D38-36BE-4F61-86B4-EE0583C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A42E-A0B7-451C-A835-A0B4562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B425-553E-4F42-9810-6FCF9C0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A33A-A556-41DF-A2B2-8A0132ED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9220-37E2-4261-AD29-3B83BCDD9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B9A-BB9A-48B5-BC4B-9672F146F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ВИЧ-инфекция и СПИД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без мифов и иллюзи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хема переда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3068640"/>
            <a:ext cx="136872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068640"/>
            <a:ext cx="144000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645000"/>
            <a:ext cx="1511280" cy="360360"/>
          </a:xfrm>
          <a:prstGeom prst="leftArrow">
            <a:avLst>
              <a:gd name="adj1" fmla="val 50000"/>
              <a:gd name="adj2" fmla="val 1048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141720"/>
            <a:ext cx="934920" cy="143964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645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645000"/>
            <a:ext cx="1079640" cy="360360"/>
          </a:xfrm>
          <a:prstGeom prst="leftArrow">
            <a:avLst>
              <a:gd name="adj1" fmla="val 50000"/>
              <a:gd name="adj2" fmla="val 74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213000"/>
            <a:ext cx="79200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3213000"/>
            <a:ext cx="792000" cy="14400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789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789360"/>
            <a:ext cx="576000" cy="28908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789360"/>
            <a:ext cx="574560" cy="289080"/>
          </a:xfrm>
          <a:prstGeom prst="leftArrow">
            <a:avLst>
              <a:gd name="adj1" fmla="val 50000"/>
              <a:gd name="adj2" fmla="val 4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997360"/>
            <a:ext cx="115272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997360"/>
            <a:ext cx="107964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284640"/>
            <a:ext cx="790560" cy="115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284640"/>
            <a:ext cx="71892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7" idx="7"/>
            <a:endCxn id="148" idx="3"/>
          </p:cNvCxnSpPr>
          <p:nvPr/>
        </p:nvCxnSpPr>
        <p:spPr>
          <a:xfrm>
            <a:off x="152352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8" idx="1"/>
            <a:endCxn id="147" idx="5"/>
          </p:cNvCxnSpPr>
          <p:nvPr/>
        </p:nvCxnSpPr>
        <p:spPr>
          <a:xfrm flipH="1">
            <a:off x="152316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3635280" y="3789360"/>
            <a:ext cx="505080" cy="287280"/>
          </a:xfrm>
          <a:prstGeom prst="leftArrow">
            <a:avLst>
              <a:gd name="adj1" fmla="val 50000"/>
              <a:gd name="adj2" fmla="val 439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860640"/>
            <a:ext cx="21564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ути передачи ВИЧ от зараженного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и половом контак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етеросексуальный, гомосексу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0" r="0" b="5755"/>
          <a:stretch/>
        </p:blipFill>
        <p:spPr>
          <a:xfrm>
            <a:off x="4932360" y="2276640"/>
            <a:ext cx="3025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арентеральный (кровоконтакт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ъекции наркотиков инфицированными шпр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ивание не обследуемой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манип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ртикальный (от матери к ребенку) – 15 –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удном вскармл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9680" y="2349360"/>
            <a:ext cx="2452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Уголовная ответственност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(ст. 122 УК РФ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омое подставление другого лица в опасность заражения ВИЧ-инфекции наказывается ограничением свободы на срок до 3-х лет, либо арестом на срок от 3 до 6 месяцев, либо лишением свободы до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– опасное и коварное заболевание, которое вызывается вирусом иммунодефицит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распространяется из-за нежелания изменить нормы своего по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8 году ВОЗ (Всемирная организация здравоохранения) приняла решение – Всемирный день борьбы со СПИДом будет отмечаться ежегодно 1 декабря. В этот день необходимо довести до всеобщего сведения главную идею, что самая дешевая и эффективная мера борьбы с этой болезнью – санитарное просвещение и информирование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озунг «НЕ ПОГИБНИ ИЗ-ЗА НЕВЕЖЕСТВА!» должен стать реальностью и нормой жизни для кажд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ирус (мик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дефе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ндром (картина боле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иобрет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 (невосприимчив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фицита (недоста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ипотез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возникновения ВИ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Африканская гипотез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лизкородственные вирусы прима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 Широкое использование научных достижений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переливание крови, пересадка органов и другие откры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3. Искусственное возникновение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ктериологическое оруж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. Модификация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уществование вируса с древних врем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раженная клетк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азы эпидемического процесса пр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ьн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остранение ВИЧ идет  в основном в среде лиц гомосексуальной ори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тор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с попадает в среду лиц, использующих наркотики внутривенно и распространяется кровяным пу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в процесс вовлекается все население и распространение ВИЧ осуществляется преимущественно полов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27:37Z</dcterms:created>
  <dc:creator>XP GAME 2008</dc:creator>
  <dc:description/>
  <dc:language>en-US</dc:language>
  <cp:lastModifiedBy>XP GAME 2008</cp:lastModifiedBy>
  <dcterms:modified xsi:type="dcterms:W3CDTF">2009-12-05T10:15:25Z</dcterms:modified>
  <cp:revision>8</cp:revision>
  <dc:subject/>
  <dc:title>ВИЧ-инфекция и СПИД:</dc:title>
</cp:coreProperties>
</file>