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6C6CC-67C9-4FC2-8B31-B8FD3435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14F27-327A-4934-93F4-C9111D63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70BB0-ED9B-481B-9864-AEBE0FA5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3F6B0-5C9B-4D59-9323-067D028A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7612-ADB4-42F2-8B51-600D3CCE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B1D2-9C1A-4319-BD18-573DA9D5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0ED0-B344-4471-ACC9-005B8368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68CF-DB83-4A70-ADE4-B0B466F3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A0F1-17F6-4CFD-AF35-58C3F0FF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E4EB-0CEF-4380-8211-63B271FC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7F88-7888-47E9-8F75-5526EDB8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BD4CA-5877-4D7D-AB31-23B4F36B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914D-EAD1-417B-A296-41927919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AEC1-4D53-482B-83D8-23C98835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4136-317A-46C8-A5D7-2B01F0FB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28F4-C55E-46CC-8A5B-6E4DE996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627E-0F45-41BC-B139-5916D83C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312B4-DE68-4C5C-8453-4A24C334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C8E63-A0C4-40A9-A96D-37CBA03A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F0BEB-37E0-4C4C-848D-7FEB985E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F0FC7-880F-45AB-A223-E55E7B70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C38DB-D1D9-444C-A31F-9CDC0B83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5D594-FDD9-427E-AADF-9AC4224B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9900C-E3C2-4180-9AA6-5E611E58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F1EB-10AB-4CE0-B613-9CA97B5A70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5C03-4D41-4256-B73C-8806A8332F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ВИЧ-инфекция и СПИД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без мифов и иллюзий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хема передачи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ИЧ-инф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71640" y="3068640"/>
            <a:ext cx="1368720" cy="15127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3068640"/>
            <a:ext cx="1440000" cy="15127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3645000"/>
            <a:ext cx="1511280" cy="360360"/>
          </a:xfrm>
          <a:prstGeom prst="leftArrow">
            <a:avLst>
              <a:gd name="adj1" fmla="val 50000"/>
              <a:gd name="adj2" fmla="val 10484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3141720"/>
            <a:ext cx="1008000" cy="1366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95640" y="3141720"/>
            <a:ext cx="1008000" cy="1366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3141720"/>
            <a:ext cx="934920" cy="143964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3645000"/>
            <a:ext cx="1368360" cy="360360"/>
          </a:xfrm>
          <a:prstGeom prst="leftArrow">
            <a:avLst>
              <a:gd name="adj1" fmla="val 50000"/>
              <a:gd name="adj2" fmla="val 9493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3645000"/>
            <a:ext cx="1079640" cy="360360"/>
          </a:xfrm>
          <a:prstGeom prst="leftArrow">
            <a:avLst>
              <a:gd name="adj1" fmla="val 50000"/>
              <a:gd name="adj2" fmla="val 749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48360" y="3213000"/>
            <a:ext cx="792360" cy="1368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92720" y="3213000"/>
            <a:ext cx="792000" cy="1368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2360" y="3213000"/>
            <a:ext cx="792360" cy="1368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9280" y="3213000"/>
            <a:ext cx="792000" cy="14400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00720" y="3789360"/>
            <a:ext cx="432000" cy="287280"/>
          </a:xfrm>
          <a:prstGeom prst="leftArrow">
            <a:avLst>
              <a:gd name="adj1" fmla="val 50000"/>
              <a:gd name="adj2" fmla="val 3759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00720" y="3789360"/>
            <a:ext cx="576000" cy="289080"/>
          </a:xfrm>
          <a:prstGeom prst="leftArrow">
            <a:avLst>
              <a:gd name="adj1" fmla="val 50000"/>
              <a:gd name="adj2" fmla="val 4981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3789360"/>
            <a:ext cx="574560" cy="289080"/>
          </a:xfrm>
          <a:prstGeom prst="leftArrow">
            <a:avLst>
              <a:gd name="adj1" fmla="val 50000"/>
              <a:gd name="adj2" fmla="val 4968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2997360"/>
            <a:ext cx="1152720" cy="1726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2997360"/>
            <a:ext cx="1079640" cy="1726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4720" y="3284640"/>
            <a:ext cx="792000" cy="1152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5640" y="3284640"/>
            <a:ext cx="792000" cy="1152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3284640"/>
            <a:ext cx="790560" cy="1150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40720" y="3284640"/>
            <a:ext cx="718920" cy="1152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7" idx="7"/>
            <a:endCxn id="148" idx="3"/>
          </p:cNvCxnSpPr>
          <p:nvPr/>
        </p:nvCxnSpPr>
        <p:spPr>
          <a:xfrm>
            <a:off x="1523520" y="3249360"/>
            <a:ext cx="1119960" cy="122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48" idx="1"/>
            <a:endCxn id="147" idx="5"/>
          </p:cNvCxnSpPr>
          <p:nvPr/>
        </p:nvCxnSpPr>
        <p:spPr>
          <a:xfrm flipH="1">
            <a:off x="1523160" y="3249360"/>
            <a:ext cx="1119960" cy="122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3635280" y="3789360"/>
            <a:ext cx="505080" cy="287280"/>
          </a:xfrm>
          <a:prstGeom prst="leftArrow">
            <a:avLst>
              <a:gd name="adj1" fmla="val 50000"/>
              <a:gd name="adj2" fmla="val 4395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48360" y="3860640"/>
            <a:ext cx="215640" cy="21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00720" y="3860640"/>
            <a:ext cx="216000" cy="21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1640" y="3860640"/>
            <a:ext cx="216000" cy="21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Пути передачи ВИЧ от зараженного челове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При половом контак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гетеросексуальный, гомосексуаль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0" t="0" r="0" b="5755"/>
          <a:stretch/>
        </p:blipFill>
        <p:spPr>
          <a:xfrm>
            <a:off x="4932360" y="2276640"/>
            <a:ext cx="3025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арентеральный (кровоконтакт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ъекции наркотиков инфицированными шприц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ливание не обследуемой кров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ие манипуля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305080" cy="1758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2232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Вертикальный (от матери к ребенку) – 15 – 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утробн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ремя ро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грудном вскармлив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719680" y="2349360"/>
            <a:ext cx="24526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Уголовная ответственност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(ст. 122 УК РФ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омое подставление другого лица в опасность заражения ВИЧ-инфекции наказывается ограничением свободы на срок до 3-х лет, либо арестом на срок от 3 до 6 месяцев, либо лишением свободы до 1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ражение другого лица ВИЧ-инфекцией, лицом, знавшим о наличии у него этой болезни, наказывается лишением свободы на срок 5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ПИД – опасное и коварное заболевание, которое вызывается вирусом иммунодефицита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ПИД распространяется из-за нежелания изменить нормы своего повед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1680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988 году ВОЗ (Всемирная организация здравоохранения) приняла решение – Всемирный день борьбы со СПИДом будет отмечаться ежегодно 1 декабря. В этот день необходимо довести до всеобщего сведения главную идею, что самая дешевая и эффективная мера борьбы с этой болезнью – санитарное просвещение и информирование нас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Лозунг «НЕ ПОГИБНИ ИЗ-ЗА НЕВЕЖЕСТВА!» должен стать реальностью и нормой жизни для каждого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5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620280"/>
            <a:ext cx="8007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ирус (микро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иммунодефец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индром (картина болезн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риобретен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иммуно (невосприимчив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дефицита (недостат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Гипотез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возникновения ВИЧ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1. Африканская гипотез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близкородственные вирусы приматов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2. Широкое использование научных достижений ХХ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переливание крови, пересадка органов и другие открыт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3. Искусственное возникновение вир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бактериологическое оружи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4. Модификация вир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существование вируса с древних времен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раженная клетк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545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Фазы эпидемического процесса при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ВИЧ-инф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чальная фаза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ространение ВИЧ идет  в основном в среде лиц гомосексуальной ориент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торая фаза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рус попадает в среду лиц, использующих наркотики внутривенно и распространяется кровяным пут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ретья фаза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гда в процесс вовлекается все население и распространение ВИЧ осуществляется преимущественно половым пут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4:27:37Z</dcterms:created>
  <dc:creator>XP GAME 2008</dc:creator>
  <dc:description/>
  <dc:language>en-US</dc:language>
  <cp:lastModifiedBy>XP GAME 2008</cp:lastModifiedBy>
  <dcterms:modified xsi:type="dcterms:W3CDTF">2009-12-05T10:15:25Z</dcterms:modified>
  <cp:revision>8</cp:revision>
  <dc:subject/>
  <dc:title>ВИЧ-инфекция и СПИД:</dc:title>
</cp:coreProperties>
</file>