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B841F-02BB-49C8-913E-66709455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689D-99EC-4D48-B90A-067D74B4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3483A-22CA-438D-AABF-89F0A8C08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68616-906C-4C65-A571-0A329B7E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CBBB-F121-4A72-BE7A-77576E91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C08B-2496-4801-A9FE-29C80BB8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8872-620E-4278-9D2F-377F9B60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158E-44DE-4D16-8EE5-D01EB42F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E890-9B36-48F1-B2E1-3A52B3C3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CB60-4B31-4633-BDEE-04A8509C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5C96-CEAE-420A-B353-5C282F1F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ABCA9-F8D1-4CFB-B7E0-805B1D72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F280-B971-4194-8557-3552870A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4954-5A40-42E9-908D-4C8E4BC2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EF61-CCAA-4809-8409-92E20486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39D5-7B30-400E-A6C1-7CF27A73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EDFA-81B4-4105-A2C3-A67E5603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E297A-8821-4FC3-8998-A6D5703F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E879D-A773-497F-B588-178F69E6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C462A-C8A5-490B-9F80-54AC4FCE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7D898-D826-4E5C-9CF6-04F1FC65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BA52E-4A87-42F5-A3AA-9CFC9133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0A97E-FB7A-41FD-A628-C58DACC3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FF867-5BB4-48E2-8618-B6C68919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41EB-7B6A-42AB-AA49-630B4828CE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994F-4DAA-4812-BC30-22CA8E0048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ВИЧ-инфекция и СПИД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без мифов и иллюзий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хема передач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ИЧ-инф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1640" y="3068640"/>
            <a:ext cx="1368720" cy="15127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16720" y="3068640"/>
            <a:ext cx="1440000" cy="15127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3645000"/>
            <a:ext cx="1511280" cy="360360"/>
          </a:xfrm>
          <a:prstGeom prst="leftArrow">
            <a:avLst>
              <a:gd name="adj1" fmla="val 50000"/>
              <a:gd name="adj2" fmla="val 10484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32720" y="3141720"/>
            <a:ext cx="1008000" cy="136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95640" y="3141720"/>
            <a:ext cx="1008000" cy="136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3141720"/>
            <a:ext cx="934920" cy="143964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3645000"/>
            <a:ext cx="1368360" cy="360360"/>
          </a:xfrm>
          <a:prstGeom prst="leftArrow">
            <a:avLst>
              <a:gd name="adj1" fmla="val 50000"/>
              <a:gd name="adj2" fmla="val 9493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00360" y="3645000"/>
            <a:ext cx="1079640" cy="360360"/>
          </a:xfrm>
          <a:prstGeom prst="leftArrow">
            <a:avLst>
              <a:gd name="adj1" fmla="val 50000"/>
              <a:gd name="adj2" fmla="val 749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48360" y="3213000"/>
            <a:ext cx="792360" cy="1368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3213000"/>
            <a:ext cx="792000" cy="1368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2360" y="3213000"/>
            <a:ext cx="792360" cy="1368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9280" y="3213000"/>
            <a:ext cx="792000" cy="14400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00720" y="3789360"/>
            <a:ext cx="432000" cy="287280"/>
          </a:xfrm>
          <a:prstGeom prst="leftArrow">
            <a:avLst>
              <a:gd name="adj1" fmla="val 50000"/>
              <a:gd name="adj2" fmla="val 3759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00720" y="3789360"/>
            <a:ext cx="576000" cy="289080"/>
          </a:xfrm>
          <a:prstGeom prst="leftArrow">
            <a:avLst>
              <a:gd name="adj1" fmla="val 50000"/>
              <a:gd name="adj2" fmla="val 4981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56000" y="3789360"/>
            <a:ext cx="574560" cy="289080"/>
          </a:xfrm>
          <a:prstGeom prst="leftArrow">
            <a:avLst>
              <a:gd name="adj1" fmla="val 50000"/>
              <a:gd name="adj2" fmla="val 4968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2997360"/>
            <a:ext cx="1152720" cy="172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2997360"/>
            <a:ext cx="1079640" cy="1726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3284640"/>
            <a:ext cx="792000" cy="1152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5640" y="3284640"/>
            <a:ext cx="792000" cy="1152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88000" y="3284640"/>
            <a:ext cx="790560" cy="11509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40720" y="3284640"/>
            <a:ext cx="718920" cy="1152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47" idx="7"/>
            <a:endCxn id="148" idx="3"/>
          </p:cNvCxnSpPr>
          <p:nvPr/>
        </p:nvCxnSpPr>
        <p:spPr>
          <a:xfrm>
            <a:off x="1523520" y="3249360"/>
            <a:ext cx="1119960" cy="12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48" idx="1"/>
            <a:endCxn id="147" idx="5"/>
          </p:cNvCxnSpPr>
          <p:nvPr/>
        </p:nvCxnSpPr>
        <p:spPr>
          <a:xfrm flipH="1">
            <a:off x="1523160" y="3249360"/>
            <a:ext cx="1119960" cy="12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3635280" y="3789360"/>
            <a:ext cx="505080" cy="287280"/>
          </a:xfrm>
          <a:prstGeom prst="leftArrow">
            <a:avLst>
              <a:gd name="adj1" fmla="val 50000"/>
              <a:gd name="adj2" fmla="val 4395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48360" y="3860640"/>
            <a:ext cx="215640" cy="21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00720" y="3860640"/>
            <a:ext cx="216000" cy="21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451640" y="3860640"/>
            <a:ext cx="216000" cy="21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Пути передачи ВИЧ от зараженного челове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При половом контак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гетеросексуальный, гомосексуаль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0" t="0" r="0" b="5755"/>
          <a:stretch/>
        </p:blipFill>
        <p:spPr>
          <a:xfrm>
            <a:off x="4932360" y="2276640"/>
            <a:ext cx="3025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Парентеральный (кровоконтакт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ъекции наркотиков инфицированными шприц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ливание не обследуемой кров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е манипуля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305080" cy="1758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2232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Вертикальный (от матери к ребенку) – 15 – 3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утриутробн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 время р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грудном вскармлив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719680" y="2349360"/>
            <a:ext cx="24526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Уголовная ответственность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(ст. 122 УК РФ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домое подставление другого лица в опасность заражения ВИЧ-инфекции наказывается ограничением свободы на срок до 3-х лет, либо арестом на срок от 3 до 6 месяцев, либо лишением свободы до 1 г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ражение другого лица ВИЧ-инфекцией, лицом, знавшим о наличии у него этой болезни, наказывается лишением свободы на срок 5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ПИД – опасное и коварное заболевание, которое вызывается вирусом иммунодефицита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СПИД распространяется из-за нежелания изменить нормы своего повед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1680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88 году ВОЗ (Всемирная организация здравоохранения) приняла решение – Всемирный день борьбы со СПИДом будет отмечаться ежегодно 1 декабря. В этот день необходимо довести до всеобщего сведения главную идею, что самая дешевая и эффективная мера борьбы с этой болезнью – санитарное просвещение и информирование на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Лозунг «НЕ ПОГИБНИ ИЗ-ЗА НЕВЕЖЕСТВА!» должен стать реальностью и нормой жизни для каждого челов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5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620280"/>
            <a:ext cx="80074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вирус (микро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иммунодефец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индром (картина болезн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риобретен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иммуно (невосприимчивост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дефицита (недостато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Гипотез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возникновения ВИЧ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1. Африканская гипотез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близкородственные вирусы приматов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2. Широкое использование научных достижений ХХ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переливание крови, пересадка органов и другие открыт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3. Искусственное возникновение вир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бактериологическое оружи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4. Модификация виру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существование вируса с древних времен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раженная клетка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545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Фазы эпидемического процесса пр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ВИЧ-инфек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чальная фаза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ространение ВИЧ идет  в основном в среде лиц гомосексуальной ориента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Вторая фаза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рус попадает в среду лиц, использующих наркотики внутривенно и распространяется кровяным пут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Третья фаза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гда в процесс вовлекается все население и распространение ВИЧ осуществляется преимущественно половым пут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4:27:37Z</dcterms:created>
  <dc:creator>XP GAME 2008</dc:creator>
  <dc:description/>
  <dc:language>en-US</dc:language>
  <cp:lastModifiedBy>XP GAME 2008</cp:lastModifiedBy>
  <dcterms:modified xsi:type="dcterms:W3CDTF">2009-12-05T10:15:25Z</dcterms:modified>
  <cp:revision>8</cp:revision>
  <dc:subject/>
  <dc:title>ВИЧ-инфекция и СПИД:</dc:title>
</cp:coreProperties>
</file>