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14645-869D-45B4-B877-F00C43B1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B284-2648-4149-B8C5-C6D5A126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2670F-4BD3-4F7B-A72D-CCED51D9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01D18-489C-49E9-BEC8-1D8F63C0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2100-8E58-4465-BFC0-C6734B3B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41EB-4960-4ADA-A92D-E2CA25AC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FE1A-5EF3-4413-8569-90DF20D5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3273-AD51-4B50-99C0-760241A9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7456-8762-45EE-B5AA-79170A9F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1016-9C85-474C-B4B8-A0AA8746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C368-7C58-40E5-A0DE-401AB82B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98E32-D96A-4DF1-88A1-DE695121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BE03-0D4E-4DCF-A94E-C4697683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CBA7-D3EA-4611-B880-5E0AD198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2847-AF3D-46FF-84DC-1BDA6F18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B816-10B3-4005-829D-208CDBEB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C36E-96AB-4EBF-B085-F2E7687F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78E5D-AADD-49EA-B204-B2F7013E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5D9B-C145-4A01-9993-F3B46CC7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15CB5-82EB-49B6-871B-475AF0D8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FAF26-8E0F-4677-97B7-7801AF8D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B80B5-959C-4EC8-B153-F8670DE8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56445-B079-4A76-A9F5-C26BAF1D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E2B1E-9A80-4533-B410-03CCA76F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A9EA-19FC-434B-9579-5CF02E2718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CA06-F044-4F97-BC98-764BF6D04B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ВИЧ-инфекция и СПИД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без мифов и иллюзий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хема передач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ИЧ-инф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3068640"/>
            <a:ext cx="1368720" cy="15127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3068640"/>
            <a:ext cx="1440000" cy="15127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3645000"/>
            <a:ext cx="1511280" cy="360360"/>
          </a:xfrm>
          <a:prstGeom prst="leftArrow">
            <a:avLst>
              <a:gd name="adj1" fmla="val 50000"/>
              <a:gd name="adj2" fmla="val 10484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3141720"/>
            <a:ext cx="1008000" cy="136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95640" y="3141720"/>
            <a:ext cx="1008000" cy="136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3141720"/>
            <a:ext cx="934920" cy="143964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3645000"/>
            <a:ext cx="1368360" cy="360360"/>
          </a:xfrm>
          <a:prstGeom prst="leftArrow">
            <a:avLst>
              <a:gd name="adj1" fmla="val 50000"/>
              <a:gd name="adj2" fmla="val 9493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3645000"/>
            <a:ext cx="1079640" cy="360360"/>
          </a:xfrm>
          <a:prstGeom prst="leftArrow">
            <a:avLst>
              <a:gd name="adj1" fmla="val 50000"/>
              <a:gd name="adj2" fmla="val 74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48360" y="3213000"/>
            <a:ext cx="792360" cy="1368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3213000"/>
            <a:ext cx="792000" cy="1368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3213000"/>
            <a:ext cx="792360" cy="1368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3213000"/>
            <a:ext cx="792000" cy="14400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3789360"/>
            <a:ext cx="432000" cy="287280"/>
          </a:xfrm>
          <a:prstGeom prst="leftArrow">
            <a:avLst>
              <a:gd name="adj1" fmla="val 50000"/>
              <a:gd name="adj2" fmla="val 3759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3789360"/>
            <a:ext cx="576000" cy="289080"/>
          </a:xfrm>
          <a:prstGeom prst="leftArrow">
            <a:avLst>
              <a:gd name="adj1" fmla="val 50000"/>
              <a:gd name="adj2" fmla="val 4981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3789360"/>
            <a:ext cx="574560" cy="289080"/>
          </a:xfrm>
          <a:prstGeom prst="leftArrow">
            <a:avLst>
              <a:gd name="adj1" fmla="val 50000"/>
              <a:gd name="adj2" fmla="val 4968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997360"/>
            <a:ext cx="1152720" cy="172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2997360"/>
            <a:ext cx="1079640" cy="172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3284640"/>
            <a:ext cx="792000" cy="1152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3284640"/>
            <a:ext cx="792000" cy="1152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3284640"/>
            <a:ext cx="790560" cy="1150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3284640"/>
            <a:ext cx="718920" cy="1152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7" idx="7"/>
            <a:endCxn id="148" idx="3"/>
          </p:cNvCxnSpPr>
          <p:nvPr/>
        </p:nvCxnSpPr>
        <p:spPr>
          <a:xfrm>
            <a:off x="1523520" y="3249360"/>
            <a:ext cx="1119960" cy="12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48" idx="1"/>
            <a:endCxn id="147" idx="5"/>
          </p:cNvCxnSpPr>
          <p:nvPr/>
        </p:nvCxnSpPr>
        <p:spPr>
          <a:xfrm flipH="1">
            <a:off x="1523160" y="3249360"/>
            <a:ext cx="1119960" cy="12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3635280" y="3789360"/>
            <a:ext cx="505080" cy="287280"/>
          </a:xfrm>
          <a:prstGeom prst="leftArrow">
            <a:avLst>
              <a:gd name="adj1" fmla="val 50000"/>
              <a:gd name="adj2" fmla="val 4395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8360" y="3860640"/>
            <a:ext cx="215640" cy="21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3860640"/>
            <a:ext cx="216000" cy="21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1640" y="3860640"/>
            <a:ext cx="216000" cy="21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ути передачи ВИЧ от зараженного челове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При половом контак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гетеросексуальный, гомосексуа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0" r="0" b="5755"/>
          <a:stretch/>
        </p:blipFill>
        <p:spPr>
          <a:xfrm>
            <a:off x="4932360" y="2276640"/>
            <a:ext cx="3025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арентеральный (кровоконтакт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ъекции наркотиков инфицированными шприц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ливание не обследуемой кро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е манипуля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305080" cy="1758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2232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Вертикальный (от матери к ребенку) – 15 – 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утроб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р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грудном вскармлив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719680" y="2349360"/>
            <a:ext cx="24526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Уголовная ответственност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(ст. 122 УК РФ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омое подставление другого лица в опасность заражения ВИЧ-инфекции наказывается ограничением свободы на срок до 3-х лет, либо арестом на срок от 3 до 6 месяцев, либо лишением свободы до 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ражение другого лица ВИЧ-инфекцией, лицом, знавшим о наличии у него этой болезни, наказывается лишением свободы на срок 5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ПИД – опасное и коварное заболевание, которое вызывается вирусом иммунодефицита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ПИД распространяется из-за нежелания изменить нормы своего пове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1680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88 году ВОЗ (Всемирная организация здравоохранения) приняла решение – Всемирный день борьбы со СПИДом будет отмечаться ежегодно 1 декабря. В этот день необходимо довести до всеобщего сведения главную идею, что самая дешевая и эффективная мера борьбы с этой болезнью – санитарное просвещение и информирование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Лозунг «НЕ ПОГИБНИ ИЗ-ЗА НЕВЕЖЕСТВА!» должен стать реальностью и нормой жизни для каждого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5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ирус (микро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иммунодефе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индром (картина болез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риобрете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иммуно (невосприимчив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дефицита (недоста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Гипотез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возникновения ВИЧ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Африканская гипотез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лизкородственные вирусы приматов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2. Широкое использование научных достижений ХХ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переливание крови, пересадка органов и другие открыт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3. Искусственное возникновение вир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актериологическое оружи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4. Модификация вир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существование вируса с древних времен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раженная клетк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54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Фазы эпидемического процесса пр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ВИЧ-инф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чальная фаз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ространение ВИЧ идет  в основном в среде лиц гомосексуальной ориен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торая фаз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рус попадает в среду лиц, использующих наркотики внутривенно и распространяется кровяным пут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ретья фаз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в процесс вовлекается все население и распространение ВИЧ осуществляется преимущественно половым пут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4:27:37Z</dcterms:created>
  <dc:creator>XP GAME 2008</dc:creator>
  <dc:description/>
  <dc:language>en-US</dc:language>
  <cp:lastModifiedBy>XP GAME 2008</cp:lastModifiedBy>
  <dcterms:modified xsi:type="dcterms:W3CDTF">2009-12-05T10:15:25Z</dcterms:modified>
  <cp:revision>8</cp:revision>
  <dc:subject/>
  <dc:title>ВИЧ-инфекция и СПИД:</dc:title>
</cp:coreProperties>
</file>