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6.gif" ContentType="image/gif"/>
  <Override PartName="/ppt/media/image14.jpeg" ContentType="image/jpeg"/>
  <Override PartName="/ppt/media/image10.wmf" ContentType="image/x-wmf"/>
  <Override PartName="/ppt/media/image2.png" ContentType="image/png"/>
  <Override PartName="/ppt/media/image5.jpeg" ContentType="image/jpeg"/>
  <Override PartName="/ppt/media/image9.wmf" ContentType="image/x-wmf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6AE-67BA-4993-9B28-43BFA061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A35-6BA5-4747-AF31-E553E5C4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EDE-B7F1-46EC-B12A-77FEB80A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31C-8075-4157-99DF-E2E23B17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313-8217-41A1-84B2-33EDFF83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3CE-81E6-4E75-9B8D-1D3260D4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8FD-E3BF-4A44-B292-6CC28996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781-C160-485B-9583-619045F3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D34-5172-4147-BFD9-E2462847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CC0-37C1-4594-B59C-60979AA3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06A-2FAA-4A7E-80DE-4A7F8F7A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B4D-9EB7-4743-8FBD-1089CEF2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DDF9-5DF9-456C-87E6-85777092E9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image" Target="../media/image3.jpeg"/><Relationship Id="rId4" Type="http://schemas.openxmlformats.org/officeDocument/2006/relationships/slide" Target="slide13.xml"/><Relationship Id="rId5" Type="http://schemas.openxmlformats.org/officeDocument/2006/relationships/image" Target="../media/image3.jpeg"/><Relationship Id="rId6" Type="http://schemas.openxmlformats.org/officeDocument/2006/relationships/slide" Target="slide5.xml"/><Relationship Id="rId7" Type="http://schemas.openxmlformats.org/officeDocument/2006/relationships/image" Target="../media/image3.jpeg"/><Relationship Id="rId8" Type="http://schemas.openxmlformats.org/officeDocument/2006/relationships/slide" Target="slide15.xml"/><Relationship Id="rId9" Type="http://schemas.openxmlformats.org/officeDocument/2006/relationships/image" Target="../media/image3.jpeg"/><Relationship Id="rId10" Type="http://schemas.openxmlformats.org/officeDocument/2006/relationships/slide" Target="slide7.xml"/><Relationship Id="rId11" Type="http://schemas.openxmlformats.org/officeDocument/2006/relationships/image" Target="../media/image3.jpeg"/><Relationship Id="rId12" Type="http://schemas.openxmlformats.org/officeDocument/2006/relationships/slide" Target="slide17.xml"/><Relationship Id="rId13" Type="http://schemas.openxmlformats.org/officeDocument/2006/relationships/image" Target="../media/image3.jpeg"/><Relationship Id="rId14" Type="http://schemas.openxmlformats.org/officeDocument/2006/relationships/slide" Target="slide9.xml"/><Relationship Id="rId15" Type="http://schemas.openxmlformats.org/officeDocument/2006/relationships/image" Target="../media/image3.jpeg"/><Relationship Id="rId16" Type="http://schemas.openxmlformats.org/officeDocument/2006/relationships/slide" Target="slide19.xml"/><Relationship Id="rId17" Type="http://schemas.openxmlformats.org/officeDocument/2006/relationships/image" Target="../media/image3.jpeg"/><Relationship Id="rId18" Type="http://schemas.openxmlformats.org/officeDocument/2006/relationships/slide" Target="slide11.xml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8588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mbria"/>
              </a:rPr>
              <a:t>Конкурс «Автоэрудит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d1"/>
          <p:cNvPicPr/>
          <p:nvPr/>
        </p:nvPicPr>
        <p:blipFill>
          <a:blip r:embed="rId1"/>
          <a:stretch/>
        </p:blipFill>
        <p:spPr>
          <a:xfrm>
            <a:off x="0" y="0"/>
            <a:ext cx="4857840" cy="30002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"/>
          <p:cNvPicPr/>
          <p:nvPr/>
        </p:nvPicPr>
        <p:blipFill>
          <a:blip r:embed="rId2"/>
          <a:stretch/>
        </p:blipFill>
        <p:spPr>
          <a:xfrm>
            <a:off x="6357960" y="2214720"/>
            <a:ext cx="2500200" cy="2500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857160" y="7858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 14 ле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E:\векторные картинки ККИ ДППО\Спорт и Отдых\50.wmf"/>
          <p:cNvPicPr/>
          <p:nvPr/>
        </p:nvPicPr>
        <p:blipFill>
          <a:blip r:embed="rId2"/>
          <a:stretch/>
        </p:blipFill>
        <p:spPr>
          <a:xfrm>
            <a:off x="2786040" y="2214720"/>
            <a:ext cx="3498840" cy="3714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500040" y="1214280"/>
            <a:ext cx="785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правильно перейти дорогу, выйдя из автобус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йти автобус спере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йти автобус сза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прыгн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лезть под автобу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E:\ТРАНСПОРТ\j0233478.wmf"/>
          <p:cNvPicPr/>
          <p:nvPr/>
        </p:nvPicPr>
        <p:blipFill>
          <a:blip r:embed="rId2"/>
          <a:stretch/>
        </p:blipFill>
        <p:spPr>
          <a:xfrm>
            <a:off x="723960" y="2717640"/>
            <a:ext cx="7905600" cy="249732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584000" y="785880"/>
            <a:ext cx="544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ойти автобус сза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571680" y="1928880"/>
            <a:ext cx="785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стройство автомобиля, предназначенное для уменьшения скорости е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Педаль торм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571680" y="192888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тройство (на автомобиле) для освещения дор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Ф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155520" y="-1851120"/>
            <a:ext cx="34099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571680" y="192888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втомобиль и река в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71680" y="785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Л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http://lg-kp500.com/uploads/posts/2012-01/1326346623_57e75504698d.jpg"/>
          <p:cNvPicPr/>
          <p:nvPr/>
        </p:nvPicPr>
        <p:blipFill>
          <a:blip r:embed="rId2"/>
          <a:stretch/>
        </p:blipFill>
        <p:spPr>
          <a:xfrm>
            <a:off x="2857680" y="2714760"/>
            <a:ext cx="3600360" cy="3857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571680" y="1928880"/>
            <a:ext cx="785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втоматический регулировщик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7135920"/>
        </p:xfrm>
        <a:graphic>
          <a:graphicData uri="http://schemas.openxmlformats.org/drawingml/2006/table">
            <a:tbl>
              <a:tblPr/>
              <a:tblGrid>
                <a:gridCol w="4429080"/>
                <a:gridCol w="4714920"/>
              </a:tblGrid>
              <a:tr h="958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Тес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2" action="ppaction://hlinksldjump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4" action="ppaction://hlinksldjump"/>
                        </a:rPr>
                        <a:t>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6" action="ppaction://hlinksldjump"/>
                        </a:rPr>
                        <a:t>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8" action="ppaction://hlinksldjump"/>
                        </a:rPr>
                        <a:t>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10" action="ppaction://hlinksldjump"/>
                        </a:rPr>
                        <a:t>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12" action="ppaction://hlinksldjump"/>
                        </a:rPr>
                        <a:t>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14" action="ppaction://hlinksldjump"/>
                        </a:rPr>
                        <a:t>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16" action="ppaction://hlinksldjump"/>
                        </a:rPr>
                        <a:t>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18" action="ppaction://hlinksldjump"/>
                        </a:rPr>
                        <a:t>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914400" y="1500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ВЕТОФ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http://www.bezformata.ru/content/Images/000/003/347/image3347379.jpg"/>
          <p:cNvPicPr/>
          <p:nvPr/>
        </p:nvPicPr>
        <p:blipFill>
          <a:blip r:embed="rId2"/>
          <a:stretch/>
        </p:blipFill>
        <p:spPr>
          <a:xfrm>
            <a:off x="285840" y="357120"/>
            <a:ext cx="2571840" cy="385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http://www.stihi.ru/pics/2009/05/06/1650.jpg"/>
          <p:cNvPicPr/>
          <p:nvPr/>
        </p:nvPicPr>
        <p:blipFill>
          <a:blip r:embed="rId3"/>
          <a:stretch/>
        </p:blipFill>
        <p:spPr>
          <a:xfrm>
            <a:off x="5429160" y="3000240"/>
            <a:ext cx="2819520" cy="385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571680" y="1928880"/>
            <a:ext cx="7858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ь дороги, предназначенная для пешех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я дор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оту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рдю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з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28760" y="13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ТРОТУ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little.com.ua/images/stories/useful/161612.jpg"/>
          <p:cNvPicPr/>
          <p:nvPr/>
        </p:nvPicPr>
        <p:blipFill>
          <a:blip r:embed="rId2"/>
          <a:stretch/>
        </p:blipFill>
        <p:spPr>
          <a:xfrm>
            <a:off x="2500200" y="2643120"/>
            <a:ext cx="4114800" cy="385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Поздравляем победителя!</a:t>
            </a:r>
            <a:br>
              <a:rPr sz="4400"/>
            </a:b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2" descr="blest47"/>
          <p:cNvPicPr/>
          <p:nvPr/>
        </p:nvPicPr>
        <p:blipFill>
          <a:blip r:embed="rId1"/>
          <a:stretch/>
        </p:blipFill>
        <p:spPr>
          <a:xfrm>
            <a:off x="3143160" y="0"/>
            <a:ext cx="2143080" cy="2928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" descr="1"/>
          <p:cNvPicPr/>
          <p:nvPr/>
        </p:nvPicPr>
        <p:blipFill>
          <a:blip r:embed="rId2"/>
          <a:stretch/>
        </p:blipFill>
        <p:spPr>
          <a:xfrm>
            <a:off x="2571840" y="4357800"/>
            <a:ext cx="464328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285840" y="1285920"/>
            <a:ext cx="814392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ьше этим словом называли комфортабельное средств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вижения для богатых людей, сегодня называют автомобиль-развалюх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анду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ыма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а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85880" y="1071720"/>
            <a:ext cx="78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олыма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img1.liveinternet.ru/images/attach/c/1/54/734/54734870_61.jpg"/>
          <p:cNvPicPr/>
          <p:nvPr/>
        </p:nvPicPr>
        <p:blipFill>
          <a:blip r:embed="rId2"/>
          <a:stretch/>
        </p:blipFill>
        <p:spPr>
          <a:xfrm>
            <a:off x="3276720" y="2637000"/>
            <a:ext cx="2857320" cy="209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684360" y="1268280"/>
            <a:ext cx="734508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какой дороге машина лучше тормоз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мок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обледенел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ям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сух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428920" y="928800"/>
            <a:ext cx="41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На сух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E:\векторные картинки ККИ ДППО\Автомобили\57.wmf"/>
          <p:cNvPicPr/>
          <p:nvPr/>
        </p:nvPicPr>
        <p:blipFill>
          <a:blip r:embed="rId2"/>
          <a:stretch/>
        </p:blipFill>
        <p:spPr>
          <a:xfrm>
            <a:off x="2571840" y="2428920"/>
            <a:ext cx="3714840" cy="3895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14200" y="609480"/>
            <a:ext cx="77155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да загорелся зеленый свет светофора, что ты будешь дел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Посмотришь, нет ли поблизости быстроидущего транс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Пропустишь всех старушек и даму с собач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обежишь со всех н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Останешься стоять на 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E:\ВЕКТОРНЫЕ РИСУНКИ, ВСЯ КОЛЛЕКЦИЯ\BD07305_.WMF"/>
          <p:cNvPicPr/>
          <p:nvPr/>
        </p:nvPicPr>
        <p:blipFill>
          <a:blip r:embed="rId2"/>
          <a:stretch/>
        </p:blipFill>
        <p:spPr>
          <a:xfrm>
            <a:off x="7202520" y="0"/>
            <a:ext cx="1941480" cy="1928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E:\ВЕКТОРНЫЕ РИСУНКИ, ВСЯ КОЛЛЕКЦИЯ\BD07305_.WMF"/>
          <p:cNvPicPr/>
          <p:nvPr/>
        </p:nvPicPr>
        <p:blipFill>
          <a:blip r:embed="rId2"/>
          <a:stretch/>
        </p:blipFill>
        <p:spPr>
          <a:xfrm>
            <a:off x="2714760" y="2286000"/>
            <a:ext cx="3973320" cy="3948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785880" y="500040"/>
            <a:ext cx="672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станешься стоять на мес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214200" y="1143000"/>
            <a:ext cx="8358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какого возраста можно ездить на велосипеде по проезжей ча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самого р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14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да получишь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да выйдешь на пенсию   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E:\ВЕКТОРНЫЕ РИСУНКИ, ВСЯ КОЛЛЕКЦИЯ\j0232154.wmf"/>
          <p:cNvPicPr/>
          <p:nvPr/>
        </p:nvPicPr>
        <p:blipFill>
          <a:blip r:embed="rId2"/>
          <a:stretch/>
        </p:blipFill>
        <p:spPr>
          <a:xfrm>
            <a:off x="6599160" y="2214720"/>
            <a:ext cx="2544840" cy="3357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3:09:18Z</dcterms:created>
  <dc:creator>Светлана</dc:creator>
  <dc:description/>
  <dc:language>en-US</dc:language>
  <cp:lastModifiedBy>Елена </cp:lastModifiedBy>
  <dcterms:modified xsi:type="dcterms:W3CDTF">2012-12-03T19:58:40Z</dcterms:modified>
  <cp:revision>100</cp:revision>
  <dc:subject/>
  <dc:title>Слайд 1</dc:title>
</cp:coreProperties>
</file>