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D833-3BFB-4B0C-9725-D0FBC211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783E-A65F-4E63-9AB1-E5050055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4E9A-ED5C-4865-BBD6-C9567A43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8AB2-594F-4006-93BE-DC588E1D8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A9F7-8CA7-4CA2-B6C7-348A18FF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EBFF-5FF7-4844-B082-28BB736A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06D3-7CAD-4401-8121-37346903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BD75-E687-43C8-A191-0A48A26E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72B5-78A8-4DAF-889D-E652E589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4B81-BA26-4E67-A360-5C875FF8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6020-9387-43D4-9C0A-E02CDAE8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48F9-563A-4E81-8E17-C4309FD3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D6D9-5AB7-4AFA-A88E-52468E91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7C6D-F085-4CE1-93CF-6F8BCB4B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186E-FB4D-4086-985C-4FB6ED96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4D02-786E-4EF8-81BE-67ACFA92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5B7D-2AB2-437A-9A92-991884BD8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47988-8B56-449C-9C8F-31241975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E363B-198D-4F73-AD35-7E6A7F0E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9FA95-F743-4BF9-ACE0-F7AFBD96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74969-BFD7-488F-A8C1-4DEBFD7B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36DDB-967E-4287-9284-B5B96E42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ADF8-E784-4F7A-A4C6-CB00D1E3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E3676-17B6-45A3-94FB-79298F8B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64298-CACE-485E-B0D0-5010FCB1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2FCC6-5515-4A48-A56F-D99DB161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A07AA-6283-42AE-8C9A-4C2418C2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842AD-BD68-492B-9F67-2972B76F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0307A-7F44-4BBE-87CC-D8083449B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BFEC6-2B88-4A62-91EC-CC786AACE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9253-6763-413A-94FF-B5E9E0D6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CBB4-8756-4A6F-BD3B-B2C58E26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E6DB-8671-4DB8-B807-68595782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DB63-FCE9-421A-807E-513A881C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3DC2-B5CD-4823-8C0A-E0799E59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9D4D-37E5-4127-9075-B27ADA31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964F-C0CA-4B4E-B654-D6E5B6CD0A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55C3-470D-4D1E-8BAF-17781D670C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пр42.png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E199-1B8A-4942-B6F0-447E886CF4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ВТОМОБИЛИ БУКВАЛЬНО ВСЕ ЗАПОЛОНИ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6" name="Веселые ребята - Автомобили (mp3ostrov.com) 00_00_12.30-00_00_57.mp3" descr=""/>
          <p:cNvPicPr/>
          <p:nvPr/>
        </p:nvPicPr>
        <p:blipFill>
          <a:blip r:embed="rId1"/>
          <a:stretch/>
        </p:blipFill>
        <p:spPr>
          <a:xfrm>
            <a:off x="8572680" y="6357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5223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760" y="2142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ВТОЭРУДИ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ВТОЗНА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2960" y="1000080"/>
            <a:ext cx="8229600" cy="116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НАКИ НА ДОРОГ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3214800" y="2857680"/>
            <a:ext cx="5214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ньше счёта и письма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исованья, чтенья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сем ребятам нужно знать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авила движени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ЛОВКИЙ ВОДИТ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http://learnrussian.rt.com/s/content/lesson69/4_4.png"/>
          <p:cNvPicPr/>
          <p:nvPr/>
        </p:nvPicPr>
        <p:blipFill>
          <a:blip r:embed="rId1"/>
          <a:stretch/>
        </p:blipFill>
        <p:spPr>
          <a:xfrm>
            <a:off x="2556000" y="2637000"/>
            <a:ext cx="3919320" cy="35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 rot="19063200">
            <a:off x="-173520" y="1668240"/>
            <a:ext cx="384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ИГРА С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Group 2"/>
          <p:cNvGrpSpPr/>
          <p:nvPr/>
        </p:nvGrpSpPr>
        <p:grpSpPr>
          <a:xfrm>
            <a:off x="2214720" y="1571760"/>
            <a:ext cx="5072040" cy="4800600"/>
            <a:chOff x="2214720" y="1571760"/>
            <a:chExt cx="5072040" cy="4800600"/>
          </a:xfrm>
        </p:grpSpPr>
        <p:sp>
          <p:nvSpPr>
            <p:cNvPr id="135" name="AutoShape 3"/>
            <p:cNvSpPr/>
            <p:nvPr/>
          </p:nvSpPr>
          <p:spPr>
            <a:xfrm>
              <a:off x="2214720" y="1571760"/>
              <a:ext cx="5072040" cy="48006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WordArt 4"/>
            <p:cNvSpPr txBox="1"/>
            <p:nvPr/>
          </p:nvSpPr>
          <p:spPr>
            <a:xfrm>
              <a:off x="2615040" y="1831320"/>
              <a:ext cx="4137840" cy="4021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irclePour">
                <a:avLst>
                  <a:gd name="adj1" fmla="val 10870652"/>
                  <a:gd name="adj2" fmla="val 6442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КОЛЕСО 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37" name="Заголовок 1"/>
          <p:cNvSpPr/>
          <p:nvPr/>
        </p:nvSpPr>
        <p:spPr>
          <a:xfrm rot="2622600">
            <a:off x="5379840" y="1733040"/>
            <a:ext cx="3838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Calibri"/>
              </a:rPr>
              <a:t>ИГРА С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АВТОФАНТАЗ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&amp;Acy;&amp;ncy;&amp;icy;&amp;mcy;&amp;acy;&amp;tscy;&amp;icy;&amp;yacy;-&amp;kcy;&amp;acy;&amp;rcy;&amp;tcy;&amp;icy;&amp;ncy;&amp;kcy;&amp;acy; &amp;Scy;&amp;pcy;&amp;acy;&amp;scy;&amp;icy;&amp;bcy;&amp;ocy; &amp;zcy;&amp;acy; &amp;vcy;&amp;ncy;&amp;icy;&amp;mcy;&amp;acy;&amp;ncy;&amp;icy;&amp;iecy;"/>
          <p:cNvPicPr/>
          <p:nvPr/>
        </p:nvPicPr>
        <p:blipFill>
          <a:blip r:embed="rId1"/>
          <a:stretch/>
        </p:blipFill>
        <p:spPr>
          <a:xfrm>
            <a:off x="4429080" y="17146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Елена </cp:lastModifiedBy>
  <dcterms:modified xsi:type="dcterms:W3CDTF">2012-12-03T19:45:14Z</dcterms:modified>
  <cp:revision>111</cp:revision>
  <dc:subject/>
  <dc:title>Слайд 1</dc:title>
</cp:coreProperties>
</file>