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644E-C139-4C91-84A3-2DFC9AC9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739-C746-4427-8565-A2592D4F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127-7544-4AF5-8E01-7C92D832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B8A-29BB-4042-BA0E-F1234C01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AEDC-1BE2-400B-9F36-E7C85C8F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E1E-7411-4E81-8F8C-B0227947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D50-382D-4562-9AAA-ECC19A87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531-6FBB-4130-8222-B3EF9FE8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8DC-88A1-4E19-8752-2EA16A53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A9C0-CACF-4DF1-B26A-586CFCE1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005B-2E8D-4D3F-8463-C7241590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590-434A-4F52-9821-28662ED6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03B6-7C69-431E-8CBE-99EBD5C65C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d66e66fac61"/>
          <p:cNvPicPr/>
          <p:nvPr/>
        </p:nvPicPr>
        <p:blipFill>
          <a:blip r:embed="rId1"/>
          <a:stretch/>
        </p:blipFill>
        <p:spPr>
          <a:xfrm>
            <a:off x="395280" y="620640"/>
            <a:ext cx="1697040" cy="2521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Знаки на дорог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0" descr="ad66e66fac61"/>
          <p:cNvPicPr/>
          <p:nvPr/>
        </p:nvPicPr>
        <p:blipFill>
          <a:blip r:embed="rId2"/>
          <a:stretch/>
        </p:blipFill>
        <p:spPr>
          <a:xfrm>
            <a:off x="395280" y="620640"/>
            <a:ext cx="1697040" cy="2521080"/>
          </a:xfrm>
          <a:prstGeom prst="rect">
            <a:avLst/>
          </a:prstGeom>
          <a:ln w="0">
            <a:noFill/>
          </a:ln>
        </p:spPr>
      </p:pic>
      <p:pic>
        <p:nvPicPr>
          <p:cNvPr id="44" name="detskie-esli_s_drugom_vishel_v_put.mp3" descr=""/>
          <p:cNvPicPr/>
          <p:nvPr/>
        </p:nvPicPr>
        <p:blipFill>
          <a:blip r:embed="rId3"/>
          <a:stretch/>
        </p:blipFill>
        <p:spPr>
          <a:xfrm>
            <a:off x="8115480" y="6311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82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434960" y="1163160"/>
            <a:ext cx="7267680" cy="38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) О.В.Калашникова «Путешествие в страну дорожных знаков и сказок», изд. «Учитель», Волгоград, 2006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) Н.К.Клочанов «Дорога, ребёнок, безопасность», методическое пособие для воспитателей, учителей начальных классов, изд. Ростов-на-Дону,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3) Н.В.Ковалёва «Конкурсы, викторины, праздники по Правилам дорожного движения», изд. «Феникс», Ростов-на-Дону,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4) Е.А.Козловская «Дорожная безопасность: обучение и воспитание младших школьников», УМП, изд. «Третий Рим», Москва.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5) Г.П.Шалаева «Дорожные знаки для маленьких пешеходов», изд. «Эксмо», Москва, 200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035000" y="202896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Эй, водитель, осторо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Ехать быстро невозмо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Знают люди все на све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523880" y="3451320"/>
            <a:ext cx="44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 этом месте ходят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Пешеходный-переход2"/>
          <p:cNvPicPr/>
          <p:nvPr/>
        </p:nvPicPr>
        <p:blipFill>
          <a:blip r:embed="rId1"/>
          <a:stretch/>
        </p:blipFill>
        <p:spPr>
          <a:xfrm>
            <a:off x="5564160" y="1494000"/>
            <a:ext cx="209232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35000" y="2028960"/>
            <a:ext cx="482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Всем знакомые полоски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Знают дети, знает взросл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На ту сторону вед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7b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77760" y="3730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ешеходный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Пешеходный-переход"/>
          <p:cNvPicPr/>
          <p:nvPr/>
        </p:nvPicPr>
        <p:blipFill>
          <a:blip r:embed="rId1"/>
          <a:stretch/>
        </p:blipFill>
        <p:spPr>
          <a:xfrm>
            <a:off x="6129360" y="2030400"/>
            <a:ext cx="19051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361800" y="2028960"/>
            <a:ext cx="571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А здесь, ребята не до сме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Ни на чём нельзя здесь ех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Можно только своим ход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863640" y="351468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ожно только пеше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пешеходный-дорожка"/>
          <p:cNvPicPr/>
          <p:nvPr/>
        </p:nvPicPr>
        <p:blipFill>
          <a:blip r:embed="rId1"/>
          <a:stretch/>
        </p:blipFill>
        <p:spPr>
          <a:xfrm>
            <a:off x="5808600" y="1627200"/>
            <a:ext cx="19051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1035000" y="202896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На машинах здесь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Ехать никому нельз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Можно ехать, знайте, де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511280" y="342576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олько на велосип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Велосипедная-дорожка"/>
          <p:cNvPicPr/>
          <p:nvPr/>
        </p:nvPicPr>
        <p:blipFill>
          <a:blip r:embed="rId1"/>
          <a:stretch/>
        </p:blipFill>
        <p:spPr>
          <a:xfrm>
            <a:off x="5940360" y="1712880"/>
            <a:ext cx="19875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035000" y="202896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Я не мыл в дороге ру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Ел я фрукты, ово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Заболел и вижу пун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74640" y="3463920"/>
            <a:ext cx="36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едицинской пом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мед-попощь"/>
          <p:cNvPicPr/>
          <p:nvPr/>
        </p:nvPicPr>
        <p:blipFill>
          <a:blip r:embed="rId1"/>
          <a:stretch/>
        </p:blipFill>
        <p:spPr>
          <a:xfrm>
            <a:off x="5870520" y="1965240"/>
            <a:ext cx="19051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749160" y="2079720"/>
            <a:ext cx="537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Что мне делать? Как мне бы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Нужно срочно позво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Должны знать и ты, и о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В этом месте теле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телефон"/>
          <p:cNvPicPr/>
          <p:nvPr/>
        </p:nvPicPr>
        <p:blipFill>
          <a:blip r:embed="rId1"/>
          <a:stretch/>
        </p:blipFill>
        <p:spPr>
          <a:xfrm>
            <a:off x="6491160" y="2128680"/>
            <a:ext cx="1905120" cy="19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80880" y="1711440"/>
            <a:ext cx="62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Не шумите, музыкан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Даже если вы тала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Здесь сигналить не год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Рядом школа иль боль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клаксон"/>
          <p:cNvPicPr/>
          <p:nvPr/>
        </p:nvPicPr>
        <p:blipFill>
          <a:blip r:embed="rId1"/>
          <a:stretch/>
        </p:blipFill>
        <p:spPr>
          <a:xfrm>
            <a:off x="5889600" y="1736640"/>
            <a:ext cx="19051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641520" y="2028960"/>
            <a:ext cx="5497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Отчего бы это вдр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Стрелки дружно встали в кру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И машины друг за друг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9297b"/>
                </a:solidFill>
                <a:latin typeface="Arial"/>
              </a:rPr>
              <a:t>Мчатся весело по кругу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170160" y="3908520"/>
            <a:ext cx="32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руговое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круговое-движение"/>
          <p:cNvPicPr/>
          <p:nvPr/>
        </p:nvPicPr>
        <p:blipFill>
          <a:blip r:embed="rId1"/>
          <a:stretch/>
        </p:blipFill>
        <p:spPr>
          <a:xfrm>
            <a:off x="5975280" y="2050920"/>
            <a:ext cx="1905120" cy="19144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3:41:31Z</dcterms:created>
  <dc:creator>Admin</dc:creator>
  <dc:description/>
  <dc:language>en-US</dc:language>
  <cp:lastModifiedBy>карачуры</cp:lastModifiedBy>
  <dcterms:modified xsi:type="dcterms:W3CDTF">2003-02-19T01:20:07Z</dcterms:modified>
  <cp:revision>45</cp:revision>
  <dc:subject/>
  <dc:title>Слайд 1</dc:title>
</cp:coreProperties>
</file>