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EDB3-4633-4CD3-81A7-24A06CC1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1B5-7A7D-48A3-AB09-1202D58D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69B8-568B-47CC-B16F-9FAC5953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D9E-055D-41D6-AE72-F4AACB109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CA14-031A-4F0A-8A55-7FF06ACA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7F8F-6C82-4CDA-90C6-A2C90013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E134-1BFC-423D-9791-8A443581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5D0B-D956-4BE4-88F3-5E27C6FE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F30A-6BF3-4B97-B0EE-2FFBD466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A4ED-63D1-4C0C-98B7-40324AE3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B2BE-0B68-4199-8DF6-E1CF3392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A7EC-F0CA-4ED0-8E20-F2101548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9C2B-F79F-4B0D-8CA4-69562713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D33B-51A4-412B-8BE3-F686C26C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6EE3-09BC-4970-A339-38622795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1B82-06C3-4BE7-B4FF-A1E099D0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BAFB-4731-4BBD-B51D-E68074C1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5EA4A-0491-45E1-8D07-AB7D954D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8B703-3DBE-4192-A6C2-759F89DB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0E8A6-E569-4893-A054-1ECB24A6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C8519-7DFA-45F1-A7CD-CC9EFAE4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622B3-CDA3-4306-8B0F-D723E79F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32F1-B75C-4006-9672-A3FC702D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A35BF-D07B-47B6-8648-2277DB74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1819C-1355-4C99-8031-7B1535B5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2EF9B-A441-47D7-8DE4-E80C201F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F8AA-4A89-40F1-A165-EF9FACBA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BFE46-4884-4E63-8F05-1B85896C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43ED8-914A-4B8E-8AAE-07C802B7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40BE5-FEFC-4E09-983A-CA2F4186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1C3-0B40-4B2B-9F97-A0B6E563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FBE0-B0CE-42E7-AD1A-C21D1E2E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737-72BE-41C8-93CA-33027531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3BDB-ABB9-44A8-AFB8-672E56AA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792-4573-43C9-84D2-884E487F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624-31A7-45E3-B140-DC7EE836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A324-B7CD-4F72-9B97-1DB46C4AEA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200B-4DC1-41DD-93C9-6A5B842682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пр42.png"/>
          <p:cNvPicPr/>
          <p:nvPr/>
        </p:nvPicPr>
        <p:blipFill>
          <a:blip r:embed="rId3"/>
          <a:stretch/>
        </p:blipFill>
        <p:spPr>
          <a:xfrm>
            <a:off x="-324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0B42-5059-4D70-8465-109DB2900C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ВТОМОБИЛИ БУКВАЛЬНО ВСЕ ЗАПОЛОНИ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6" name="Веселые ребята - Автомобили (mp3ostrov.com) 00_00_12.30-00_00_57.mp3" descr=""/>
          <p:cNvPicPr/>
          <p:nvPr/>
        </p:nvPicPr>
        <p:blipFill>
          <a:blip r:embed="rId1"/>
          <a:stretch/>
        </p:blipFill>
        <p:spPr>
          <a:xfrm>
            <a:off x="857268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223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2142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ВТОЭРУДИ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ВТОЗНА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822960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НАКИ НА ДОРОГ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5"/>
          <p:cNvSpPr/>
          <p:nvPr/>
        </p:nvSpPr>
        <p:spPr>
          <a:xfrm>
            <a:off x="3214800" y="2857680"/>
            <a:ext cx="521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ньше счёта и письма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исованья, чтенья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сем ребятам нужно знат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авила движени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ЛОВКИЙ ВОДИТ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learnrussian.rt.com/s/content/lesson69/4_4.png"/>
          <p:cNvPicPr/>
          <p:nvPr/>
        </p:nvPicPr>
        <p:blipFill>
          <a:blip r:embed="rId1"/>
          <a:stretch/>
        </p:blipFill>
        <p:spPr>
          <a:xfrm>
            <a:off x="2556000" y="2637000"/>
            <a:ext cx="391932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 rot="19063200">
            <a:off x="-173520" y="1668240"/>
            <a:ext cx="384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ИГРА СЛ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2"/>
          <p:cNvGrpSpPr/>
          <p:nvPr/>
        </p:nvGrpSpPr>
        <p:grpSpPr>
          <a:xfrm>
            <a:off x="2214720" y="1571760"/>
            <a:ext cx="5072040" cy="4800600"/>
            <a:chOff x="2214720" y="1571760"/>
            <a:chExt cx="5072040" cy="4800600"/>
          </a:xfrm>
        </p:grpSpPr>
        <p:sp>
          <p:nvSpPr>
            <p:cNvPr id="135" name="AutoShape 3"/>
            <p:cNvSpPr/>
            <p:nvPr/>
          </p:nvSpPr>
          <p:spPr>
            <a:xfrm>
              <a:off x="2214720" y="1571760"/>
              <a:ext cx="5072040" cy="48006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WordArt 4"/>
            <p:cNvSpPr txBox="1"/>
            <p:nvPr/>
          </p:nvSpPr>
          <p:spPr>
            <a:xfrm>
              <a:off x="2615040" y="1831320"/>
              <a:ext cx="4137840" cy="4021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irclePour">
                <a:avLst>
                  <a:gd name="adj1" fmla="val 10870652"/>
                  <a:gd name="adj2" fmla="val 6442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КОЛЕСО </a:t>
              </a:r>
              <a:endPara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37" name="Заголовок 1"/>
          <p:cNvSpPr/>
          <p:nvPr/>
        </p:nvSpPr>
        <p:spPr>
          <a:xfrm rot="2622600">
            <a:off x="5379840" y="1733040"/>
            <a:ext cx="383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ИГРА С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АВТОФАНТАЗ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&amp;Acy;&amp;ncy;&amp;icy;&amp;mcy;&amp;acy;&amp;tscy;&amp;icy;&amp;yacy;-&amp;kcy;&amp;acy;&amp;rcy;&amp;tcy;&amp;icy;&amp;ncy;&amp;kcy;&amp;acy; &amp;Scy;&amp;pcy;&amp;acy;&amp;scy;&amp;icy;&amp;bcy;&amp;ocy; &amp;zcy;&amp;acy; &amp;vcy;&amp;ncy;&amp;icy;&amp;mcy;&amp;acy;&amp;ncy;&amp;icy;&amp;iecy;"/>
          <p:cNvPicPr/>
          <p:nvPr/>
        </p:nvPicPr>
        <p:blipFill>
          <a:blip r:embed="rId1"/>
          <a:stretch/>
        </p:blipFill>
        <p:spPr>
          <a:xfrm>
            <a:off x="4429080" y="171468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31:26Z</dcterms:created>
  <dc:creator>Федотова Виктория Александровна</dc:creator>
  <dc:description/>
  <dc:language>en-US</dc:language>
  <cp:lastModifiedBy>Елена </cp:lastModifiedBy>
  <dcterms:modified xsi:type="dcterms:W3CDTF">2012-12-03T19:45:14Z</dcterms:modified>
  <cp:revision>111</cp:revision>
  <dc:subject/>
  <dc:title>Слайд 1</dc:title>
</cp:coreProperties>
</file>