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E74B-9F17-4525-B2AE-B9389CB7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63A2-82CD-4E3E-BAE5-D5E59486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B3A-237B-4E1D-AB6B-C3C3F337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4EF4-1B5B-4170-B8BE-CF2ECBCF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49F7-B562-44A8-9384-6CDD1F8D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021E-4EDA-4DB3-89A6-B3586465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803F-099F-4631-AA25-E901EEF6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63C4-ABAE-4350-8915-FAF87CD0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422F-CBF2-4E08-ACDE-A6AF5BC0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8B8B-C8B2-4C6C-B8D3-737B3012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3FB2-60DD-4FC8-B023-0F6151E3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BDFF-D5AF-4970-B5EF-4CE0324E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FA20-1715-433F-B2CA-61E08017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79ED-D88E-4C6D-8B6F-0D3BD765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9CEA-31BD-4D92-B738-7BFF1EDF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B924-2771-4896-8F1F-FD08952A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F0D6-BF83-401A-956E-9B99E223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9DA8-12AB-4408-AAFE-6827B04A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4A3-8BD1-47A1-8ACB-30E76016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AF5-F48E-446C-BCD9-36C62A95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5B7-FC8F-4829-B6B9-025A4BA1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8011-29AE-470D-849B-D85CED3B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6002-0D42-4672-B039-4AB36B02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0FC-931A-450F-A24D-A1AE3958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B693-C268-4061-B0B0-89247AC8DBF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7E2E-E465-4736-A095-C79FC437836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Comic Sans MS"/>
              </a:rPr>
              <a:t>Как победить дракона или удержаться от вредной привычки!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42920" y="1417680"/>
            <a:ext cx="7274160" cy="5319720"/>
          </a:xfrm>
          <a:prstGeom prst="rect">
            <a:avLst/>
          </a:prstGeom>
          <a:ln w="57240">
            <a:solidFill>
              <a:srgbClr val="b9efee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417080" cy="1484280"/>
          </a:xfrm>
          <a:prstGeom prst="rect">
            <a:avLst/>
          </a:prstGeom>
          <a:solidFill>
            <a:srgbClr val="b9efee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Чтобы не стать рабом вредных привычек, нужно выполнять три правила:</a:t>
            </a:r>
            <a:br>
              <a:rPr sz="40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 скучать, найти себе занятие по душ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знавать мир и интересных люде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и в коем случае не пробовать спиртное и наркоти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у, а если вы все же попали в плен какой-то вредной привычке, старайтесь избавиться от нее изо всех сил. И если вам это удастся, вы - настоящий герой. Как сказал древний китайский мудрец Лао-То: «Тот, кто может победить другого, - силен, тот, кто побеждает самого себя, - воистину могуществен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5075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6095880" cy="457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39640" y="422280"/>
            <a:ext cx="8183520" cy="613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42920" y="2349360"/>
            <a:ext cx="669780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сем спасибо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111880" cy="1930320"/>
          </a:xfrm>
          <a:prstGeom prst="rect">
            <a:avLst/>
          </a:prstGeom>
          <a:solidFill>
            <a:srgbClr val="b9efee"/>
          </a:solidFill>
          <a:ln w="57240">
            <a:solidFill>
              <a:srgbClr val="00ff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omic Sans MS"/>
              </a:rPr>
              <a:t>Как победить дракона или удержаться от вредной привычки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« Тот, кто может победить другого – силён, тот, кто побеждает самого себя – воистину могуществен»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Лао-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А вот и портрет чудовища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360" y="1413000"/>
            <a:ext cx="5219640" cy="2333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Сквернослов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000" y="3933360"/>
            <a:ext cx="4475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Наркомания     Алкогол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Игром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Токсикомания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Кур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6720" y="4365720"/>
            <a:ext cx="1828800" cy="208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564000" y="1700280"/>
            <a:ext cx="1587600" cy="2089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2556000" y="4437000"/>
            <a:ext cx="2736720" cy="181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00720" y="2060640"/>
            <a:ext cx="1498680" cy="1944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6588000" y="4365720"/>
            <a:ext cx="1406520" cy="2492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396720" y="1628640"/>
            <a:ext cx="1559160" cy="2087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796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796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704880"/>
          </a:xfrm>
          <a:prstGeom prst="rect">
            <a:avLst/>
          </a:prstGeom>
          <a:solidFill>
            <a:srgbClr val="b9efee"/>
          </a:solidFill>
          <a:ln w="57240">
            <a:solidFill>
              <a:srgbClr val="33cc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Токсиком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Это не просто вредные, но и очень опасны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ривычки. «Мания» - это психическая болезнь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когда человек постоянно думает о чем-то одн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Токсикоман постоянно думает о яде. «Токсикомания» с латыни так и переводится как «мания к яду» (токсин -значит яд). Эти яды попадают в организм человека при вдыхании ядовитых паров и вызывают сильные отравления. Очень быстро появляется привыка­ние, наступают изменения в психике, но главное - разрушается здоровье человека, так как яды постепенно накапливаются в организм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164360" y="907920"/>
            <a:ext cx="1773360" cy="2374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b9efee"/>
          </a:solidFill>
          <a:ln w="38160">
            <a:solidFill>
              <a:srgbClr val="00ff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Нарком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Наркотики - отрава еще более серьезная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она рассчитана на простаков, которы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ривыкнув к ним, не смогут без них  жи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И станут платить большие деньги, чтобы поскорее умереть. Наркотики нюхают, курят, вкалывают, принимают в виде таблеток. Они моментально попадают в кровь. Наркомания действует своими ядами сильно и быстро -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буквально с первого раза человек может стать наркоманом!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У человека появляются галлюцинации, кошмары. Наркоман ради наркотиков готов пойти на любое преступление. У наркоманов три пути: тюрьма, психбольница, смер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92920" y="907920"/>
            <a:ext cx="1955880" cy="223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7632720" cy="631800"/>
          </a:xfrm>
          <a:prstGeom prst="rect">
            <a:avLst/>
          </a:prstGeom>
          <a:solidFill>
            <a:srgbClr val="b9efee"/>
          </a:solidFill>
          <a:ln w="38160">
            <a:solidFill>
              <a:srgbClr val="00ff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Алкогол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Еще одна вредная привычка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ьянство. Пьянство очень быстр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ерерастает в манию - алкоголизм. Алкоголь - самый распространенный наркотик, ежегодно убивающий сотни людей. Это тоже яд, он нарушает работу всех внутренних органов. Пьяный человек -зрелище отталкивающее. Но алкоголику безразлично мнение окружающих, он теряет че­ловеческий облик и становится рабом своей вредной привычки. От алкоголизма страдают не только сами пьяницы, но и близкие им люди: матери, жены, дети. Огромное количество преступлений совершается на почве пьянства, разрушается много семей,  ломаются судьб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156360" y="836640"/>
            <a:ext cx="2663640" cy="177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Кур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Курение - это зависимость от наркоти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имя которому никотин. По своей ядовитост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никотин равен синильной кислоте – смертельном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яду. Ученые подсчитали, что курильщик сокращае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свою жизнь на 6 лет. Все органы человеческого тел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страдают от табака. В табаке содержится 1200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ядовитых веществ. Научно доказано, что курение вызывает 25 заболеваний. У курильщиков плохая память, плохое физическое здоровье, неустойчивая психика, они медленно думают, плохо слышат. Даже внешне курильщики отличаются от некурящих: у них быстрее вянет кожа, сипнет голос, желтеют зубы. От курения страдают некурящие. Половина вредных веществ, которые есть в сигарете, курильщик выдыхает, отравляя воздух. Этим воздухом вынуждены дышать окружающие, которые становятся пас­сивными курильщик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023920" cy="2663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561080" cy="720720"/>
          </a:xfrm>
          <a:prstGeom prst="rect">
            <a:avLst/>
          </a:prstGeom>
          <a:solidFill>
            <a:srgbClr val="b9efee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Игром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Игромания. Эта вредная привыч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начинается безобид­но - игровые автоматы, компьютерные игры, карты, рулетка. 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ожет закончиться разрушением психики, преступлением, даже самоубийством. Игромания не щадит ни детей, ни взрослых. Даже благоразумные старушки становятся игроманками и заканчивают свою жизнь в голоде и нищет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164360" y="765000"/>
            <a:ext cx="1665360" cy="2951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квернослов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Сегодня нередко можно встретить лю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дей, которые уже не ругаются, а разго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варивают матом. А между тем эта вредн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привычка - сквернословие - очень опасн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для здоровья человека. Причем вредно н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только говорить, но и слушать матерные сло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Ученые провели такой эксперимент: возле семян  растения арабидопсис они долгое время произносили матерные слова. В результате почти все растения погибли, а те, которые выжили, стали генетическими уродами. Влияние матерных слов ученые сравнили с радиоактивным об- лучением в тысячи рентген. Ученые установили, что матерные с лона поражают гены человека, уничтожая его детей и внуков. То есть мат - это программа самоликвидации всего потомства этого челове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21715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5:35:47Z</dcterms:created>
  <dc:creator>user</dc:creator>
  <dc:description/>
  <dc:language>en-US</dc:language>
  <cp:lastModifiedBy>user</cp:lastModifiedBy>
  <dcterms:modified xsi:type="dcterms:W3CDTF">2008-11-30T18:36:35Z</dcterms:modified>
  <cp:revision>2</cp:revision>
  <dc:subject/>
  <dc:title>Как победить дракона или удержаться от вредной привычки!</dc:title>
</cp:coreProperties>
</file>