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0099-2523-401C-9236-148DE2F2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EB8A-41E8-4B2F-94A1-498B0014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5881-C917-4AA7-BA5A-BA962045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615D-BCC5-4504-9001-B47713BE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4FF2-1875-4F45-8D52-89B20E33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62B9-122F-4875-8E7B-0685299A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5750-6267-4B8E-8DAE-B3D3B300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16A0-1F64-458D-8D88-02C23023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50EC-81ED-4406-BF3A-293B0AB3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ADDE-A712-48C1-BD17-3B3BDFC8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5B94-0521-4B05-8BD2-C7FEE323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ACAE-EEF0-48A8-B05F-54258FF7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A26E-34EA-4D82-9053-2FD3301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7BAC-A584-4359-BDE7-75744D9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02A9-B57E-436F-BCCD-09CEC6C0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9004-E2A1-41BD-ADBD-09C14079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E453-2AF1-4A8E-9D51-E12728CA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D7A0-BD4C-4AFE-B716-28B706C8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81E9-6D02-45CB-A0EC-2B9403D8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2CC5-C614-4D48-A99A-2D033B0E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98B2-57E8-437F-AAAC-60E1A81B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4A5F-85DD-42D0-9FB5-706171E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670E-8CBF-462D-A727-7C769C8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6F2B-BB6A-43D7-B4A7-65D9FB6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1EE7-39E8-4ECC-83FB-A938C61FAF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E20-9F54-440E-A33C-1035FC1681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37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Алкоголь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и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алкогольная завис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вышенная устойчивость к водке – первый признак начинающегося алкоголизм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61672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ьяному море по колено, а лужа по уш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2095" t="3065" r="2937" b="11495"/>
          <a:stretch/>
        </p:blipFill>
        <p:spPr>
          <a:xfrm>
            <a:off x="1187280" y="256536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редняя продолжительность жизни алкоголика не превышает обычно</a:t>
            </a:r>
            <a:br>
              <a:rPr sz="36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5 лет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100 самоубийц – половина алкогол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орт и спирт несовместимы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6" descr="1"/>
          <p:cNvPicPr/>
          <p:nvPr/>
        </p:nvPicPr>
        <p:blipFill>
          <a:blip r:embed="rId1"/>
          <a:stretch/>
        </p:blipFill>
        <p:spPr>
          <a:xfrm>
            <a:off x="3059280" y="1989000"/>
            <a:ext cx="29541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не наследуется, и борьба с ним зависит от воли и поведения пьющего человек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пьянства есть такие поводы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минки, праздник, встреча, проводы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стины, свадьбы и разв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ороз, охота, Новый г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здоровленье, новоселье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чаль, раскаянье, веселье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спех, награда, новый чин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 просто пьянство – без причи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тяжелая хроническая болезнь, в большинстве своем трудноизлечима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алкоголика характерно огрубение личности, лживость, падение авторитета в семье и рабочем коллективе, психофизиологические изме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развивается по такой схеме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начальн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критическ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хроническая ф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badkitty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8920" y="907920"/>
            <a:ext cx="383868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елая горячка – наиболее часто встречающийся алкогольный психо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6173" r="1816" b="0"/>
          <a:stretch/>
        </p:blipFill>
        <p:spPr>
          <a:xfrm>
            <a:off x="755640" y="692280"/>
            <a:ext cx="3600360" cy="547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ь, попадая в организм ребенка, быстро разносится кровью и концентрируется в мозг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ждое третье дорожно – транспортное происшествие совершается людьми в состоянии опья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1329547but"/>
          <p:cNvPicPr/>
          <p:nvPr/>
        </p:nvPicPr>
        <p:blipFill>
          <a:blip r:embed="rId1"/>
          <a:srcRect l="4325" t="9024" r="7313" b="28016"/>
          <a:stretch/>
        </p:blipFill>
        <p:spPr>
          <a:xfrm>
            <a:off x="2195640" y="3141720"/>
            <a:ext cx="424800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путь к преступлению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Человек должен отвечать за свои поступки, даже если он пья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0210"/>
          <p:cNvPicPr/>
          <p:nvPr/>
        </p:nvPicPr>
        <p:blipFill>
          <a:blip r:embed="rId1"/>
          <a:stretch/>
        </p:blipFill>
        <p:spPr>
          <a:xfrm>
            <a:off x="2050920" y="2144880"/>
            <a:ext cx="496908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34:22Z</dcterms:created>
  <dc:creator>Gane</dc:creator>
  <dc:description/>
  <dc:language>en-US</dc:language>
  <cp:lastModifiedBy>Admin</cp:lastModifiedBy>
  <dcterms:modified xsi:type="dcterms:W3CDTF">2012-11-20T11:36:19Z</dcterms:modified>
  <cp:revision>6</cp:revision>
  <dc:subject/>
  <dc:title>Слайд 1</dc:title>
</cp:coreProperties>
</file>