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51C3-79C1-456A-9748-FA11D173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C194-DE7C-4860-8953-5973A4FD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F0DF-C259-47B6-9D63-E4794FE8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8E6F-D039-4FBA-A2E9-3BF7D4BB8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6625-DD92-406C-95EE-F5EAE142E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F392-DE61-42D6-B9AD-32990065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0F57-7605-4B79-9AD3-FAADB77E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D675-9C57-4CF9-B0E2-C3983F3F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7989-D4C2-4E8E-96B2-1E1D2226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D391-1A9B-460C-A2AC-F3DAEE23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5C12-3E1B-422E-949A-F6113640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AB0A-99D2-457C-A363-33546611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16F4-3794-4EC1-9E20-B0D8B1BA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5C8F-5D3B-451A-9802-3CE709F9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E0B6-2357-4C22-AAA9-CD63B899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49B2-CFAE-4C48-8E88-30909F87E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E583-0537-4B4F-B268-7402C16F6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2D78-E397-4FA6-9746-C081A343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537C-5642-4865-999C-DB1137CE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669B-7BEC-4833-8587-1D061FC7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B3C8-3DA8-46BD-9CC0-87A1008F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B727-A887-4E7F-B2F8-7109BC36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D698-292E-4021-B796-28E9BFF3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BFFE-DC94-4AA4-B309-A9AB2845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A0B3-5F1D-463D-8BB2-15934CA44C5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A89C-5799-4471-A660-15D32537514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Comic Sans MS"/>
              </a:rPr>
              <a:t>Как победить дракона или удержаться от вредной привычки!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042920" y="1417680"/>
            <a:ext cx="7274160" cy="5319720"/>
          </a:xfrm>
          <a:prstGeom prst="rect">
            <a:avLst/>
          </a:prstGeom>
          <a:ln w="57240">
            <a:solidFill>
              <a:srgbClr val="b9efee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7417080" cy="1484280"/>
          </a:xfrm>
          <a:prstGeom prst="rect">
            <a:avLst/>
          </a:prstGeom>
          <a:solidFill>
            <a:srgbClr val="b9efee"/>
          </a:solidFill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Чтобы не стать рабом вредных привычек, нужно выполнять три правила:</a:t>
            </a:r>
            <a:br>
              <a:rPr sz="4000"/>
            </a:b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е скучать, найти себе занятие по душ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Узнавать мир и интересных людей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и в коем случае не пробовать спиртное и наркотик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у, а если вы все же попали в плен какой-то вредной привычке, старайтесь избавиться от нее изо всех сил. И если вам это удастся, вы - настоящий герой. Как сказал древний китайский мудрец Лао-То: «Тот, кто может победить другого, - силен, тот, кто побеждает самого себя, - воистину могуществен»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85075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6095880" cy="4572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39640" y="422280"/>
            <a:ext cx="8183520" cy="6137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77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2" dur="770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4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6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42920" y="2349360"/>
            <a:ext cx="669780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сем спасибо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8111880" cy="1930320"/>
          </a:xfrm>
          <a:prstGeom prst="rect">
            <a:avLst/>
          </a:prstGeom>
          <a:solidFill>
            <a:srgbClr val="b9efee"/>
          </a:solidFill>
          <a:ln w="57240">
            <a:solidFill>
              <a:srgbClr val="00ff99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Comic Sans MS"/>
              </a:rPr>
              <a:t>Как победить дракона или удержаться от вредной привычки!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« Тот, кто может победить другого – силён, тот, кто побеждает самого себя – воистину могуществен»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Лао-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Comic Sans MS"/>
              </a:rPr>
              <a:t>А вот и портрет чудовища!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-360" y="1413000"/>
            <a:ext cx="5219640" cy="2333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64832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Сквернослов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000" y="3933360"/>
            <a:ext cx="4475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Наркомания     Алкогол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8320" y="3924360"/>
            <a:ext cx="40384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Игром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Токсикомания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Курен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96720" y="4365720"/>
            <a:ext cx="1828800" cy="2087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3564000" y="1700280"/>
            <a:ext cx="1587600" cy="2089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2556000" y="4437000"/>
            <a:ext cx="2736720" cy="1819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300720" y="2060640"/>
            <a:ext cx="1498680" cy="1944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6588000" y="4365720"/>
            <a:ext cx="1406520" cy="2492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8"/>
          <a:stretch/>
        </p:blipFill>
        <p:spPr>
          <a:xfrm>
            <a:off x="396720" y="1628640"/>
            <a:ext cx="1559160" cy="2087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796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796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704880"/>
          </a:xfrm>
          <a:prstGeom prst="rect">
            <a:avLst/>
          </a:prstGeom>
          <a:solidFill>
            <a:srgbClr val="b9efee"/>
          </a:solidFill>
          <a:ln w="57240">
            <a:solidFill>
              <a:srgbClr val="33cc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aramond"/>
              </a:rPr>
              <a:t>Врачи – о вредных привычках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5400720"/>
          </a:xfrm>
          <a:prstGeom prst="rect">
            <a:avLst/>
          </a:prstGeom>
          <a:noFill/>
          <a:ln w="38160">
            <a:solidFill>
              <a:srgbClr val="00ff99"/>
            </a:solidFill>
            <a:miter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Токсиком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Это не просто вредные, но и очень опасны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привычки. «Мания» - это психическая болезнь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когда человек постоянно думает о чем-то одно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Токсикоман постоянно думает о яде. «Токсикомания» с латыни так и переводится как «мания к яду» (токсин -значит яд). Эти яды попадают в организм человека при вдыхании ядовитых паров и вызывают сильные отравления. Очень быстро появляется привыка­ние, наступают изменения в психике, но главное - разрушается здоровье человека, так как яды постепенно накапливаются в организм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164360" y="907920"/>
            <a:ext cx="1773360" cy="2374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b9efee"/>
          </a:solidFill>
          <a:ln w="38160">
            <a:solidFill>
              <a:srgbClr val="00ff99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aramond"/>
              </a:rPr>
              <a:t>Врачи – о вредных привычках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Нарком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Наркотики - отрава еще более серьезная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она рассчитана на простаков, которые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привыкнув к ним, не смогут без них  жить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И станут платить большие деньги, чтобы поскорее умереть. Наркотики нюхают, курят, вкалывают, принимают в виде таблеток. Они моментально попадают в кровь. Наркомания действует своими ядами сильно и быстро -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буквально с первого раза человек может стать наркоманом!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У человека появляются галлюцинации, кошмары. Наркоман ради наркотиков готов пойти на любое преступление. У наркоманов три пути: тюрьма, психбольница, смерт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892920" y="907920"/>
            <a:ext cx="1955880" cy="2232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7632720" cy="631800"/>
          </a:xfrm>
          <a:prstGeom prst="rect">
            <a:avLst/>
          </a:prstGeom>
          <a:solidFill>
            <a:srgbClr val="b9efee"/>
          </a:solidFill>
          <a:ln w="38160">
            <a:solidFill>
              <a:srgbClr val="00ff99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aramond"/>
              </a:rPr>
              <a:t>Врачи – о вредных привычках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Алкоголиз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Еще одна вредная привычка –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пьянство. Пьянство очень быстр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перерастает в манию - алкоголизм. Алкоголь - самый распространенный наркотик, ежегодно убивающий сотни людей. Это тоже яд, он нарушает работу всех внутренних органов. Пьяный человек -зрелище отталкивающее. Но алкоголику безразлично мнение окружающих, он теряет че­ловеческий облик и становится рабом своей вредной привычки. От алкоголизма страдают не только сами пьяницы, но и близкие им люди: матери, жены, дети. Огромное количество преступлений совершается на почве пьянства, разрушается много семей,  ломаются судьб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156360" y="836640"/>
            <a:ext cx="2663640" cy="1770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2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Кур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Курение - это зависимость от наркотика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имя которому никотин. По своей ядовитост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никотин равен синильной кислоте – смертельному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яду. Ученые подсчитали, что курильщик сокращает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свою жизнь на 6 лет. Все органы человеческого тел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страдают от табака. В табаке содержится 1200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ядовитых веществ. Научно доказано, что курение вызывает 25 заболеваний. У курильщиков плохая память, плохое физическое здоровье, неустойчивая психика, они медленно думают, плохо слышат. Даже внешне курильщики отличаются от некурящих: у них быстрее вянет кожа, сипнет голос, желтеют зубы. От курения страдают некурящие. Половина вредных веществ, которые есть в сигарете, курильщик выдыхает, отравляя воздух. Этим воздухом вынуждены дышать окружающие, которые становятся пас­сивными курильщик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023920" cy="2663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7561080" cy="720720"/>
          </a:xfrm>
          <a:prstGeom prst="rect">
            <a:avLst/>
          </a:prstGeom>
          <a:solidFill>
            <a:srgbClr val="b9efee"/>
          </a:solidFill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aramond"/>
              </a:rPr>
              <a:t>Врачи – о вредных привычках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Игром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Игромания. Эта вредная привычк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начинается безобид­но - игровые автоматы, компьютерные игры, карты, рулетка. 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может закончиться разрушением психики, преступлением, даже самоубийством. Игромания не щадит ни детей, ни взрослых. Даже благоразумные старушки становятся игроманками и заканчивают свою жизнь в голоде и нищет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164360" y="765000"/>
            <a:ext cx="1665360" cy="2951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Сквернослов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Сегодня нередко можно встретить лю-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дей, которые уже не ругаются, а разго-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варивают матом. А между тем эта вредна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привычка - сквернословие - очень опасн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для здоровья человека. Причем вредно н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только говорить, но и слушать матерные слов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Ученые провели такой эксперимент: возле семян  растения арабидопсис они долгое время произносили матерные слова. В результате почти все растения погибли, а те, которые выжили, стали генетическими уродами. Влияние матерных слов ученые сравнили с радиоактивным об- лучением в тысячи рентген. Ученые установили, что матерные с лона поражают гены человека, уничтожая его детей и внуков. То есть мат - это программа самоликвидации всего потомства этого человек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732720" y="189000"/>
            <a:ext cx="21715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5:35:47Z</dcterms:created>
  <dc:creator>user</dc:creator>
  <dc:description/>
  <dc:language>en-US</dc:language>
  <cp:lastModifiedBy>user</cp:lastModifiedBy>
  <dcterms:modified xsi:type="dcterms:W3CDTF">2008-11-30T18:36:35Z</dcterms:modified>
  <cp:revision>2</cp:revision>
  <dc:subject/>
  <dc:title>Как победить дракона или удержаться от вредной привычки!</dc:title>
</cp:coreProperties>
</file>