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7164-7C22-4939-B5A8-78C00865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387C-3795-42E6-A9B2-00C5FD8F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2599-270E-4EB1-97B8-72B3D769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8394-12A8-471C-8E98-78E7F28C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585F-94C1-48E8-81DD-FB071DAB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74CC-268E-421A-A824-7DDBBD41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CDF0-AD09-43D0-90D2-0C0CF03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9818-68AE-44E8-AF43-94A9F884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AA07-DBD0-433D-B400-4D679E95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BE13-9BCB-4081-9616-9EA4CB86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8F2E-DFAB-4215-8A66-160A9E4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1577-C075-4AA5-A6B1-1089C8E0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FBEC-A4DA-49FF-A309-87DC4AD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3408-5130-4E3C-8A8A-65FB2DD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A442-5813-4AD5-96A3-2CCD493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4318-D799-4A3C-B24A-1A519F67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B64C-5863-41AF-BE75-C8DA8611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4480-733B-4BE2-A00C-7AA4996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1D35-4012-4ECA-B93C-64543506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0FDE-9F88-4EAE-B94B-202FBDD1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E254-B926-4195-900B-15E192D9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4E14-31CD-4285-B45D-9249C8A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A6E5-3F9E-456D-8910-A3176AB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9579-7E2D-4C74-9C66-5396DA5C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074F-F1A8-4555-AE89-E28B6C7059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F45A-896E-4174-8C5F-8A84F231AB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37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Алкоголь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и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алкогольная завис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вышенная устойчивость к водке – первый признак начинающегося алкоголизм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61672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ьяному море по колено, а лужа по уш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2095" t="3065" r="2937" b="11495"/>
          <a:stretch/>
        </p:blipFill>
        <p:spPr>
          <a:xfrm>
            <a:off x="1187280" y="256536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редняя продолжительность жизни алкоголика не превышает обычно</a:t>
            </a:r>
            <a:br>
              <a:rPr sz="36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5 лет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100 самоубийц – половина алкогол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орт и спирт несовместимы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6" descr="1"/>
          <p:cNvPicPr/>
          <p:nvPr/>
        </p:nvPicPr>
        <p:blipFill>
          <a:blip r:embed="rId1"/>
          <a:stretch/>
        </p:blipFill>
        <p:spPr>
          <a:xfrm>
            <a:off x="3059280" y="1989000"/>
            <a:ext cx="29541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не наследуется, и борьба с ним зависит от воли и поведения пьющего человек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пьянства есть такие поводы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минки, праздник, встреча, проводы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стины, свадьбы и разв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ороз, охота, Новый г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здоровленье, новоселье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чаль, раскаянье, веселье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спех, награда, новый чин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 просто пьянство – без причи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тяжелая хроническая болезнь, в большинстве своем трудноизлечима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алкоголика характерно огрубение личности, лживость, падение авторитета в семье и рабочем коллективе, психофизиологические изме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развивается по такой схеме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начальн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критическ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хроническая ф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badkitty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8920" y="907920"/>
            <a:ext cx="383868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елая горячка – наиболее часто встречающийся алкогольный психо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6173" r="1816" b="0"/>
          <a:stretch/>
        </p:blipFill>
        <p:spPr>
          <a:xfrm>
            <a:off x="755640" y="692280"/>
            <a:ext cx="3600360" cy="547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ь, попадая в организм ребенка, быстро разносится кровью и концентрируется в мозг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ждое третье дорожно – транспортное происшествие совершается людьми в состоянии опья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1329547but"/>
          <p:cNvPicPr/>
          <p:nvPr/>
        </p:nvPicPr>
        <p:blipFill>
          <a:blip r:embed="rId1"/>
          <a:srcRect l="4325" t="9024" r="7313" b="28016"/>
          <a:stretch/>
        </p:blipFill>
        <p:spPr>
          <a:xfrm>
            <a:off x="2195640" y="3141720"/>
            <a:ext cx="424800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путь к преступлению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Человек должен отвечать за свои поступки, даже если он пья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0210"/>
          <p:cNvPicPr/>
          <p:nvPr/>
        </p:nvPicPr>
        <p:blipFill>
          <a:blip r:embed="rId1"/>
          <a:stretch/>
        </p:blipFill>
        <p:spPr>
          <a:xfrm>
            <a:off x="2050920" y="2144880"/>
            <a:ext cx="496908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34:22Z</dcterms:created>
  <dc:creator>Gane</dc:creator>
  <dc:description/>
  <dc:language>en-US</dc:language>
  <cp:lastModifiedBy>Admin</cp:lastModifiedBy>
  <dcterms:modified xsi:type="dcterms:W3CDTF">2012-11-20T11:36:19Z</dcterms:modified>
  <cp:revision>6</cp:revision>
  <dc:subject/>
  <dc:title>Слайд 1</dc:title>
</cp:coreProperties>
</file>