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F45B-CF1B-4DD0-BC83-00C22DA1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ADFE-FFEF-4273-997E-EE667E77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E3B7-8BBC-4D2D-A033-336E4C69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7263-BB5B-44B5-8E29-534EF6C5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454A-5B47-4A87-9419-10C6840A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15E9-78F0-4D7E-94F9-C4462CEC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5DA7-F1D0-43BB-AF96-1F247B70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2277-3B2E-4250-A134-2E0E3433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5C65-D0AC-4D07-9761-8DEC33FC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28CC-5E23-4A46-A807-14D77BBF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D30E-F5A8-4A2E-8CBC-D0899BAE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7FB8-E454-4B1C-AD68-62E6A4B0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C98E-0C58-49DE-87C5-5E3DEF18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CA5B-AEF7-4E83-A235-7CAFC475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2302-D52E-4C93-BC6C-F94BBBE8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69BF-0F88-480C-8465-5216AA729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0D8E-88ED-4B90-B68D-866F83C1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DB27-E309-483C-8E0E-C6F591D3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B131-1876-454A-B43E-6D45B968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5BA9-329D-4D56-9FD3-90567A89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53A6-EB64-48D9-967E-E827935F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EC8D-B83A-4A92-9E05-71BD0FEB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6E53-CB97-4AFA-AC65-0F42D5C7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F2F8-06A6-4EBB-AD78-2AEE5C50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8B13-3276-4594-9126-2575A15FF26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C75E-C21C-4310-9F93-0649D747E25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Comic Sans MS"/>
              </a:rPr>
              <a:t>Как победить дракона или удержаться от вредной привычки!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42920" y="1417680"/>
            <a:ext cx="7274160" cy="5319720"/>
          </a:xfrm>
          <a:prstGeom prst="rect">
            <a:avLst/>
          </a:prstGeom>
          <a:ln w="57240">
            <a:solidFill>
              <a:srgbClr val="b9efee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417080" cy="1484280"/>
          </a:xfrm>
          <a:prstGeom prst="rect">
            <a:avLst/>
          </a:prstGeom>
          <a:solidFill>
            <a:srgbClr val="b9efee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Чтобы не стать рабом вредных привычек, нужно выполнять три правила:</a:t>
            </a:r>
            <a:br>
              <a:rPr sz="4000"/>
            </a:b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е скучать, найти себе занятие по душ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знавать мир и интересных люде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и в коем случае не пробовать спиртное и наркоти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у, а если вы все же попали в плен какой-то вредной привычке, старайтесь избавиться от нее изо всех сил. И если вам это удастся, вы - настоящий герой. Как сказал древний китайский мудрец Лао-То: «Тот, кто может победить другого, - силен, тот, кто побеждает самого себя, - воистину могуществен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5075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6095880" cy="457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39640" y="422280"/>
            <a:ext cx="8183520" cy="6137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2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4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6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42920" y="2349360"/>
            <a:ext cx="669780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сем спасибо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111880" cy="1930320"/>
          </a:xfrm>
          <a:prstGeom prst="rect">
            <a:avLst/>
          </a:prstGeom>
          <a:solidFill>
            <a:srgbClr val="b9efee"/>
          </a:solidFill>
          <a:ln w="57240">
            <a:solidFill>
              <a:srgbClr val="00ff9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omic Sans MS"/>
              </a:rPr>
              <a:t>Как победить дракона или удержаться от вредной привычки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« Тот, кто может победить другого – силён, тот, кто побеждает самого себя – воистину могуществен»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Лао-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А вот и портрет чудовища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360" y="1413000"/>
            <a:ext cx="5219640" cy="2333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6483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Сквернослов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000" y="3933360"/>
            <a:ext cx="4475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Наркомания     Алкогол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392436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Игром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Токсикомания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Куре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96720" y="4365720"/>
            <a:ext cx="1828800" cy="2087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564000" y="1700280"/>
            <a:ext cx="1587600" cy="2089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2556000" y="4437000"/>
            <a:ext cx="2736720" cy="1819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00720" y="2060640"/>
            <a:ext cx="1498680" cy="1944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6588000" y="4365720"/>
            <a:ext cx="1406520" cy="2492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396720" y="1628640"/>
            <a:ext cx="1559160" cy="2087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796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796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704880"/>
          </a:xfrm>
          <a:prstGeom prst="rect">
            <a:avLst/>
          </a:prstGeom>
          <a:solidFill>
            <a:srgbClr val="b9efee"/>
          </a:solidFill>
          <a:ln w="57240">
            <a:solidFill>
              <a:srgbClr val="33cc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Врачи – о вредных привычка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Токсиком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Это не просто вредные, но и очень опасны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ривычки. «Мания» - это психическая болезнь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когда человек постоянно думает о чем-то одно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Токсикоман постоянно думает о яде. «Токсикомания» с латыни так и переводится как «мания к яду» (токсин -значит яд). Эти яды попадают в организм человека при вдыхании ядовитых паров и вызывают сильные отравления. Очень быстро появляется привыка­ние, наступают изменения в психике, но главное - разрушается здоровье человека, так как яды постепенно накапливаются в организм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164360" y="907920"/>
            <a:ext cx="1773360" cy="2374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b9efee"/>
          </a:solidFill>
          <a:ln w="38160">
            <a:solidFill>
              <a:srgbClr val="00ff9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Врачи – о вредных привычка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Нарком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Наркотики - отрава еще более серьезная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она рассчитана на простаков, которые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ривыкнув к ним, не смогут без них  жи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И станут платить большие деньги, чтобы поскорее умереть. Наркотики нюхают, курят, вкалывают, принимают в виде таблеток. Они моментально попадают в кровь. Наркомания действует своими ядами сильно и быстро -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буквально с первого раза человек может стать наркоманом!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У человека появляются галлюцинации, кошмары. Наркоман ради наркотиков готов пойти на любое преступление. У наркоманов три пути: тюрьма, психбольница, смер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892920" y="907920"/>
            <a:ext cx="1955880" cy="223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7632720" cy="631800"/>
          </a:xfrm>
          <a:prstGeom prst="rect">
            <a:avLst/>
          </a:prstGeom>
          <a:solidFill>
            <a:srgbClr val="b9efee"/>
          </a:solidFill>
          <a:ln w="38160">
            <a:solidFill>
              <a:srgbClr val="00ff9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Врачи – о вредных привычка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Алкогол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Еще одна вредная привычка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ьянство. Пьянство очень быстр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ерерастает в манию - алкоголизм. Алкоголь - самый распространенный наркотик, ежегодно убивающий сотни людей. Это тоже яд, он нарушает работу всех внутренних органов. Пьяный человек -зрелище отталкивающее. Но алкоголику безразлично мнение окружающих, он теряет че­ловеческий облик и становится рабом своей вредной привычки. От алкоголизма страдают не только сами пьяницы, но и близкие им люди: матери, жены, дети. Огромное количество преступлений совершается на почве пьянства, разрушается много семей,  ломаются судьб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156360" y="836640"/>
            <a:ext cx="2663640" cy="177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Кур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Курение - это зависимость от наркоти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имя которому никотин. По своей ядовитост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никотин равен синильной кислоте – смертельном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яду. Ученые подсчитали, что курильщик сокращает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свою жизнь на 6 лет. Все органы человеческого тел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страдают от табака. В табаке содержится 1200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ядовитых веществ. Научно доказано, что курение вызывает 25 заболеваний. У курильщиков плохая память, плохое физическое здоровье, неустойчивая психика, они медленно думают, плохо слышат. Даже внешне курильщики отличаются от некурящих: у них быстрее вянет кожа, сипнет голос, желтеют зубы. От курения страдают некурящие. Половина вредных веществ, которые есть в сигарете, курильщик выдыхает, отравляя воздух. Этим воздухом вынуждены дышать окружающие, которые становятся пас­сивными курильщик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023920" cy="2663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561080" cy="720720"/>
          </a:xfrm>
          <a:prstGeom prst="rect">
            <a:avLst/>
          </a:prstGeom>
          <a:solidFill>
            <a:srgbClr val="b9efee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Врачи – о вредных привычка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Игром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Игромания. Эта вредная привыч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начинается безобид­но - игровые автоматы, компьютерные игры, карты, рулетка. 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может закончиться разрушением психики, преступлением, даже самоубийством. Игромания не щадит ни детей, ни взрослых. Даже благоразумные старушки становятся игроманками и заканчивают свою жизнь в голоде и нищет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164360" y="765000"/>
            <a:ext cx="1665360" cy="2951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квернослов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Сегодня нередко можно встретить лю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дей, которые уже не ругаются, а разго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варивают матом. А между тем эта вредн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привычка - сквернословие - очень опасн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для здоровья человека. Причем вредно н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только говорить, но и слушать матерные сло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Ученые провели такой эксперимент: возле семян  растения арабидопсис они долгое время произносили матерные слова. В результате почти все растения погибли, а те, которые выжили, стали генетическими уродами. Влияние матерных слов ученые сравнили с радиоактивным об- лучением в тысячи рентген. Ученые установили, что матерные с лона поражают гены человека, уничтожая его детей и внуков. То есть мат - это программа самоликвидации всего потомства этого человек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732720" y="189000"/>
            <a:ext cx="21715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5:35:47Z</dcterms:created>
  <dc:creator>user</dc:creator>
  <dc:description/>
  <dc:language>en-US</dc:language>
  <cp:lastModifiedBy>user</cp:lastModifiedBy>
  <dcterms:modified xsi:type="dcterms:W3CDTF">2008-11-30T18:36:35Z</dcterms:modified>
  <cp:revision>2</cp:revision>
  <dc:subject/>
  <dc:title>Как победить дракона или удержаться от вредной привычки!</dc:title>
</cp:coreProperties>
</file>