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47F8-B0D0-4ED2-ABED-2E8589EDD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C3E1-759B-46FE-BD8C-A9C6D9D0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98BF-E144-4994-BA3D-8D187E11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09D21-7213-465F-8B85-ED3908C2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0A0E-3E46-4F3E-95C0-46540B4A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7A78-0229-4B02-BAE0-B7090A68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C7E4-95DB-45F5-81D6-DF35CB66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0278-CF5E-4D67-8538-AB518FF6A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E7D8-BBB7-4416-9F11-C47A4E8B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8CCA-3DFC-4CB0-AAF1-C88DC910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92FB-B2FD-4778-A468-ECB5509F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3446-0822-4985-B2E5-D6AF6126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46C8-4150-4CB6-AD5B-513CFF1D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9FFD2-29F3-4B92-941C-CF42822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41EE-D7E1-4207-B384-820E7145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A471-683F-430D-9429-307EB25E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C440-E5FA-40E7-B01B-DD62A1BB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8A4B-649F-46E3-ABF9-E6C81C1E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8AD51-3F27-4D3E-92A2-D566A6D5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FA90F-BF62-4993-8157-8DB71E76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FA9A6-BD93-41C2-8E8B-A72F34E6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090A-50A3-45CE-A7EA-2C7585A8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C1CE-C1FE-4C1E-82BD-5DD5CAEB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55AA0-6EF3-40BB-BE31-DB96BD50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5BAC-43E5-4A9E-9A77-90B39C4569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08B5-7B75-4588-AE12-0912B0CAC7C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989840" cy="37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Алкоголь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и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алкогольная зависим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вышенная устойчивость к водке – первый признак начинающегося алкоголизм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61672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ьяному море по колено, а лужа по уш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2095" t="3065" r="2937" b="11495"/>
          <a:stretch/>
        </p:blipFill>
        <p:spPr>
          <a:xfrm>
            <a:off x="1187280" y="256536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редняя продолжительность жизни алкоголика не превышает обычно</a:t>
            </a:r>
            <a:br>
              <a:rPr sz="36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55 лет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100 самоубийц – половина алкогол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2"/>
          <p:cNvPicPr/>
          <p:nvPr/>
        </p:nvPicPr>
        <p:blipFill>
          <a:blip r:embed="rId1"/>
          <a:stretch/>
        </p:blipFill>
        <p:spPr>
          <a:xfrm>
            <a:off x="2484360" y="3716280"/>
            <a:ext cx="41036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орт и спирт несовместимы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6" descr="1"/>
          <p:cNvPicPr/>
          <p:nvPr/>
        </p:nvPicPr>
        <p:blipFill>
          <a:blip r:embed="rId1"/>
          <a:stretch/>
        </p:blipFill>
        <p:spPr>
          <a:xfrm>
            <a:off x="3059280" y="1989000"/>
            <a:ext cx="29541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не наследуется, и борьба с ним зависит от воли и поведения пьющего человек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Хмельное всегда протягивает нам руку, когда мы терпим неудачу, когда мы слабеем, когда мы утомлены, и указывает чрезвычайно легкий выход из создавшегося положения. Но обещания эти ложны: обманчив душевный подъем, физическая сила, которую оно обещает, призрачна; под влиянием хмельного мы теряем истинное представление о ценности вещей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пьянства есть такие поводы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минки, праздник, встреча, проводы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стины, свадьбы и разв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ороз, охота, Новый г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здоровленье, новоселье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ечаль, раскаянье, веселье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спех, награда, новый чин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 просто пьянство – без причи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248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тяжелая хроническая болезнь, в большинстве своем трудноизлечима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3"/>
          <p:cNvPicPr/>
          <p:nvPr/>
        </p:nvPicPr>
        <p:blipFill>
          <a:blip r:embed="rId1"/>
          <a:stretch/>
        </p:blipFill>
        <p:spPr>
          <a:xfrm>
            <a:off x="5292720" y="1197000"/>
            <a:ext cx="3249720" cy="471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алкоголика характерно огрубение личности, лживость, падение авторитета в семье и рабочем коллективе, психофизиологические изме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8261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развивается по такой схеме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начальн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критическ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хроническая ф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badkitty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8920" y="907920"/>
            <a:ext cx="3838680" cy="48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елая горячка – наиболее часто встречающийся алкогольный психоз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6173" r="1816" b="0"/>
          <a:stretch/>
        </p:blipFill>
        <p:spPr>
          <a:xfrm>
            <a:off x="755640" y="692280"/>
            <a:ext cx="3600360" cy="5478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ь, попадая в организм ребенка, быстро разносится кровью и концентрируется в мозг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Трудный период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396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ждое третье дорожно – транспортное происшествие совершается людьми в состоянии опья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1329547but"/>
          <p:cNvPicPr/>
          <p:nvPr/>
        </p:nvPicPr>
        <p:blipFill>
          <a:blip r:embed="rId1"/>
          <a:srcRect l="4325" t="9024" r="7313" b="28016"/>
          <a:stretch/>
        </p:blipFill>
        <p:spPr>
          <a:xfrm>
            <a:off x="2195640" y="3141720"/>
            <a:ext cx="424800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путь к преступлению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Человек должен отвечать за свои поступки, даже если он пья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0210"/>
          <p:cNvPicPr/>
          <p:nvPr/>
        </p:nvPicPr>
        <p:blipFill>
          <a:blip r:embed="rId1"/>
          <a:stretch/>
        </p:blipFill>
        <p:spPr>
          <a:xfrm>
            <a:off x="2050920" y="2144880"/>
            <a:ext cx="496908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34:22Z</dcterms:created>
  <dc:creator>Gane</dc:creator>
  <dc:description/>
  <dc:language>en-US</dc:language>
  <cp:lastModifiedBy>Admin</cp:lastModifiedBy>
  <dcterms:modified xsi:type="dcterms:W3CDTF">2012-11-20T11:36:19Z</dcterms:modified>
  <cp:revision>6</cp:revision>
  <dc:subject/>
  <dc:title>Слайд 1</dc:title>
</cp:coreProperties>
</file>