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F87-7657-4139-9816-5DA95798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ADF-328F-443E-8BEE-A9204BC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3F4-A425-42AE-824D-40F40E81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233-DC85-4C3B-9C06-3F80A23F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03C7-48B6-4E27-A8DF-2362DB78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A637-24D9-40F0-9E02-CC823191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A5AC-507E-45A0-9684-B7B0DCF6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799E-AC0B-4BC9-BE18-E95C08F7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3B8D-A67A-480B-B6D2-EAFBD6FA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D8C9-17E3-4895-ABE0-9C15FC94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A887-7A28-4284-9785-6378849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BC2-953A-4534-8E9B-ED43CDC1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E777-860F-43E3-B939-ED5DCA7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491F-6FF0-449B-95F8-CB991321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5DC9-EE14-4D61-B5AF-2C7E954E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9C0D-0CAF-44C0-BC68-1162489A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E48C-E460-45E9-96DC-BEE71EF4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57F-0320-4AD4-9A4A-8BD2181B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1EF-561C-49DD-BAC2-EEBA3926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7DA-44F9-49E3-889B-DA9B9AC9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BAD-8E23-4E75-8F9F-26736CB5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7A5-DD05-4D5C-921A-61B63B9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F9B-DB41-43D5-9D6A-7A6F2E79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BE0-8F29-4F08-9101-E91013AA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52A6-2A4E-45AC-A2E6-616F8D9682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106B-2803-42A3-B3F0-68F2C5B44F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7274160" cy="5319720"/>
          </a:xfrm>
          <a:prstGeom prst="rect">
            <a:avLst/>
          </a:prstGeom>
          <a:ln w="57240">
            <a:solidFill>
              <a:srgbClr val="b9efee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09588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422280"/>
            <a:ext cx="8183520" cy="613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2349360"/>
            <a:ext cx="66978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м спасиб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11880" cy="1930320"/>
          </a:xfrm>
          <a:prstGeom prst="rect">
            <a:avLst/>
          </a:prstGeom>
          <a:solidFill>
            <a:srgbClr val="b9efee"/>
          </a:solidFill>
          <a:ln w="5724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 Тот, кто может победить другого – силён, тот, кто побеждает самого себя – воистину могуществен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ао-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А вот и портрет чудовищ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0" y="1413000"/>
            <a:ext cx="521964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933360"/>
            <a:ext cx="4475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ркомания     Алког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720" y="4365720"/>
            <a:ext cx="182880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64000" y="1700280"/>
            <a:ext cx="1587600" cy="208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00720" y="206064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88000" y="4365720"/>
            <a:ext cx="1406520" cy="2492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6720" y="1628640"/>
            <a:ext cx="155916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96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796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704880"/>
          </a:xfrm>
          <a:prstGeom prst="rect">
            <a:avLst/>
          </a:prstGeom>
          <a:solidFill>
            <a:srgbClr val="b9efee"/>
          </a:solidFill>
          <a:ln w="57240">
            <a:solidFill>
              <a:srgbClr val="33cc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окси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Это не просто вредные, но и очень опасн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чки. «Мания» - это психическая болезнь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когда человек постоянно думает о чем-то од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Токсикоман постоянно думает о яде. «Токсикомания» с латыни так и переводится как «мания к яду» (токсин -значит яд). Эти яды попадают в организм человека при вдыхании ядовитых паров и вызывают сильные отравления. Очень быстро появляется привыка­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73360" cy="23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аркотики - отрава еще более серьезная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на рассчитана на простаков, которы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кнув к ним, не смогут без них  жи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И станут платить большие деньги, чтобы поскорее умереть. Наркотики нюхают, курят, вкалывают, принимают в виде таблеток. Они моментально попадают в кровь. Наркомания действует своими ядами сильно и быстро -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буквально с первого раза человек может стать наркоманом!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У человека появляются галлюцинации, кошмары. Наркоман ради наркотиков готов пойти на любое преступление. У наркоманов три пути: тюрьма, психбольница, смер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92920" y="907920"/>
            <a:ext cx="195588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32720" cy="63180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лкогол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Еще одна вредная привычка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ьянство. Пьянство очень быстр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ерерастает в манию - алкоголизм. Алкоголь - самый распространенный наркотик, ежегодно убивающий сотни людей. Это тоже яд, он нарушает работу всех внутренних органов. Пьяный человек -зрелище отталкивающее. Но алкоголику безразлично мнение окружающих, он теряет че­ловеческий облик и становится рабом своей вредной привычки. От алкоголизма страдают не только сами пьяницы, но и близкие им люди: матери, жены, дети. Огромное количество преступлений совершается на почве пьянства, разрушается много семей,  ломаются судь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66364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урение - это зависимость от наркоти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имя которому никотин. По своей ядовит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никотин равен синильной кислоте – смертельном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у. Ученые подсчитали, что курильщик сокраща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вою жизнь на 6 лет. Все органы человеческого тел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традают от табака. В табаке содержится 12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овитых веществ. 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Даже внешне курильщики отличаются от некурящих: у них быстрее вянет кожа, сипнет голос, желтеют зубы. 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­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2392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61080" cy="72072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громания. Эта вредная привыч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чинается безобид­но - игровые автоматы, компьютерные игры, карты, рулетка. 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65360" cy="295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годня нередко можно встретить лю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ей, которые уже не ругаются, а разг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аривают матом. А между тем эта вред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ивычка - сквернословие - очень опас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здоровья человека. Причем вредно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олько говорить, но и слушать матерные сл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Ученые провели такой эксперимент: возле семян  растения арабидопсис они долгое время произносили матерные слова. В результате почти все растения погибли, а те, которые выжили, стали генетическими уродами. Влияние матерных слов ученые сравнили с радиоактивным об- лучением в тысячи рентген. Ученые установили, что матерные с лона поражают гены человека, уничтожая его детей и внуков. То есть мат - это программа самоликвидации всего потомства этого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7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35:47Z</dcterms:created>
  <dc:creator>user</dc:creator>
  <dc:description/>
  <dc:language>en-US</dc:language>
  <cp:lastModifiedBy>user</cp:lastModifiedBy>
  <dcterms:modified xsi:type="dcterms:W3CDTF">2008-11-30T18:36:35Z</dcterms:modified>
  <cp:revision>2</cp:revision>
  <dc:subject/>
  <dc:title>Как победить дракона или удержаться от вредной привычки!</dc:title>
</cp:coreProperties>
</file>