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DB69-F91F-44DA-A6EC-D681AC76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B698-9A29-4EAA-AF5D-87E52C82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A914-2991-4A8D-9C18-951DB250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112C-306D-452D-83D1-028997AE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63EC-CC79-4E09-98E8-6143EA54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2C74-8F3D-40FC-93F9-8A2F61DA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6E95-2003-4429-A9A7-3EB5689B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A10E-537B-48DC-931D-958CF87A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C087-7059-4ECF-9749-763394E5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C137-8D1B-4051-9E3C-8EE3ADCD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0A46-A109-452E-A93B-DC63E812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4E69-308B-41A5-8E25-6EF026E3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66B9-A15F-4F29-B1C6-E9DE44F6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EBF5-A1DC-40EE-82D1-9FBA5CE5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F6AC-A1C4-48E9-90B9-BBC0F3F6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EEA5-3A89-4BBE-8178-4CEE5B76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5135-42F2-49D7-BA37-80A0DFD1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E36E-C73F-4DA5-BDF8-0EAD20FA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C8B2-EBE6-4F1C-AF4E-62238AAF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E410-E532-46F1-8886-DA554D6E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5D76-4C07-4D77-8FBA-E10A4256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68762-30AF-45D1-9DDA-1FA5791E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B856-1DE3-4514-8B2A-E0422908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D9C0-33B2-42CB-A183-54F2AD20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ACFC-E27C-4005-AE39-B3AAAF285C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1CE8-32B6-4247-912B-D467E40F9F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989840" cy="37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Алкоголь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и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алкогольная зависимость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вышенная устойчивость к водке – первый признак начинающегося алкоголизм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61672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ьяному море по колено, а лужа по уш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rcRect l="2095" t="3065" r="2937" b="11495"/>
          <a:stretch/>
        </p:blipFill>
        <p:spPr>
          <a:xfrm>
            <a:off x="1187280" y="2565360"/>
            <a:ext cx="69850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редняя продолжительность жизни алкоголика не превышает обычно</a:t>
            </a:r>
            <a:br>
              <a:rPr sz="36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55 лет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з 100 самоубийц – половина алкоголик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2"/>
          <p:cNvPicPr/>
          <p:nvPr/>
        </p:nvPicPr>
        <p:blipFill>
          <a:blip r:embed="rId1"/>
          <a:stretch/>
        </p:blipFill>
        <p:spPr>
          <a:xfrm>
            <a:off x="2484360" y="3716280"/>
            <a:ext cx="410364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орт и спирт несовместимы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6" descr="1"/>
          <p:cNvPicPr/>
          <p:nvPr/>
        </p:nvPicPr>
        <p:blipFill>
          <a:blip r:embed="rId1"/>
          <a:stretch/>
        </p:blipFill>
        <p:spPr>
          <a:xfrm>
            <a:off x="3059280" y="1989000"/>
            <a:ext cx="2954160" cy="452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не наследуется, и борьба с ним зависит от воли и поведения пьющего человек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0872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Хмельное всегда протягивает нам руку, когда мы терпим неудачу, когда мы слабеем, когда мы утомлены, и указывает чрезвычайно легкий выход из создавшегося положения. Но обещания эти ложны: обманчив душевный подъем, физическая сила, которую оно обещает, призрачна; под влиянием хмельного мы теряем истинное представление о ценности вещей»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37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пьянства есть такие поводы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минки, праздник, встреча, проводы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стины, свадьбы и разв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Мороз, охота, Новый г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здоровленье, новоселье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ечаль, раскаянье, веселье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Успех, награда, новый чин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 просто пьянство – без причи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24836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тяжелая хроническая болезнь, в большинстве своем трудноизлечима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3"/>
          <p:cNvPicPr/>
          <p:nvPr/>
        </p:nvPicPr>
        <p:blipFill>
          <a:blip r:embed="rId1"/>
          <a:stretch/>
        </p:blipFill>
        <p:spPr>
          <a:xfrm>
            <a:off x="5292720" y="1197000"/>
            <a:ext cx="3249720" cy="471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алкоголика характерно огрубение личности, лживость, падение авторитета в семье и рабочем коллективе, психофизиологические изме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482616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развивается по такой схеме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начальн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критическ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хроническая фа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4" descr="badkitty"/>
          <p:cNvPicPr/>
          <p:nvPr/>
        </p:nvPicPr>
        <p:blipFill>
          <a:blip r:embed="rId1"/>
          <a:stretch/>
        </p:blipFill>
        <p:spPr>
          <a:xfrm>
            <a:off x="2340000" y="3500280"/>
            <a:ext cx="4680000" cy="281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8920" y="907920"/>
            <a:ext cx="3838680" cy="48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елая горячка – наиболее часто встречающийся алкогольный психоз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6173" r="1816" b="0"/>
          <a:stretch/>
        </p:blipFill>
        <p:spPr>
          <a:xfrm>
            <a:off x="755640" y="692280"/>
            <a:ext cx="3600360" cy="5478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ь, попадая в организм ребенка, быстро разносится кровью и концентрируется в мозг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Трудный период"/>
          <p:cNvPicPr/>
          <p:nvPr/>
        </p:nvPicPr>
        <p:blipFill>
          <a:blip r:embed="rId1"/>
          <a:stretch/>
        </p:blipFill>
        <p:spPr>
          <a:xfrm>
            <a:off x="2411280" y="2349360"/>
            <a:ext cx="4321440" cy="3965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ждое третье дорожно – транспортное происшествие совершается людьми в состоянии опья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4" descr="1329547but"/>
          <p:cNvPicPr/>
          <p:nvPr/>
        </p:nvPicPr>
        <p:blipFill>
          <a:blip r:embed="rId1"/>
          <a:srcRect l="4325" t="9024" r="7313" b="28016"/>
          <a:stretch/>
        </p:blipFill>
        <p:spPr>
          <a:xfrm>
            <a:off x="2195640" y="3141720"/>
            <a:ext cx="4248000" cy="2900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путь к преступлению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Человек должен отвечать за свои поступки, даже если он пья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0210"/>
          <p:cNvPicPr/>
          <p:nvPr/>
        </p:nvPicPr>
        <p:blipFill>
          <a:blip r:embed="rId1"/>
          <a:stretch/>
        </p:blipFill>
        <p:spPr>
          <a:xfrm>
            <a:off x="2050920" y="2144880"/>
            <a:ext cx="496908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4:34:22Z</dcterms:created>
  <dc:creator>Gane</dc:creator>
  <dc:description/>
  <dc:language>en-US</dc:language>
  <cp:lastModifiedBy>Admin</cp:lastModifiedBy>
  <dcterms:modified xsi:type="dcterms:W3CDTF">2012-11-20T11:36:19Z</dcterms:modified>
  <cp:revision>6</cp:revision>
  <dc:subject/>
  <dc:title>Слайд 1</dc:title>
</cp:coreProperties>
</file>