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AC9F-F513-4FBF-B756-D8E01E8B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A091-E903-4444-9DF9-1C773B12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4FD7-AC01-4243-A922-1AB3D813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55C2-E25D-48D4-BD5D-D4C50F4D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989B-006D-4558-8061-552B31C3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7B54-93E8-49EA-A010-49B29A96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B216-6EE9-413E-8249-64AC1709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826D-70DE-42A2-A094-930F8F6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BAAA-D957-4BB3-87C0-8322D5AD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904E-5DAE-453C-A2FC-14724BA8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1362-5568-44E0-AF19-28EC51AD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5558-983F-46E8-ADC1-418D51C0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CE7F-9B6A-4AE4-BC9A-59183965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6A82-80C2-4B3F-B443-16E93345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99A6-3002-467C-81F8-C6EF4B86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01F7-84E8-4919-BA8C-49D9B2CE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6ED-AF7B-4BD9-8671-D72DA4EB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7114-38B7-4DA9-887C-FF320D7F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8F49-7E2B-4A38-BCDA-5417F05C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49E6-0C57-4835-8635-D1A76365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D89C-8A3F-4B8A-A717-6D93C4F4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5A28-1B52-4796-8081-079956BF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AE6D-6DF7-49D0-8D59-6CD3549B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0AC3-FB17-4E26-8DD2-FCFBA97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9A23-E595-4C6A-8595-D5E1F1C58E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9B1-93E3-4E40-853D-238FCE3234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989840" cy="37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Алкоголь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и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алкогольная зависим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вышенная устойчивость к водке – первый признак начинающегося алкоголизм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61672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ьяному море по колено, а лужа по уш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2095" t="3065" r="2937" b="11495"/>
          <a:stretch/>
        </p:blipFill>
        <p:spPr>
          <a:xfrm>
            <a:off x="1187280" y="256536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редняя продолжительность жизни алкоголика не превышает обычно</a:t>
            </a:r>
            <a:br>
              <a:rPr sz="36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55 лет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100 самоубийц – половина алкогол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2"/>
          <p:cNvPicPr/>
          <p:nvPr/>
        </p:nvPicPr>
        <p:blipFill>
          <a:blip r:embed="rId1"/>
          <a:stretch/>
        </p:blipFill>
        <p:spPr>
          <a:xfrm>
            <a:off x="2484360" y="3716280"/>
            <a:ext cx="41036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орт и спирт несовместимы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6" descr="1"/>
          <p:cNvPicPr/>
          <p:nvPr/>
        </p:nvPicPr>
        <p:blipFill>
          <a:blip r:embed="rId1"/>
          <a:stretch/>
        </p:blipFill>
        <p:spPr>
          <a:xfrm>
            <a:off x="3059280" y="1989000"/>
            <a:ext cx="29541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не наследуется, и борьба с ним зависит от воли и поведения пьющего человек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Хмельное всегда протягивает нам руку, когда мы терпим неудачу, когда мы слабеем, когда мы утомлены, и указывает чрезвычайно легкий выход из создавшегося положения. Но обещания эти ложны: обманчив душевный подъем, физическая сила, которую оно обещает, призрачна; под влиянием хмельного мы теряем истинное представление о ценности вещей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пьянства есть такие поводы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минки, праздник, встреча, проводы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стины, свадьбы и разв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ороз, охота, Новый г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здоровленье, новоселье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ечаль, раскаянье, веселье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спех, награда, новый чин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 просто пьянство – без причи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248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тяжелая хроническая болезнь, в большинстве своем трудноизлечима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3"/>
          <p:cNvPicPr/>
          <p:nvPr/>
        </p:nvPicPr>
        <p:blipFill>
          <a:blip r:embed="rId1"/>
          <a:stretch/>
        </p:blipFill>
        <p:spPr>
          <a:xfrm>
            <a:off x="5292720" y="1197000"/>
            <a:ext cx="3249720" cy="471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алкоголика характерно огрубение личности, лживость, падение авторитета в семье и рабочем коллективе, психофизиологические изме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8261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развивается по такой схеме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начальн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критическ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хроническая ф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badkitty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8920" y="907920"/>
            <a:ext cx="3838680" cy="48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елая горячка – наиболее часто встречающийся алкогольный психоз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6173" r="1816" b="0"/>
          <a:stretch/>
        </p:blipFill>
        <p:spPr>
          <a:xfrm>
            <a:off x="755640" y="692280"/>
            <a:ext cx="3600360" cy="5478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ь, попадая в организм ребенка, быстро разносится кровью и концентрируется в мозг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Трудный период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396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ждое третье дорожно – транспортное происшествие совершается людьми в состоянии опья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1329547but"/>
          <p:cNvPicPr/>
          <p:nvPr/>
        </p:nvPicPr>
        <p:blipFill>
          <a:blip r:embed="rId1"/>
          <a:srcRect l="4325" t="9024" r="7313" b="28016"/>
          <a:stretch/>
        </p:blipFill>
        <p:spPr>
          <a:xfrm>
            <a:off x="2195640" y="3141720"/>
            <a:ext cx="424800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путь к преступлению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Человек должен отвечать за свои поступки, даже если он пья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0210"/>
          <p:cNvPicPr/>
          <p:nvPr/>
        </p:nvPicPr>
        <p:blipFill>
          <a:blip r:embed="rId1"/>
          <a:stretch/>
        </p:blipFill>
        <p:spPr>
          <a:xfrm>
            <a:off x="2050920" y="2144880"/>
            <a:ext cx="496908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34:22Z</dcterms:created>
  <dc:creator>Gane</dc:creator>
  <dc:description/>
  <dc:language>en-US</dc:language>
  <cp:lastModifiedBy>Admin</cp:lastModifiedBy>
  <dcterms:modified xsi:type="dcterms:W3CDTF">2012-11-20T11:36:19Z</dcterms:modified>
  <cp:revision>6</cp:revision>
  <dc:subject/>
  <dc:title>Слайд 1</dc:title>
</cp:coreProperties>
</file>