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7AA-5B6A-4795-BDC1-244E81E4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D65-C6D0-4892-81FB-5F5F315B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FA6-48AE-4D24-9ABF-2ABCA889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C16-E475-48CD-9CE2-CE8CB970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7E53-C803-4F75-A9B9-3F139395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F414-2572-415B-BD70-92AD1C68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D481-1E62-459A-8C14-01D735CE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69BF-1763-4E11-B36D-E7B142EC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5BC2-B3F7-49E4-9A68-292D2B45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DA4A-9CDF-4B8D-9EAF-3629184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3FC1-39FD-420D-A766-35614B26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5B0-D1A0-4C69-A04B-2E790B57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2369-00F5-475A-B61F-FCD8018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1D4B-E494-4A2E-B596-EE55C7C1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41C2-EEA9-4C56-A7FF-DA64CAF4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A776-8371-4121-B4E1-8852DEFD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D2F3-625D-4C25-AECA-663447AA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8FB-2524-4182-B0F2-2F09B54E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15A-7CFD-4992-B2E7-E4245F53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E42-F77C-433E-879B-6CDA2671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4E3-FC17-4620-B555-E0BD1F0C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923-ECF8-43F7-B7D9-FF0C5CF4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FA3-3EAC-4D0A-AD91-65EBEA15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238-1228-4E4A-8323-2D8903FC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9458-8EF1-4112-BB04-321D6F990F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46BC-6E10-44ED-8526-4787565218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1417680"/>
            <a:ext cx="7274160" cy="5319720"/>
          </a:xfrm>
          <a:prstGeom prst="rect">
            <a:avLst/>
          </a:prstGeom>
          <a:ln w="57240">
            <a:solidFill>
              <a:srgbClr val="b9efee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7080" cy="148428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скучать, найти себе занятие по душ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знавать мир и интересных люд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507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09588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9640" y="422280"/>
            <a:ext cx="8183520" cy="613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920" y="2349360"/>
            <a:ext cx="66978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ем спасибо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111880" cy="1930320"/>
          </a:xfrm>
          <a:prstGeom prst="rect">
            <a:avLst/>
          </a:prstGeom>
          <a:solidFill>
            <a:srgbClr val="b9efee"/>
          </a:solidFill>
          <a:ln w="5724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 Тот, кто может победить другого – силён, тот, кто побеждает самого себя – воистину могуществен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Лао-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А вот и портрет чудовища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0" y="1413000"/>
            <a:ext cx="5219640" cy="2333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3933360"/>
            <a:ext cx="4475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аркомания     Алкого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оксикомания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6720" y="4365720"/>
            <a:ext cx="182880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564000" y="1700280"/>
            <a:ext cx="1587600" cy="208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00720" y="2060640"/>
            <a:ext cx="14986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588000" y="4365720"/>
            <a:ext cx="1406520" cy="2492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96720" y="1628640"/>
            <a:ext cx="155916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796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796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704880"/>
          </a:xfrm>
          <a:prstGeom prst="rect">
            <a:avLst/>
          </a:prstGeom>
          <a:solidFill>
            <a:srgbClr val="b9efee"/>
          </a:solidFill>
          <a:ln w="57240">
            <a:solidFill>
              <a:srgbClr val="33cc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окси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Это не просто вредные, но и очень опасны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чки. «Мания» - это психическая болезнь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когда человек постоянно думает о чем-то одн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Токсикоман постоянно думает о яде. «Токсикомания» с латыни так и переводится как «мания к яду» (токсин -значит яд). Эти яды попадают в организм человека при вдыхании ядовитых паров и вызывают сильные отравления. Очень быстро появляется привыка­ние, наступают изменения в психике, но главное - разрушается здоровье человека, так как яды постепенно накапливаются в организм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773360" cy="237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Наркотики - отрава еще более серьезная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она рассчитана на простаков, которы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кнув к ним, не смогут без них  жи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И станут платить большие деньги, чтобы поскорее умереть. Наркотики нюхают, курят, вкалывают, принимают в виде таблеток. Они моментально попадают в кровь. Наркомания действует своими ядами сильно и быстро -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буквально с первого раза человек может стать наркоманом!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У человека появляются галлюцинации, кошмары. Наркоман ради наркотиков готов пойти на любое преступление. У наркоманов три пути: тюрьма, психбольница, смер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92920" y="907920"/>
            <a:ext cx="195588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632720" cy="63180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Алкогол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Еще одна вредная привычка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ьянство. Пьянство очень быстр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ерерастает в манию - алкоголизм. Алкоголь - самый распространенный наркотик, ежегодно убивающий сотни людей. Это тоже яд, он нарушает работу всех внутренних органов. Пьяный человек -зрелище отталкивающее. Но алкоголику безразлично мнение окружающих, он теряет че­ловеческий облик и становится рабом своей вредной привычки. От алкоголизма страдают не только сами пьяницы, но и близкие им люди: матери, жены, дети. Огромное количество преступлений совершается на почве пьянства, разрушается много семей,  ломаются судь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66364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Курение - это зависимость от наркоти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имя которому никотин. По своей ядовит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никотин равен синильной кислоте – смертельном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у. Ученые подсчитали, что курильщик сокращае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вою жизнь на 6 лет. Все органы человеческого тел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традают от табака. В табаке содержится 120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овитых веществ. Научно доказано, что курение вызывает 25 заболеваний. У курильщиков плохая память, плохое физическое здоровье, неустойчивая психика, они медленно думают, плохо слышат. Даже внешне курильщики отличаются от некурящих: у них быстрее вянет кожа, сипнет голос, желтеют зубы. От курения страдают некурящие. Половина вредных веществ, которые есть в сигарете, курильщик выдыхает, отравляя воздух. Этим воздухом вынуждены дышать окружающие, которые становятся пас­сивными курильщик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023920" cy="266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61080" cy="72072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Игромания. Эта вредная привыч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ачинается безобид­но - игровые автоматы, компьютерные игры, карты, рулетка. 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ожет закончиться разрушением психики, преступлением, даже самоубийством. Игромания не щадит ни детей, ни взрослых. Даже благоразумные старушки становятся игроманками и заканчивают свою жизнь в голоде и нищ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665360" cy="295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егодня нередко можно встретить лю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ей, которые уже не ругаются, а разго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варивают матом. А между тем эта вред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ивычка - сквернословие - очень опас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ля здоровья человека. Причем вредно 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олько говорить, но и слушать матерные сл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Ученые провели такой эксперимент: возле семян  растения арабидопсис они долгое время произносили матерные слова. В результате почти все растения погибли, а те, которые выжили, стали генетическими уродами. Влияние матерных слов ученые сравнили с радиоактивным об- лучением в тысячи рентген. Ученые установили, что матерные с лона поражают гены человека, уничтожая его детей и внуков. То есть мат - это программа самоликвидации всего потомства этого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71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35:47Z</dcterms:created>
  <dc:creator>user</dc:creator>
  <dc:description/>
  <dc:language>en-US</dc:language>
  <cp:lastModifiedBy>user</cp:lastModifiedBy>
  <dcterms:modified xsi:type="dcterms:W3CDTF">2008-11-30T18:36:35Z</dcterms:modified>
  <cp:revision>2</cp:revision>
  <dc:subject/>
  <dc:title>Как победить дракона или удержаться от вредной привычки!</dc:title>
</cp:coreProperties>
</file>