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13D7E-DA3A-4856-8CC6-6187B70E3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ED44A-49B9-4421-8CED-A408F5A0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6CFF5-3A21-4CA4-9D23-D620DFC99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F5D46-0129-4B2D-B698-0CF8862AC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D611-5ED1-428A-9D01-30C9A17C5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C667-E656-4E76-9B5A-F2FF7345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DC541-F579-463B-B7A9-C9EE0DD0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D8C6-57FA-4BD3-A63B-6630ACDC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FE9B-B0FD-4416-97F4-02EBE020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42408-F102-422F-988A-F6F03A89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2D8F-FC5D-4239-94E4-96AFD0A3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A8D58-9928-4157-BCAE-34A7B71B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DBCD-FDE3-454C-8FEE-8F9B7C7F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4E27-9481-4002-9851-26053557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11EB-527B-4684-BA65-49336850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EC7EC-0AFF-4D70-94B3-2B3CCBDC7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4C71-6985-404C-8BA6-D4963E982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B25E8-0105-4B3B-9A1F-C93C869B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2B203-0395-484F-BDF1-B238500A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491BB-8809-4113-84B3-4E03D554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60DA1-5E5B-458E-A117-B4065235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08750-D270-4871-B384-66BC65F5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0B228-B0E4-4379-8D21-A0ABAF62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0BA4C-5990-4F7C-B352-DD6BBE44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9344-7D6E-40F4-8732-CB656925406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47A0-6D58-4F9D-82D6-DF0A2D46377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989840" cy="37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Garamond"/>
              </a:rPr>
              <a:t>Алкоголь</a:t>
            </a:r>
            <a:br>
              <a:rPr sz="7200"/>
            </a:br>
            <a:r>
              <a:rPr b="1" lang="ru-RU" sz="7200" spc="-1" strike="noStrike">
                <a:solidFill>
                  <a:srgbClr val="ff3300"/>
                </a:solidFill>
                <a:latin typeface="Garamond"/>
              </a:rPr>
              <a:t> и</a:t>
            </a:r>
            <a:br>
              <a:rPr sz="7200"/>
            </a:br>
            <a:r>
              <a:rPr b="1" lang="ru-RU" sz="7200" spc="-1" strike="noStrike">
                <a:solidFill>
                  <a:srgbClr val="ff3300"/>
                </a:solidFill>
                <a:latin typeface="Garamond"/>
              </a:rPr>
              <a:t> алкогольная зависимость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Повышенная устойчивость к водке – первый признак начинающегося алкоголизма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1619280" y="2781360"/>
            <a:ext cx="5616720" cy="3273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ьяному море по колено, а лужа по уши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rcRect l="2095" t="3065" r="2937" b="11495"/>
          <a:stretch/>
        </p:blipFill>
        <p:spPr>
          <a:xfrm>
            <a:off x="1187280" y="2565360"/>
            <a:ext cx="6985080" cy="345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Средняя продолжительность жизни алкоголика не превышает обычно</a:t>
            </a:r>
            <a:br>
              <a:rPr sz="36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55 лет.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Из 100 самоубийц – половина алкоголики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1" name="Picture 4" descr="2"/>
          <p:cNvPicPr/>
          <p:nvPr/>
        </p:nvPicPr>
        <p:blipFill>
          <a:blip r:embed="rId1"/>
          <a:stretch/>
        </p:blipFill>
        <p:spPr>
          <a:xfrm>
            <a:off x="2484360" y="3716280"/>
            <a:ext cx="4103640" cy="2206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порт и спирт несовместимы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3" name="Picture 6" descr="1"/>
          <p:cNvPicPr/>
          <p:nvPr/>
        </p:nvPicPr>
        <p:blipFill>
          <a:blip r:embed="rId1"/>
          <a:stretch/>
        </p:blipFill>
        <p:spPr>
          <a:xfrm>
            <a:off x="3059280" y="1989000"/>
            <a:ext cx="2954160" cy="4526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Алкоголизм не наследуется, и борьба с ним зависит от воли и поведения пьющего человека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1332000" y="2421000"/>
            <a:ext cx="6408720" cy="4105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«Хмельное всегда протягивает нам руку, когда мы терпим неудачу, когда мы слабеем, когда мы утомлены, и указывает чрезвычайно легкий выход из создавшегося положения. Но обещания эти ложны: обманчив душевный подъем, физическая сила, которую оно обещает, призрачна; под влиянием хмельного мы теряем истинное представление о ценности вещей»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Джек Лондон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424720" cy="374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Для пьянства есть такие поводы: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Поминки, праздник, встреча, проводы,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Крестины, свадьбы и развод,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Мороз, охота, Новый год,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Выздоровленье, новоселье,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Печаль, раскаянье, веселье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Успех, награда, новый чин,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И просто пьянство – без причин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1268280"/>
            <a:ext cx="4248360" cy="41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Алкоголизм – тяжелая хроническая болезнь, в большинстве своем трудноизлечимая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3" name="Picture 4" descr="3"/>
          <p:cNvPicPr/>
          <p:nvPr/>
        </p:nvPicPr>
        <p:blipFill>
          <a:blip r:embed="rId1"/>
          <a:stretch/>
        </p:blipFill>
        <p:spPr>
          <a:xfrm>
            <a:off x="5292720" y="1197000"/>
            <a:ext cx="3249720" cy="4713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Для алкоголика характерно огрубение личности, лживость, падение авторитета в семье и рабочем коллективе, психофизиологические изменения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2050920" y="3573360"/>
            <a:ext cx="4826160" cy="3024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Алкоголизм развивается по такой схеме: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- начальная фаза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- критическая фаза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- хроническая фаз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7" name="Picture 4" descr="badkitty"/>
          <p:cNvPicPr/>
          <p:nvPr/>
        </p:nvPicPr>
        <p:blipFill>
          <a:blip r:embed="rId1"/>
          <a:stretch/>
        </p:blipFill>
        <p:spPr>
          <a:xfrm>
            <a:off x="2340000" y="3500280"/>
            <a:ext cx="4680000" cy="2816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58920" y="907920"/>
            <a:ext cx="3838680" cy="482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Белая горячка – наиболее часто встречающийся алкогольный психоз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rcRect l="0" t="6173" r="1816" b="0"/>
          <a:stretch/>
        </p:blipFill>
        <p:spPr>
          <a:xfrm>
            <a:off x="755640" y="692280"/>
            <a:ext cx="3600360" cy="5478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Алкоголь, попадая в организм ребенка, быстро разносится кровью и концентрируется в мозгу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1" name="Picture 4" descr="Трудный период"/>
          <p:cNvPicPr/>
          <p:nvPr/>
        </p:nvPicPr>
        <p:blipFill>
          <a:blip r:embed="rId1"/>
          <a:stretch/>
        </p:blipFill>
        <p:spPr>
          <a:xfrm>
            <a:off x="2411280" y="2349360"/>
            <a:ext cx="4321440" cy="3965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Каждое третье дорожно – транспортное происшествие совершается людьми в состоянии опьянения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Picture 4" descr="1329547but"/>
          <p:cNvPicPr/>
          <p:nvPr/>
        </p:nvPicPr>
        <p:blipFill>
          <a:blip r:embed="rId1"/>
          <a:srcRect l="4325" t="9024" r="7313" b="28016"/>
          <a:stretch/>
        </p:blipFill>
        <p:spPr>
          <a:xfrm>
            <a:off x="2195640" y="3141720"/>
            <a:ext cx="4248000" cy="2900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Алкоголизм – путь к преступлению.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Человек должен отвечать за свои поступки, даже если он пьян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5" name="Picture 4" descr="0210"/>
          <p:cNvPicPr/>
          <p:nvPr/>
        </p:nvPicPr>
        <p:blipFill>
          <a:blip r:embed="rId1"/>
          <a:stretch/>
        </p:blipFill>
        <p:spPr>
          <a:xfrm>
            <a:off x="2050920" y="2144880"/>
            <a:ext cx="4969080" cy="4410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4:34:22Z</dcterms:created>
  <dc:creator>Gane</dc:creator>
  <dc:description/>
  <dc:language>en-US</dc:language>
  <cp:lastModifiedBy>Admin</cp:lastModifiedBy>
  <dcterms:modified xsi:type="dcterms:W3CDTF">2012-11-20T11:36:19Z</dcterms:modified>
  <cp:revision>6</cp:revision>
  <dc:subject/>
  <dc:title>Слайд 1</dc:title>
</cp:coreProperties>
</file>