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299B-002C-49F2-AA08-B1FA7C317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1FFDF-3544-431E-B05A-0F521F92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122F3-0CE2-4440-9261-39747114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21D5-1122-489C-8435-2BB50AFE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8D0E-1876-4291-AEE3-4BFF16E5C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35B1-DE08-48AE-B5A8-A8816E96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31B-1BCF-44BA-917E-09BF0341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3DCB9-00A7-4132-BB31-346312B4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F77C-B080-4254-AE1A-01B447B1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03C5-0E52-423C-9EF6-E4CC6D8D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0583-75EB-41F3-8BDC-DB2FE74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6C05-3F34-42CD-BC54-B7EBBF35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1509-0AB6-4731-B474-B88AE425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A778-A692-4AFC-B496-4504A25F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F2EA-A081-40DA-BD34-D523DD48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633A-8CFE-401A-BEE3-D44E6F0A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7458-C559-4D3F-B9CA-1BE59072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BDB27-CB0F-4579-BDC8-F9DEAFF5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4CCA3-DD6D-4896-B253-B64BE8AC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40557-EE57-40B9-99AF-6B17B397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9E0B-BE6E-4822-9EA2-31B398AC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B2D85-D79C-49D9-A857-B783DD1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0A81-2BD0-4AA9-8485-8D075C5A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B360-CA0B-41CB-A40A-DF84A4DC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6D98-9702-498A-9C5A-C3D363D399F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877-693F-4984-B0F0-81FAF1B135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989840" cy="37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Алкоголь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и</a:t>
            </a:r>
            <a:br>
              <a:rPr sz="7200"/>
            </a:br>
            <a:r>
              <a:rPr b="1" lang="ru-RU" sz="7200" spc="-1" strike="noStrike">
                <a:solidFill>
                  <a:srgbClr val="ff3300"/>
                </a:solidFill>
                <a:latin typeface="Garamond"/>
              </a:rPr>
              <a:t> алкогольная зависимость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вышенная устойчивость к водке – первый признак начинающегося алкоголизм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616720" cy="3273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ьяному море по колено, а лужа по уш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rcRect l="2095" t="3065" r="2937" b="11495"/>
          <a:stretch/>
        </p:blipFill>
        <p:spPr>
          <a:xfrm>
            <a:off x="1187280" y="2565360"/>
            <a:ext cx="69850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Средняя продолжительность жизни алкоголика не превышает обычно</a:t>
            </a:r>
            <a:br>
              <a:rPr sz="36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55 лет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з 100 самоубийц – половина алкоголики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2"/>
          <p:cNvPicPr/>
          <p:nvPr/>
        </p:nvPicPr>
        <p:blipFill>
          <a:blip r:embed="rId1"/>
          <a:stretch/>
        </p:blipFill>
        <p:spPr>
          <a:xfrm>
            <a:off x="2484360" y="3716280"/>
            <a:ext cx="4103640" cy="2206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порт и спирт несовместимы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Picture 6" descr="1"/>
          <p:cNvPicPr/>
          <p:nvPr/>
        </p:nvPicPr>
        <p:blipFill>
          <a:blip r:embed="rId1"/>
          <a:stretch/>
        </p:blipFill>
        <p:spPr>
          <a:xfrm>
            <a:off x="3059280" y="1989000"/>
            <a:ext cx="2954160" cy="452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не наследуется, и борьба с ним зависит от воли и поведения пьющего человека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408720" cy="4105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«Хмельное всегда протягивает нам руку, когда мы терпим неудачу, когда мы слабеем, когда мы утомлены, и указывает чрезвычайно легкий выход из создавшегося положения. Но обещания эти ложны: обманчив душевный подъем, физическая сила, которую оно обещает, призрачна; под влиянием хмельного мы теряем истинное представление о ценности вещей»</a:t>
            </a:r>
            <a:br>
              <a:rPr sz="3200"/>
            </a:b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Джек Лондон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424720" cy="37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пьянства есть такие поводы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оминки, праздник, встреча, проводы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рестины, свадьбы и разв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Мороз, охота, Новый год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ыздоровленье, новоселье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ечаль, раскаянье, веселье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Успех, награда, новый чин,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И просто пьянство – без причи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1268280"/>
            <a:ext cx="424836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тяжелая хроническая болезнь, в большинстве своем трудноизлечима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3"/>
          <p:cNvPicPr/>
          <p:nvPr/>
        </p:nvPicPr>
        <p:blipFill>
          <a:blip r:embed="rId1"/>
          <a:stretch/>
        </p:blipFill>
        <p:spPr>
          <a:xfrm>
            <a:off x="5292720" y="1197000"/>
            <a:ext cx="3249720" cy="4713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Для алкоголика характерно огрубение личности, лживость, падение авторитета в семье и рабочем коллективе, психофизиологические изме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0920" y="3573360"/>
            <a:ext cx="4826160" cy="302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развивается по такой схеме: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начальн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критическая фаза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- хроническая фаз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4" descr="badkitty"/>
          <p:cNvPicPr/>
          <p:nvPr/>
        </p:nvPicPr>
        <p:blipFill>
          <a:blip r:embed="rId1"/>
          <a:stretch/>
        </p:blipFill>
        <p:spPr>
          <a:xfrm>
            <a:off x="2340000" y="3500280"/>
            <a:ext cx="4680000" cy="281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58920" y="907920"/>
            <a:ext cx="3838680" cy="482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Белая горячка – наиболее часто встречающийся алкогольный психоз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0" t="6173" r="1816" b="0"/>
          <a:stretch/>
        </p:blipFill>
        <p:spPr>
          <a:xfrm>
            <a:off x="755640" y="692280"/>
            <a:ext cx="3600360" cy="5478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ь, попадая в организм ребенка, быстро разносится кровью и концентрируется в мозг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4" descr="Трудный период"/>
          <p:cNvPicPr/>
          <p:nvPr/>
        </p:nvPicPr>
        <p:blipFill>
          <a:blip r:embed="rId1"/>
          <a:stretch/>
        </p:blipFill>
        <p:spPr>
          <a:xfrm>
            <a:off x="2411280" y="2349360"/>
            <a:ext cx="4321440" cy="39657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Каждое третье дорожно – транспортное происшествие совершается людьми в состоянии опьянения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4" descr="1329547but"/>
          <p:cNvPicPr/>
          <p:nvPr/>
        </p:nvPicPr>
        <p:blipFill>
          <a:blip r:embed="rId1"/>
          <a:srcRect l="4325" t="9024" r="7313" b="28016"/>
          <a:stretch/>
        </p:blipFill>
        <p:spPr>
          <a:xfrm>
            <a:off x="2195640" y="3141720"/>
            <a:ext cx="4248000" cy="290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Алкоголизм – путь к преступлению.</a:t>
            </a:r>
            <a:br>
              <a:rPr sz="3600"/>
            </a:b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Человек должен отвечать за свои поступки, даже если он пьян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Picture 4" descr="0210"/>
          <p:cNvPicPr/>
          <p:nvPr/>
        </p:nvPicPr>
        <p:blipFill>
          <a:blip r:embed="rId1"/>
          <a:stretch/>
        </p:blipFill>
        <p:spPr>
          <a:xfrm>
            <a:off x="2050920" y="2144880"/>
            <a:ext cx="4969080" cy="4410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4:34:22Z</dcterms:created>
  <dc:creator>Gane</dc:creator>
  <dc:description/>
  <dc:language>en-US</dc:language>
  <cp:lastModifiedBy>Admin</cp:lastModifiedBy>
  <dcterms:modified xsi:type="dcterms:W3CDTF">2012-11-20T11:36:19Z</dcterms:modified>
  <cp:revision>6</cp:revision>
  <dc:subject/>
  <dc:title>Слайд 1</dc:title>
</cp:coreProperties>
</file>