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ECC4-4C7D-4B23-A745-5ED27D54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61CC-ACE0-4F65-934C-55371B2E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220F-7902-452C-906A-7421CF8A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7F6A-9010-4983-B4BB-AE7FA792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C877-2BF6-423A-8743-4EBA21AE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E993-4ADD-4C8E-974D-EEDE61C9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5ACC-E346-497C-B809-0EEB1147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4717-688E-4992-B9A1-6368AD10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C36E-211B-4DF3-A536-A7C252E5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8176-6B14-41F1-8279-E9D8D9D1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6282-5F27-4797-940A-6AFD1AB0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6606-A4FF-4F8D-BFB6-1678336D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3108-CCBC-4E17-94C1-9E16D91B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87A9C-7B23-4435-BF69-F331AD23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9470-27BB-40B1-8119-354AD222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7EDF-531E-4AA1-B9C0-77068A026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00D3-93B1-4071-8388-AAF7AAB0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99D4-B645-4B2A-9D33-10DFE992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63A5-02F9-4CF8-96B1-167C9DDB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8D24-8A35-4ED0-8D73-246FD984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DE1-F951-450C-A725-2AD0B8AA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A13-DCCB-44C0-BBDD-C0DE90E8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4C4-56DC-4D95-9DED-0E963CAC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9D66-14E5-4D48-BF8B-836F0BAB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51D4-1C51-4230-8953-E9F07D41CC7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EA43-1BF6-4687-BAC4-2D806E75D45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Comic Sans MS"/>
              </a:rPr>
              <a:t>Как победить дракона или удержаться от вредной привычки!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42920" y="1417680"/>
            <a:ext cx="7274160" cy="5319720"/>
          </a:xfrm>
          <a:prstGeom prst="rect">
            <a:avLst/>
          </a:prstGeom>
          <a:ln w="57240">
            <a:solidFill>
              <a:srgbClr val="b9efee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417080" cy="1484280"/>
          </a:xfrm>
          <a:prstGeom prst="rect">
            <a:avLst/>
          </a:prstGeom>
          <a:solidFill>
            <a:srgbClr val="b9efee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6600"/>
                </a:solidFill>
                <a:latin typeface="Comic Sans MS"/>
              </a:rPr>
              <a:t>Чтобы не стать рабом вредных привычек, нужно выполнять три правила:</a:t>
            </a:r>
            <a:br>
              <a:rPr sz="40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 скучать, найти себе занятие по душ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знавать мир и интересных люде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и в коем случае не пробовать спиртное и наркоти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у, а если вы все же попали в плен какой-то вредной привычке, старайтесь избавиться от нее изо всех сил. И если вам это удастся, вы - настоящий герой. Как сказал древний китайский мудрец Лао-То: «Тот, кто может победить другого, - силен, тот, кто побеждает самого себя, - воистину могуществен»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5075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6095880" cy="457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39640" y="422280"/>
            <a:ext cx="8183520" cy="6137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77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770" fill="hold"/>
                                        <p:tgtEl>
                                          <p:spTgt spid="1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77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42920" y="2349360"/>
            <a:ext cx="669780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сем спасибо!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111880" cy="1930320"/>
          </a:xfrm>
          <a:prstGeom prst="rect">
            <a:avLst/>
          </a:prstGeom>
          <a:solidFill>
            <a:srgbClr val="b9efee"/>
          </a:solidFill>
          <a:ln w="57240">
            <a:solidFill>
              <a:srgbClr val="00ff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Comic Sans MS"/>
              </a:rPr>
              <a:t>Как победить дракона или удержаться от вредной привычки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« Тот, кто может победить другого – силён, тот, кто побеждает самого себя – воистину могуществен»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Лао-Т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А вот и портрет чудовища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360" y="1413000"/>
            <a:ext cx="5219640" cy="23335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4648320" y="1599840"/>
            <a:ext cx="403848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Сквернослов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000" y="3933360"/>
            <a:ext cx="4475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Наркомания     Алкогол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3924360"/>
            <a:ext cx="40384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Игром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Токсикомания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Кур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96720" y="4365720"/>
            <a:ext cx="1828800" cy="20876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564000" y="1700280"/>
            <a:ext cx="1587600" cy="2089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2556000" y="4437000"/>
            <a:ext cx="2736720" cy="1819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00720" y="2060640"/>
            <a:ext cx="1498680" cy="1944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6588000" y="4365720"/>
            <a:ext cx="1406520" cy="2492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396720" y="1628640"/>
            <a:ext cx="1559160" cy="2087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796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796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274680"/>
            <a:ext cx="7632720" cy="704880"/>
          </a:xfrm>
          <a:prstGeom prst="rect">
            <a:avLst/>
          </a:prstGeom>
          <a:solidFill>
            <a:srgbClr val="b9efee"/>
          </a:solidFill>
          <a:ln w="57240">
            <a:solidFill>
              <a:srgbClr val="33cc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38160">
            <a:solidFill>
              <a:srgbClr val="00ff99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Токсиком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Это не просто вредные, но и очень опасны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ривычки. «Мания» - это психическая болезнь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когда человек постоянно думает о чем-то одно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Токсикоман постоянно думает о яде. «Токсикомания» с латыни так и переводится как «мания к яду» (токсин -значит яд). Эти яды попадают в организм человека при вдыхании ядовитых паров и вызывают сильные отравления. Очень быстро появляется привыка­ние, наступают изменения в психике, но главное - разрушается здоровье человека, так как яды постепенно накапливаются в организм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164360" y="907920"/>
            <a:ext cx="1773360" cy="2374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b9efee"/>
          </a:solidFill>
          <a:ln w="38160">
            <a:solidFill>
              <a:srgbClr val="00ff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Нарком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Наркотики - отрава еще более серьезная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она рассчитана на простаков, которые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ривыкнув к ним, не смогут без них  жи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И станут платить большие деньги, чтобы поскорее умереть. Наркотики нюхают, курят, вкалывают, принимают в виде таблеток. Они моментально попадают в кровь. Наркомания действует своими ядами сильно и быстро -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буквально с первого раза человек может стать наркоманом!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 У человека появляются галлюцинации, кошмары. Наркоман ради наркотиков готов пойти на любое преступление. У наркоманов три пути: тюрьма, психбольница, смер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92920" y="907920"/>
            <a:ext cx="1955880" cy="223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7632720" cy="631800"/>
          </a:xfrm>
          <a:prstGeom prst="rect">
            <a:avLst/>
          </a:prstGeom>
          <a:solidFill>
            <a:srgbClr val="b9efee"/>
          </a:solidFill>
          <a:ln w="38160">
            <a:solidFill>
              <a:srgbClr val="00ff99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Алкоголиз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Еще одна вредная привычка –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ьянство. Пьянство очень быстр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перерастает в манию - алкоголизм. Алкоголь - самый распространенный наркотик, ежегодно убивающий сотни людей. Это тоже яд, он нарушает работу всех внутренних органов. Пьяный человек -зрелище отталкивающее. Но алкоголику безразлично мнение окружающих, он теряет че­ловеческий облик и становится рабом своей вредной привычки. От алкоголизма страдают не только сами пьяницы, но и близкие им люди: матери, жены, дети. Огромное количество преступлений совершается на почве пьянства, разрушается много семей,  ломаются судьб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156360" y="836640"/>
            <a:ext cx="2663640" cy="177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Кур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Курение - это зависимость от наркотик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имя которому никотин. По своей ядовитости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никотин равен синильной кислоте – смертельному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яду. Ученые подсчитали, что курильщик сокращае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свою жизнь на 6 лет. Все органы человеческого тел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страдают от табака. В табаке содержится 1200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ядовитых веществ. Научно доказано, что курение вызывает 25 заболеваний. У курильщиков плохая память, плохое физическое здоровье, неустойчивая психика, они медленно думают, плохо слышат. Даже внешне курильщики отличаются от некурящих: у них быстрее вянет кожа, сипнет голос, желтеют зубы. От курения страдают некурящие. Половина вредных веществ, которые есть в сигарете, курильщик выдыхает, отравляя воздух. Этим воздухом вынуждены дышать окружающие, которые становятся пас­сивными курильщик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023920" cy="2663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561080" cy="720720"/>
          </a:xfrm>
          <a:prstGeom prst="rect">
            <a:avLst/>
          </a:prstGeom>
          <a:solidFill>
            <a:srgbClr val="b9efee"/>
          </a:solidFill>
          <a:ln w="38160">
            <a:solidFill>
              <a:srgbClr val="ffffff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Врачи – о вредных привычках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Игром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Игромания. Эта вредная привыч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начинается безобид­но - игровые автоматы, компьютерные игры, карты, рулетка. 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может закончиться разрушением психики, преступлением, даже самоубийством. Игромания не щадит ни детей, ни взрослых. Даже благоразумные старушки становятся игроманками и заканчивают свою жизнь в голоде и нищет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164360" y="765000"/>
            <a:ext cx="1665360" cy="2951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квернослов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Сегодня нередко можно встретить лю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дей, которые уже не ругаются, а разго-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варивают матом. А между тем эта вредна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привычка - сквернословие - очень опасн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для здоровья человека. Причем вредно н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только говорить, но и слушать матерные сло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Ученые провели такой эксперимент: возле семян  растения арабидопсис они долгое время произносили матерные слова. В результате почти все растения погибли, а те, которые выжили, стали генетическими уродами. Влияние матерных слов ученые сравнили с радиоактивным об- лучением в тысячи рентген. Ученые установили, что матерные с лона поражают гены человека, уничтожая его детей и внуков. То есть мат - это программа самоликвидации всего потомства этого челове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21715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5:35:47Z</dcterms:created>
  <dc:creator>user</dc:creator>
  <dc:description/>
  <dc:language>en-US</dc:language>
  <cp:lastModifiedBy>user</cp:lastModifiedBy>
  <dcterms:modified xsi:type="dcterms:W3CDTF">2008-11-30T18:36:35Z</dcterms:modified>
  <cp:revision>2</cp:revision>
  <dc:subject/>
  <dc:title>Как победить дракона или удержаться от вредной привычки!</dc:title>
</cp:coreProperties>
</file>